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png" ContentType="image/png"/>
  <Override PartName="/ppt/media/image24.png" ContentType="image/png"/>
  <Override PartName="/ppt/media/image23.wmf" ContentType="image/x-wmf"/>
  <Override PartName="/ppt/media/image22.wmf" ContentType="image/x-wmf"/>
  <Override PartName="/ppt/media/image19.png" ContentType="image/png"/>
  <Override PartName="/ppt/media/image6.png" ContentType="image/png"/>
  <Override PartName="/ppt/media/image14.wmf" ContentType="image/x-wmf"/>
  <Override PartName="/ppt/media/image11.png" ContentType="image/png"/>
  <Override PartName="/ppt/media/image31.png" ContentType="image/png"/>
  <Override PartName="/ppt/media/image29.wmf" ContentType="image/x-wmf"/>
  <Override PartName="/ppt/media/image17.wmf" ContentType="image/x-wmf"/>
  <Override PartName="/ppt/media/image9.png" ContentType="image/png"/>
  <Override PartName="/ppt/media/image34.png" ContentType="image/png"/>
  <Override PartName="/ppt/media/image33.png" ContentType="image/png"/>
  <Override PartName="/ppt/media/image16.wmf" ContentType="image/x-wmf"/>
  <Override PartName="/ppt/media/image35.wmf" ContentType="image/x-wmf"/>
  <Override PartName="/ppt/media/image37.wmf" ContentType="image/x-wmf"/>
  <Override PartName="/ppt/media/image7.wmf" ContentType="image/x-wmf"/>
  <Override PartName="/ppt/media/image12.wmf" ContentType="image/x-wmf"/>
  <Override PartName="/ppt/media/image13.png" ContentType="image/png"/>
  <Override PartName="/ppt/media/image36.wmf" ContentType="image/x-wmf"/>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5.wmf" ContentType="image/x-wmf"/>
  <Override PartName="/ppt/media/image5.png" ContentType="image/png"/>
  <Override PartName="/ppt/media/image3.wmf" ContentType="image/x-wmf"/>
  <Override PartName="/ppt/media/image1.wmf" ContentType="image/x-wmf"/>
  <Override PartName="/ppt/media/image18.wmf" ContentType="image/x-wmf"/>
  <Override PartName="/ppt/media/image20.wmf" ContentType="image/x-wmf"/>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5EDC-7C76-45D2-8328-5DD08F2B3C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603" name="PlaceHolder 2"/>
          <p:cNvSpPr>
            <a:spLocks noGrp="1"/>
          </p:cNvSpPr>
          <p:nvPr>
            <p:ph type="sldImg"/>
          </p:nvPr>
        </p:nvSpPr>
        <p:spPr>
          <a:xfrm>
            <a:off x="1913040" y="692280"/>
            <a:ext cx="3031920" cy="2273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D46BE0-4A5E-4EE7-A16A-1D806A547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161C9-F867-449E-9BED-04EAFD212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4411E4-C894-443C-9FA3-79478A8BA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7C691B-4043-4D87-92FB-6AB5A04B23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F5C0B-63E0-4219-A1E7-6CA458614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7B81-1899-4B07-AF7E-4E3FC8646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6C825-E5F2-48C2-BA3A-74D80724A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CAF3A-9EB1-4CD1-A210-D2A78EEF3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01CA4-EE6F-4333-B40F-CD90157F0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4E670-DA1B-4390-8E83-5DA40276A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64F9F-9909-4D45-9A57-4149E46A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9D10D6-A77D-4B7F-96DB-D36B98C7D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087D9-E827-4114-B07F-C800FBC65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14926-206D-46D2-9231-8223621C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60FC1-7E07-4379-901A-9C8015E17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8321C-69D5-4F60-9B93-BF7F448F9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8066C-7FDD-4962-B52A-CDCA40218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157B6-901E-4EA6-B83D-83B9F4AC7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E3BB9-CD53-4164-8B45-1D23DB60D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99A39A-1C3C-44AD-BBA3-E65715B6A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3016B-7716-4719-ACFD-F22CA8FC4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B54B0-9944-4F71-A9CF-8CBDF1D00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18CC5-431F-43E3-8AE9-B3F68A486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B7629-333B-4451-B94D-31C557379F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59B1-8123-482E-A636-709C09C5B9FE}"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5BB0-FCF4-4963-94A4-43E98703660D}"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image" Target="../media/image2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章   预备知识——统计学基础知识</a:t>
            </a:r>
            <a:endParaRPr b="0" lang="en-US" sz="3600" spc="-1" strike="noStrike">
              <a:solidFill>
                <a:srgbClr val="000000"/>
              </a:solidFill>
              <a:latin typeface="Arial"/>
            </a:endParaRPr>
          </a:p>
        </p:txBody>
      </p:sp>
      <p:sp>
        <p:nvSpPr>
          <p:cNvPr id="11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节  随机变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常用的随机变量及概率分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三节  大数定律与中心极限定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样本统计量的分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参数估计与假设检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相关关系的度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4.</a:t>
            </a:r>
            <a:r>
              <a:rPr b="1" i="1" lang="zh-CN" sz="4000" spc="-1" strike="noStrike">
                <a:solidFill>
                  <a:srgbClr val="00007d"/>
                </a:solidFill>
                <a:latin typeface="黑体"/>
                <a:ea typeface="黑体"/>
              </a:rPr>
              <a:t>σ</a:t>
            </a:r>
            <a:r>
              <a:rPr b="1" lang="zh-CN" sz="4000" spc="-1" strike="noStrike">
                <a:solidFill>
                  <a:srgbClr val="00007d"/>
                </a:solidFill>
                <a:latin typeface="黑体"/>
                <a:ea typeface="黑体"/>
              </a:rPr>
              <a:t> </a:t>
            </a:r>
            <a:r>
              <a:rPr b="1" lang="zh-CN" sz="4000" spc="-1" strike="noStrike">
                <a:solidFill>
                  <a:srgbClr val="00007d"/>
                </a:solidFill>
                <a:latin typeface="黑体"/>
                <a:ea typeface="黑体"/>
              </a:rPr>
              <a:t>原则</a:t>
            </a:r>
            <a:endParaRPr b="0" lang="en-US" sz="4000" spc="-1" strike="noStrike">
              <a:solidFill>
                <a:srgbClr val="000000"/>
              </a:solidFill>
              <a:latin typeface="Arial"/>
            </a:endParaRPr>
          </a:p>
        </p:txBody>
      </p:sp>
      <p:sp>
        <p:nvSpPr>
          <p:cNvPr id="219" name="PlaceHolder 2"/>
          <p:cNvSpPr>
            <a:spLocks noGrp="1"/>
          </p:cNvSpPr>
          <p:nvPr>
            <p:ph/>
          </p:nvPr>
        </p:nvSpPr>
        <p:spPr>
          <a:xfrm>
            <a:off x="250920" y="1523880"/>
            <a:ext cx="7772400" cy="40658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华文新魏"/>
                <a:ea typeface="华文新魏"/>
              </a:rPr>
              <a:t>|X</a:t>
            </a:r>
            <a:r>
              <a:rPr b="0" i="1"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μ| &gt;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 </a:t>
            </a:r>
            <a:r>
              <a:rPr b="0" lang="zh-CN" sz="3200" spc="-1" strike="noStrike">
                <a:solidFill>
                  <a:srgbClr val="000000"/>
                </a:solidFill>
                <a:latin typeface="华文新魏"/>
                <a:ea typeface="华文新魏"/>
              </a:rPr>
              <a:t>的概率很小，因此可认为正态随机变量的取值几乎全部集中在</a:t>
            </a:r>
            <a:r>
              <a:rPr b="0" lang="zh-CN" sz="3200" spc="-1" strike="noStrike">
                <a:solidFill>
                  <a:srgbClr val="000000"/>
                </a:solidFill>
                <a:latin typeface="华文新魏"/>
                <a:ea typeface="华文新魏"/>
              </a:rPr>
              <a:t>[ </a:t>
            </a:r>
            <a:r>
              <a:rPr b="0" i="1" lang="zh-CN" sz="3200" spc="-1" strike="noStrike">
                <a:solidFill>
                  <a:srgbClr val="000000"/>
                </a:solidFill>
                <a:latin typeface="华文新魏"/>
                <a:ea typeface="华文新魏"/>
              </a:rPr>
              <a:t>μ-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a:t>
            </a:r>
            <a:r>
              <a:rPr b="0" lang="zh-CN" sz="3200" spc="-1" strike="noStrike">
                <a:solidFill>
                  <a:srgbClr val="000000"/>
                </a:solidFill>
                <a:latin typeface="华文新魏"/>
                <a:ea typeface="华文新魏"/>
              </a:rPr>
              <a:t>，</a:t>
            </a:r>
            <a:r>
              <a:rPr b="0" i="1" lang="zh-CN" sz="3200" spc="-1" strike="noStrike">
                <a:solidFill>
                  <a:srgbClr val="000000"/>
                </a:solidFill>
                <a:latin typeface="华文新魏"/>
                <a:ea typeface="华文新魏"/>
              </a:rPr>
              <a:t>μ+ </a:t>
            </a:r>
            <a:r>
              <a:rPr b="0" lang="zh-CN" sz="3200" spc="-1" strike="noStrike">
                <a:solidFill>
                  <a:srgbClr val="000000"/>
                </a:solidFill>
                <a:latin typeface="华文新魏"/>
                <a:ea typeface="华文新魏"/>
              </a:rPr>
              <a:t>3</a:t>
            </a:r>
            <a:r>
              <a:rPr b="0" i="1" lang="zh-CN" sz="3200" spc="-1" strike="noStrike">
                <a:solidFill>
                  <a:srgbClr val="000000"/>
                </a:solidFill>
                <a:latin typeface="华文新魏"/>
                <a:ea typeface="华文新魏"/>
              </a:rPr>
              <a:t>σ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区间内</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广泛应用</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产品质量控制</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判断异常情况</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220" name=""/>
          <p:cNvGrpSpPr/>
          <p:nvPr/>
        </p:nvGrpSpPr>
        <p:grpSpPr>
          <a:xfrm>
            <a:off x="3311640" y="3795840"/>
            <a:ext cx="5832360" cy="3062160"/>
            <a:chOff x="3311640" y="3795840"/>
            <a:chExt cx="5832360" cy="3062160"/>
          </a:xfrm>
        </p:grpSpPr>
        <p:sp>
          <p:nvSpPr>
            <p:cNvPr id="221" name=""/>
            <p:cNvSpPr txBox="1"/>
            <p:nvPr/>
          </p:nvSpPr>
          <p:spPr>
            <a:xfrm>
              <a:off x="3311640" y="3795840"/>
              <a:ext cx="5832360" cy="3062160"/>
            </a:xfrm>
            <a:prstGeom prst="rect">
              <a:avLst/>
            </a:prstGeom>
            <a:solidFill>
              <a:srgbClr val="9999ff"/>
            </a:solid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4390920" y="6243840"/>
              <a:ext cx="3806640" cy="576360"/>
            </a:xfrm>
            <a:prstGeom prst="rect">
              <a:avLst/>
            </a:prstGeom>
            <a:noFill/>
            <a:ln w="0">
              <a:noFill/>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e6"/>
                  </a:solidFill>
                  <a:latin typeface="Times New Roman"/>
                </a:rPr>
                <a:t>图</a:t>
              </a:r>
              <a:r>
                <a:rPr b="1" lang="zh-CN" sz="1600" spc="-1" strike="noStrike">
                  <a:solidFill>
                    <a:srgbClr val="cccce6"/>
                  </a:solidFill>
                  <a:latin typeface="Times New Roman"/>
                </a:rPr>
                <a:t>3-12   </a:t>
              </a:r>
              <a:r>
                <a:rPr b="1" lang="zh-CN" sz="1600" spc="-1" strike="noStrike">
                  <a:solidFill>
                    <a:srgbClr val="cccce6"/>
                  </a:solidFill>
                  <a:latin typeface="Times New Roman"/>
                </a:rPr>
                <a:t>常用的正态概率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e6"/>
                  </a:solidFill>
                  <a:latin typeface="Times New Roman"/>
                </a:rPr>
                <a:t>（在一般正态分布及标准正态分布中）</a:t>
              </a:r>
              <a:endParaRPr b="0" lang="en-US" sz="1600" spc="-1" strike="noStrike">
                <a:solidFill>
                  <a:srgbClr val="000000"/>
                </a:solidFill>
                <a:latin typeface="Arial"/>
              </a:endParaRPr>
            </a:p>
          </p:txBody>
        </p:sp>
        <p:sp>
          <p:nvSpPr>
            <p:cNvPr id="223" name=""/>
            <p:cNvSpPr/>
            <p:nvPr/>
          </p:nvSpPr>
          <p:spPr>
            <a:xfrm>
              <a:off x="3668760" y="5931000"/>
              <a:ext cx="5117760" cy="247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e6"/>
                  </a:solidFill>
                  <a:latin typeface="Arial"/>
                </a:rPr>
                <a:t>     </a:t>
              </a:r>
              <a:r>
                <a:rPr b="1" lang="en-US" sz="1600" spc="-1" strike="noStrike">
                  <a:solidFill>
                    <a:srgbClr val="cccce6"/>
                  </a:solidFill>
                  <a:latin typeface="Arial"/>
                </a:rPr>
                <a:t>-3</a:t>
              </a:r>
              <a:r>
                <a:rPr b="1" lang="en-US" sz="1600" spc="-1" strike="noStrike">
                  <a:solidFill>
                    <a:srgbClr val="cccce6"/>
                  </a:solidFill>
                  <a:latin typeface="Times New Roman"/>
                </a:rPr>
                <a:t>          </a:t>
              </a:r>
              <a:r>
                <a:rPr b="1" lang="en-US" sz="1600" spc="-1" strike="noStrike">
                  <a:solidFill>
                    <a:srgbClr val="cccce6"/>
                  </a:solidFill>
                  <a:latin typeface="Arial"/>
                </a:rPr>
                <a:t>-2</a:t>
              </a:r>
              <a:r>
                <a:rPr b="1" lang="en-US" sz="1600" spc="-1" strike="noStrike">
                  <a:solidFill>
                    <a:srgbClr val="cccce6"/>
                  </a:solidFill>
                  <a:latin typeface="Times New Roman"/>
                </a:rPr>
                <a:t>            </a:t>
              </a:r>
              <a:r>
                <a:rPr b="1" lang="en-US" sz="1600" spc="-1" strike="noStrike">
                  <a:solidFill>
                    <a:srgbClr val="cccce6"/>
                  </a:solidFill>
                  <a:latin typeface="Arial"/>
                </a:rPr>
                <a:t>-</a:t>
              </a:r>
              <a:r>
                <a:rPr b="1" lang="en-US" sz="1600" spc="-1" strike="noStrike">
                  <a:solidFill>
                    <a:srgbClr val="cccce6"/>
                  </a:solidFill>
                  <a:latin typeface="Times New Roman"/>
                </a:rPr>
                <a:t>1       </a:t>
              </a:r>
              <a:r>
                <a:rPr b="1" lang="en-US" sz="1600" spc="-1" strike="noStrike">
                  <a:solidFill>
                    <a:srgbClr val="cccce6"/>
                  </a:solidFill>
                  <a:latin typeface="Arial"/>
                </a:rPr>
                <a:t>0</a:t>
              </a:r>
              <a:r>
                <a:rPr b="1" lang="en-US" sz="1600" spc="-1" strike="noStrike">
                  <a:solidFill>
                    <a:srgbClr val="cccce6"/>
                  </a:solidFill>
                  <a:latin typeface="Times New Roman"/>
                </a:rPr>
                <a:t>         </a:t>
              </a:r>
              <a:r>
                <a:rPr b="1" lang="en-US" sz="1600" spc="-1" strike="noStrike">
                  <a:solidFill>
                    <a:srgbClr val="cccce6"/>
                  </a:solidFill>
                  <a:latin typeface="Arial"/>
                </a:rPr>
                <a:t>+</a:t>
              </a:r>
              <a:r>
                <a:rPr b="1" lang="en-US" sz="1600" spc="-1" strike="noStrike">
                  <a:solidFill>
                    <a:srgbClr val="cccce6"/>
                  </a:solidFill>
                  <a:latin typeface="Times New Roman"/>
                </a:rPr>
                <a:t>1     </a:t>
              </a:r>
              <a:r>
                <a:rPr b="1" lang="en-US" sz="1600" spc="-1" strike="noStrike">
                  <a:solidFill>
                    <a:srgbClr val="cccce6"/>
                  </a:solidFill>
                  <a:latin typeface="Arial"/>
                </a:rPr>
                <a:t> +2</a:t>
              </a:r>
              <a:r>
                <a:rPr b="1" lang="en-US" sz="1600" spc="-1" strike="noStrike" baseline="-25000">
                  <a:solidFill>
                    <a:srgbClr val="cccce6"/>
                  </a:solidFill>
                  <a:latin typeface="Symbol"/>
                  <a:ea typeface="Symbol"/>
                </a:rPr>
                <a:t></a:t>
              </a:r>
              <a:r>
                <a:rPr b="1" lang="en-US" sz="1600" spc="-1" strike="noStrike">
                  <a:solidFill>
                    <a:srgbClr val="cccce6"/>
                  </a:solidFill>
                  <a:latin typeface="Arial"/>
                </a:rPr>
                <a:t>+3         </a:t>
              </a:r>
              <a:r>
                <a:rPr b="1" i="1" lang="en-US" sz="1600" spc="-1" strike="noStrike">
                  <a:solidFill>
                    <a:srgbClr val="cccce6"/>
                  </a:solidFill>
                  <a:latin typeface="Arial"/>
                </a:rPr>
                <a:t>z</a:t>
              </a:r>
              <a:endParaRPr b="0" lang="en-US" sz="1600" spc="-1" strike="noStrike">
                <a:solidFill>
                  <a:srgbClr val="000000"/>
                </a:solidFill>
                <a:latin typeface="Arial"/>
              </a:endParaRPr>
            </a:p>
          </p:txBody>
        </p:sp>
        <p:sp>
          <p:nvSpPr>
            <p:cNvPr id="224" name=""/>
            <p:cNvSpPr/>
            <p:nvPr/>
          </p:nvSpPr>
          <p:spPr>
            <a:xfrm>
              <a:off x="3668760" y="5529240"/>
              <a:ext cx="5042880" cy="403200"/>
            </a:xfrm>
            <a:prstGeom prst="rect">
              <a:avLst/>
            </a:prstGeom>
            <a:noFill/>
            <a:ln w="0">
              <a:noFill/>
            </a:ln>
          </p:spPr>
          <p:style>
            <a:lnRef idx="0"/>
            <a:fillRef idx="0"/>
            <a:effectRef idx="0"/>
            <a:fontRef idx="minor"/>
          </p:style>
          <p:txBody>
            <a:bodyPr lIns="78480" rIns="78480" tIns="38520" bIns="385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 </a:t>
              </a:r>
              <a:r>
                <a:rPr b="1" i="1" lang="zh-CN" sz="1600" spc="-1" strike="noStrike">
                  <a:solidFill>
                    <a:srgbClr val="000000"/>
                  </a:solidFill>
                  <a:latin typeface="Symbol"/>
                  <a:ea typeface="Symbol"/>
                </a:rPr>
                <a:t></a:t>
              </a:r>
              <a:r>
                <a:rPr b="1" i="1" lang="zh-CN" sz="1600" spc="-1" strike="noStrike">
                  <a:solidFill>
                    <a:srgbClr val="000000"/>
                  </a:solidFill>
                  <a:latin typeface="Arial"/>
                </a:rPr>
                <a:t>-3</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Arial"/>
                </a:rPr>
                <a:t>-2</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Arial"/>
                </a:rPr>
                <a:t>-</a:t>
              </a:r>
              <a:r>
                <a:rPr b="1" i="1" lang="zh-CN" sz="1600" spc="-1" strike="noStrike">
                  <a:solidFill>
                    <a:srgbClr val="000000"/>
                  </a:solidFill>
                  <a:latin typeface="Times New Roman"/>
                </a:rPr>
                <a:t>σ      </a:t>
              </a:r>
              <a:r>
                <a:rPr b="1" i="1" lang="zh-CN" sz="1600" spc="-1" strike="noStrike">
                  <a:solidFill>
                    <a:srgbClr val="000000"/>
                  </a:solidFill>
                  <a:latin typeface="Symbol"/>
                  <a:ea typeface="Symbol"/>
                </a:rPr>
                <a:t></a:t>
              </a:r>
              <a:r>
                <a:rPr b="1" i="1" lang="zh-CN" sz="1600" spc="-1" strike="noStrike">
                  <a:solidFill>
                    <a:srgbClr val="000000"/>
                  </a:solidFill>
                  <a:latin typeface="Times New Roman"/>
                </a:rPr>
                <a:t>       </a:t>
              </a:r>
              <a:r>
                <a:rPr b="1" i="1" lang="zh-CN" sz="1600" spc="-1" strike="noStrike">
                  <a:solidFill>
                    <a:srgbClr val="000000"/>
                  </a:solidFill>
                  <a:latin typeface="Symbol"/>
                  <a:ea typeface="Symbol"/>
                </a:rPr>
                <a:t></a:t>
              </a:r>
              <a:r>
                <a:rPr b="1" i="1" lang="zh-CN" sz="1600" spc="-1" strike="noStrike">
                  <a:solidFill>
                    <a:srgbClr val="000000"/>
                  </a:solidFill>
                  <a:latin typeface="Arial"/>
                </a:rPr>
                <a:t>+</a:t>
              </a:r>
              <a:r>
                <a:rPr b="1" i="1" lang="zh-CN" sz="1600" spc="-1" strike="noStrike">
                  <a:solidFill>
                    <a:srgbClr val="000000"/>
                  </a:solidFill>
                  <a:latin typeface="Times New Roman"/>
                </a:rPr>
                <a:t>σ </a:t>
              </a:r>
              <a:r>
                <a:rPr b="1" i="1" lang="zh-CN" sz="1600" spc="-1" strike="noStrike">
                  <a:solidFill>
                    <a:srgbClr val="000000"/>
                  </a:solidFill>
                  <a:latin typeface="Arial"/>
                </a:rPr>
                <a:t> </a:t>
              </a:r>
              <a:r>
                <a:rPr b="1" i="1" lang="zh-CN" sz="1600" spc="-1" strike="noStrike">
                  <a:solidFill>
                    <a:srgbClr val="000000"/>
                  </a:solidFill>
                  <a:latin typeface="Symbol"/>
                  <a:ea typeface="Symbol"/>
                </a:rPr>
                <a:t></a:t>
              </a:r>
              <a:r>
                <a:rPr b="1" i="1" lang="zh-CN" sz="1600" spc="-1" strike="noStrike">
                  <a:solidFill>
                    <a:srgbClr val="000000"/>
                  </a:solidFill>
                  <a:latin typeface="Arial"/>
                </a:rPr>
                <a:t>+2</a:t>
              </a:r>
              <a:r>
                <a:rPr b="1" i="1" lang="zh-CN" sz="1600" spc="-1" strike="noStrike">
                  <a:solidFill>
                    <a:srgbClr val="000000"/>
                  </a:solidFill>
                  <a:latin typeface="Times New Roman"/>
                </a:rPr>
                <a:t>σ</a:t>
              </a:r>
              <a:r>
                <a:rPr b="1" lang="zh-CN" sz="1600" spc="-1" strike="noStrike" baseline="-25000">
                  <a:solidFill>
                    <a:srgbClr val="000000"/>
                  </a:solidFill>
                  <a:latin typeface="Symbol"/>
                  <a:ea typeface="Symbol"/>
                </a:rPr>
                <a:t></a:t>
              </a:r>
              <a:r>
                <a:rPr b="1" i="1" lang="zh-CN" sz="1600" spc="-1" strike="noStrike">
                  <a:solidFill>
                    <a:srgbClr val="000000"/>
                  </a:solidFill>
                  <a:latin typeface="Symbol"/>
                  <a:ea typeface="Symbol"/>
                </a:rPr>
                <a:t></a:t>
              </a:r>
              <a:r>
                <a:rPr b="1" i="1" lang="zh-CN" sz="1600" spc="-1" strike="noStrike">
                  <a:solidFill>
                    <a:srgbClr val="000000"/>
                  </a:solidFill>
                  <a:latin typeface="Arial"/>
                </a:rPr>
                <a:t>+3</a:t>
              </a:r>
              <a:r>
                <a:rPr b="1" i="1" lang="zh-CN" sz="1600" spc="-1" strike="noStrike">
                  <a:solidFill>
                    <a:srgbClr val="000000"/>
                  </a:solidFill>
                  <a:latin typeface="Times New Roman"/>
                </a:rPr>
                <a:t>σ</a:t>
              </a:r>
              <a:r>
                <a:rPr b="1" lang="zh-CN" sz="1600" spc="-1" strike="noStrike" baseline="-25000">
                  <a:solidFill>
                    <a:srgbClr val="000000"/>
                  </a:solidFill>
                  <a:latin typeface="Symbol"/>
                  <a:ea typeface="Symbol"/>
                </a:rPr>
                <a:t></a:t>
              </a:r>
              <a:endParaRPr b="0" lang="en-US" sz="1600" spc="-1" strike="noStrike">
                <a:solidFill>
                  <a:srgbClr val="000000"/>
                </a:solidFill>
                <a:latin typeface="Arial"/>
              </a:endParaRPr>
            </a:p>
          </p:txBody>
        </p:sp>
        <p:sp>
          <p:nvSpPr>
            <p:cNvPr id="225" name=""/>
            <p:cNvSpPr/>
            <p:nvPr/>
          </p:nvSpPr>
          <p:spPr>
            <a:xfrm>
              <a:off x="8429400" y="5375520"/>
              <a:ext cx="475920" cy="306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e6"/>
                  </a:solidFill>
                  <a:latin typeface="Times New Roman"/>
                </a:rPr>
                <a:t>x</a:t>
              </a:r>
              <a:endParaRPr b="0" lang="en-US" sz="1600" spc="-1" strike="noStrike">
                <a:solidFill>
                  <a:srgbClr val="000000"/>
                </a:solidFill>
                <a:latin typeface="Arial"/>
              </a:endParaRPr>
            </a:p>
          </p:txBody>
        </p:sp>
        <p:grpSp>
          <p:nvGrpSpPr>
            <p:cNvPr id="226" name=""/>
            <p:cNvGrpSpPr/>
            <p:nvPr/>
          </p:nvGrpSpPr>
          <p:grpSpPr>
            <a:xfrm>
              <a:off x="3906720" y="4092840"/>
              <a:ext cx="4283640" cy="1377360"/>
              <a:chOff x="3906720" y="4092840"/>
              <a:chExt cx="4283640" cy="1377360"/>
            </a:xfrm>
          </p:grpSpPr>
          <p:sp>
            <p:nvSpPr>
              <p:cNvPr id="227" name=""/>
              <p:cNvSpPr/>
              <p:nvPr/>
            </p:nvSpPr>
            <p:spPr>
              <a:xfrm>
                <a:off x="6046920" y="4092840"/>
                <a:ext cx="2143440" cy="137736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06720" y="4092840"/>
                <a:ext cx="2143440" cy="137736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3549600" y="5524560"/>
              <a:ext cx="49986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flipH="1">
              <a:off x="4144320" y="52228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168960" y="5221440"/>
              <a:ext cx="1902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
            <p:cNvSpPr/>
            <p:nvPr/>
          </p:nvSpPr>
          <p:spPr>
            <a:xfrm flipH="1">
              <a:off x="4739760" y="4916520"/>
              <a:ext cx="13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049800" y="4915080"/>
              <a:ext cx="1307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5930640" y="4551480"/>
              <a:ext cx="712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454360" y="4551480"/>
              <a:ext cx="7138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454720" y="4454640"/>
              <a:ext cx="0" cy="10717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4740120" y="4915080"/>
              <a:ext cx="2880" cy="611280"/>
            </a:xfrm>
            <a:prstGeom prst="line">
              <a:avLst/>
            </a:prstGeom>
            <a:ln cap="rnd" w="38160">
              <a:solidFill>
                <a:srgbClr val="9999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4144680" y="5222880"/>
              <a:ext cx="2880" cy="277920"/>
            </a:xfrm>
            <a:prstGeom prst="line">
              <a:avLst/>
            </a:prstGeom>
            <a:ln cap="rnd" w="38160">
              <a:solidFill>
                <a:srgbClr val="eaf50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6643440" y="4454640"/>
              <a:ext cx="1440" cy="10717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358040" y="4916520"/>
              <a:ext cx="2880" cy="584280"/>
            </a:xfrm>
            <a:prstGeom prst="line">
              <a:avLst/>
            </a:prstGeom>
            <a:ln cap="rnd" w="38160">
              <a:solidFill>
                <a:srgbClr val="9999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8072280" y="5222880"/>
              <a:ext cx="2880" cy="277920"/>
            </a:xfrm>
            <a:prstGeom prst="line">
              <a:avLst/>
            </a:prstGeom>
            <a:ln cap="rnd" w="38160">
              <a:solidFill>
                <a:srgbClr val="eaf50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692680" y="5137200"/>
              <a:ext cx="950400" cy="305280"/>
            </a:xfrm>
            <a:prstGeom prst="rect">
              <a:avLst/>
            </a:prstGeom>
            <a:noFill/>
            <a:ln w="0">
              <a:noFill/>
            </a:ln>
          </p:spPr>
          <p:style>
            <a:lnRef idx="0"/>
            <a:fillRef idx="0"/>
            <a:effectRef idx="0"/>
            <a:fontRef idx="minor"/>
          </p:style>
          <p:txBody>
            <a:bodyPr lIns="3600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imes New Roman"/>
                </a:rPr>
                <a:t>99.73</a:t>
              </a:r>
              <a:r>
                <a:rPr b="1" lang="en-US" sz="2000" spc="-1" strike="noStrike">
                  <a:solidFill>
                    <a:srgbClr val="eaf50b"/>
                  </a:solidFill>
                  <a:latin typeface="Times New Roman"/>
                </a:rPr>
                <a:t>%</a:t>
              </a:r>
              <a:endParaRPr b="0" lang="en-US" sz="2000" spc="-1" strike="noStrike">
                <a:solidFill>
                  <a:srgbClr val="000000"/>
                </a:solidFill>
                <a:latin typeface="Arial"/>
              </a:endParaRPr>
            </a:p>
          </p:txBody>
        </p:sp>
        <p:sp>
          <p:nvSpPr>
            <p:cNvPr id="243" name=""/>
            <p:cNvSpPr/>
            <p:nvPr/>
          </p:nvSpPr>
          <p:spPr>
            <a:xfrm>
              <a:off x="5692680" y="4773600"/>
              <a:ext cx="950400" cy="305280"/>
            </a:xfrm>
            <a:prstGeom prst="rect">
              <a:avLst/>
            </a:prstGeom>
            <a:noFill/>
            <a:ln w="0">
              <a:noFill/>
            </a:ln>
          </p:spPr>
          <p:style>
            <a:lnRef idx="0"/>
            <a:fillRef idx="0"/>
            <a:effectRef idx="0"/>
            <a:fontRef idx="minor"/>
          </p:style>
          <p:txBody>
            <a:bodyPr lIns="3600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Times New Roman"/>
                </a:rPr>
                <a:t>95.45%</a:t>
              </a:r>
              <a:endParaRPr b="0" lang="en-US" sz="2000" spc="-1" strike="noStrike">
                <a:solidFill>
                  <a:srgbClr val="000000"/>
                </a:solidFill>
                <a:latin typeface="Arial"/>
              </a:endParaRPr>
            </a:p>
          </p:txBody>
        </p:sp>
        <p:sp>
          <p:nvSpPr>
            <p:cNvPr id="244" name=""/>
            <p:cNvSpPr/>
            <p:nvPr/>
          </p:nvSpPr>
          <p:spPr>
            <a:xfrm>
              <a:off x="5688000" y="4372200"/>
              <a:ext cx="855360" cy="287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8.2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5.</a:t>
            </a:r>
            <a:r>
              <a:rPr b="1" lang="zh-CN" sz="4000" spc="-1" strike="noStrike">
                <a:solidFill>
                  <a:srgbClr val="00007d"/>
                </a:solidFill>
                <a:latin typeface="黑体"/>
                <a:ea typeface="黑体"/>
              </a:rPr>
              <a:t>正态分布最常用、最重要</a:t>
            </a:r>
            <a:endParaRPr b="0" lang="en-US" sz="4000" spc="-1" strike="noStrike">
              <a:solidFill>
                <a:srgbClr val="000000"/>
              </a:solidFill>
              <a:latin typeface="Arial"/>
            </a:endParaRPr>
          </a:p>
        </p:txBody>
      </p:sp>
      <p:sp>
        <p:nvSpPr>
          <p:cNvPr id="246" name="PlaceHolder 2"/>
          <p:cNvSpPr>
            <a:spLocks noGrp="1"/>
          </p:cNvSpPr>
          <p:nvPr>
            <p:ph/>
          </p:nvPr>
        </p:nvSpPr>
        <p:spPr>
          <a:xfrm>
            <a:off x="394920" y="1523520"/>
            <a:ext cx="8497800" cy="5000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大千世界中许多常见的随机现象服从或近似服从正态分布</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Arial"/>
                <a:ea typeface="华文新魏"/>
              </a:rPr>
              <a:t>例如，测量误差，同龄人的身高、体重，一批棉纱的抗拉强度，一种设备的使用寿命，农作物的产量…</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特点是 “中间多两头少”</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由于正态分布特有的数学性质，正态分布在很多统计理论中都占有十分重要的地位</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正态分布是许多概率分布的极限分布</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99cc"/>
                </a:solidFill>
                <a:latin typeface="华文新魏"/>
                <a:ea typeface="华文新魏"/>
              </a:rPr>
              <a:t>统计推断中许多重要的分布（如</a:t>
            </a:r>
            <a:r>
              <a:rPr b="0" lang="zh-CN" sz="2400" spc="-1" strike="noStrike">
                <a:solidFill>
                  <a:srgbClr val="9999cc"/>
                </a:solidFill>
                <a:latin typeface="华文新魏"/>
                <a:ea typeface="华文新魏"/>
              </a:rPr>
              <a:t>χ</a:t>
            </a:r>
            <a:r>
              <a:rPr b="0" lang="zh-CN" sz="2400" spc="-1" strike="noStrike" baseline="30000">
                <a:solidFill>
                  <a:srgbClr val="9999cc"/>
                </a:solidFill>
                <a:latin typeface="华文新魏"/>
                <a:ea typeface="华文新魏"/>
              </a:rPr>
              <a:t>2</a:t>
            </a:r>
            <a:r>
              <a:rPr b="0" lang="zh-CN" sz="2400" spc="-1" strike="noStrike">
                <a:solidFill>
                  <a:srgbClr val="9999cc"/>
                </a:solidFill>
                <a:latin typeface="华文新魏"/>
                <a:ea typeface="华文新魏"/>
              </a:rPr>
              <a:t>分布、</a:t>
            </a:r>
            <a:r>
              <a:rPr b="0" lang="zh-CN" sz="2400" spc="-1" strike="noStrike">
                <a:solidFill>
                  <a:srgbClr val="9999cc"/>
                </a:solidFill>
                <a:latin typeface="华文新魏"/>
                <a:ea typeface="华文新魏"/>
              </a:rPr>
              <a:t>t</a:t>
            </a:r>
            <a:r>
              <a:rPr b="0" lang="zh-CN" sz="2400" spc="-1" strike="noStrike">
                <a:solidFill>
                  <a:srgbClr val="9999cc"/>
                </a:solidFill>
                <a:latin typeface="华文新魏"/>
                <a:ea typeface="华文新魏"/>
              </a:rPr>
              <a:t>分布、</a:t>
            </a:r>
            <a:r>
              <a:rPr b="0" lang="zh-CN" sz="2400" spc="-1" strike="noStrike">
                <a:solidFill>
                  <a:srgbClr val="9999cc"/>
                </a:solidFill>
                <a:latin typeface="华文新魏"/>
                <a:ea typeface="华文新魏"/>
              </a:rPr>
              <a:t>F</a:t>
            </a:r>
            <a:r>
              <a:rPr b="0" lang="zh-CN" sz="2400" spc="-1" strike="noStrike">
                <a:solidFill>
                  <a:srgbClr val="9999cc"/>
                </a:solidFill>
                <a:latin typeface="华文新魏"/>
                <a:ea typeface="华文新魏"/>
              </a:rPr>
              <a:t>分布）都是在正态分布的基础上推导出来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307" dur="500"/>
                                        <p:tgtEl>
                                          <p:spTgt spid="246">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312" dur="500"/>
                                        <p:tgtEl>
                                          <p:spTgt spid="246">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6">
                                            <p:txEl>
                                              <p:pRg st="2" end="2"/>
                                            </p:txEl>
                                          </p:spTgt>
                                        </p:tgtEl>
                                        <p:attrNameLst>
                                          <p:attrName>style.visibility</p:attrName>
                                        </p:attrNameLst>
                                      </p:cBhvr>
                                      <p:to>
                                        <p:strVal val="visible"/>
                                      </p:to>
                                    </p:set>
                                    <p:anim calcmode="lin" valueType="num">
                                      <p:cBhvr additive="base">
                                        <p:cTn id="317"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323" dur="500"/>
                                        <p:tgtEl>
                                          <p:spTgt spid="246">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328" dur="500"/>
                                        <p:tgtEl>
                                          <p:spTgt spid="246">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33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二、 分布</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362800" cy="2333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定义</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 X</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n</a:t>
            </a:r>
            <a:r>
              <a:rPr b="0" lang="zh-CN" sz="2800" spc="-1" strike="noStrike">
                <a:solidFill>
                  <a:srgbClr val="000000"/>
                </a:solidFill>
                <a:latin typeface="华文新魏"/>
                <a:ea typeface="华文新魏"/>
              </a:rPr>
              <a:t>相互独立，且服从标准正态分布</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令</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1</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2</a:t>
            </a:r>
            <a:r>
              <a:rPr b="0" lang="zh-CN" sz="2800" spc="-1" strike="noStrike" baseline="30000">
                <a:solidFill>
                  <a:srgbClr val="000000"/>
                </a:solidFill>
                <a:latin typeface="华文新魏"/>
                <a:ea typeface="华文新魏"/>
              </a:rPr>
              <a:t>2</a:t>
            </a:r>
            <a:r>
              <a:rPr b="0" lang="zh-CN" sz="2800" spc="-1" strike="noStrike">
                <a:solidFill>
                  <a:srgbClr val="000000"/>
                </a:solidFill>
                <a:latin typeface="华文新魏"/>
                <a:ea typeface="华文新魏"/>
              </a:rPr>
              <a:t>+┅X</a:t>
            </a:r>
            <a:r>
              <a:rPr b="0" lang="zh-CN" sz="2800" spc="-1" strike="noStrike" baseline="-25000">
                <a:solidFill>
                  <a:srgbClr val="000000"/>
                </a:solidFill>
                <a:latin typeface="华文新魏"/>
                <a:ea typeface="华文新魏"/>
              </a:rPr>
              <a:t>n</a:t>
            </a:r>
            <a:r>
              <a:rPr b="0" lang="zh-CN" sz="2800" spc="-1" strike="noStrike" baseline="30000">
                <a:solidFill>
                  <a:srgbClr val="000000"/>
                </a:solidFill>
                <a:latin typeface="华文新魏"/>
                <a:ea typeface="华文新魏"/>
              </a:rPr>
              <a:t>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则     服从自由度为</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的分布，记作                    。</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979640" y="2492280"/>
                <a:ext cx="504720" cy="460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50" name=""/>
              <p:cNvSpPr txBox="1"/>
              <p:nvPr/>
            </p:nvSpPr>
            <p:spPr>
              <a:xfrm>
                <a:off x="1258920" y="765000"/>
                <a:ext cx="620640" cy="649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51" name=""/>
              <p:cNvSpPr txBox="1"/>
              <p:nvPr/>
            </p:nvSpPr>
            <p:spPr>
              <a:xfrm>
                <a:off x="1332000" y="3068640"/>
                <a:ext cx="449280" cy="407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52" name=""/>
          <p:cNvSpPr/>
          <p:nvPr/>
        </p:nvSpPr>
        <p:spPr>
          <a:xfrm>
            <a:off x="684360" y="41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6877080" y="3141720"/>
                <a:ext cx="950760" cy="415800"/>
              </a:xfrm>
              <a:prstGeom prst="rect">
                <a:avLst/>
              </a:prstGeom>
            </p:spPr>
            <p:txBody>
              <a:bodyPr/>
              <a:p>
                <a14:m>
                  <m:oMath xmlns:m="http://schemas.openxmlformats.org/officeDocument/2006/math">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54" name=""/>
          <p:cNvSpPr/>
          <p:nvPr/>
        </p:nvSpPr>
        <p:spPr>
          <a:xfrm flipV="1">
            <a:off x="-1188720" y="4796280"/>
            <a:ext cx="9360000" cy="2305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6443640" y="3068640"/>
                <a:ext cx="449280" cy="476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pic>
        <p:nvPicPr>
          <p:cNvPr id="256" name="" descr=""/>
          <p:cNvPicPr/>
          <p:nvPr/>
        </p:nvPicPr>
        <p:blipFill>
          <a:blip r:embed="rId1"/>
          <a:stretch/>
        </p:blipFill>
        <p:spPr>
          <a:xfrm>
            <a:off x="4356000" y="3716280"/>
            <a:ext cx="4537080" cy="2808360"/>
          </a:xfrm>
          <a:prstGeom prst="rect">
            <a:avLst/>
          </a:prstGeom>
          <a:ln w="0">
            <a:noFill/>
          </a:ln>
        </p:spPr>
      </p:pic>
      <p:pic>
        <p:nvPicPr>
          <p:cNvPr id="257" name="" descr=""/>
          <p:cNvPicPr/>
          <p:nvPr/>
        </p:nvPicPr>
        <p:blipFill>
          <a:blip r:embed="rId2"/>
          <a:stretch/>
        </p:blipFill>
        <p:spPr>
          <a:xfrm>
            <a:off x="179280" y="5013360"/>
            <a:ext cx="1814760" cy="152856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56"/>
                                        </p:tgtEl>
                                        <p:attrNameLst>
                                          <p:attrName>style.visibility</p:attrName>
                                        </p:attrNameLst>
                                      </p:cBhvr>
                                      <p:to>
                                        <p:strVal val="visible"/>
                                      </p:to>
                                    </p:set>
                                    <p:animEffect filter="diamond(in)" transition="in">
                                      <p:cBhvr additive="repl">
                                        <p:cTn id="34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三、 </a:t>
            </a:r>
            <a:r>
              <a:rPr b="1" lang="zh-CN" sz="3600" spc="-1" strike="noStrike">
                <a:solidFill>
                  <a:srgbClr val="00007d"/>
                </a:solidFill>
                <a:latin typeface="黑体"/>
                <a:ea typeface="黑体"/>
              </a:rPr>
              <a:t>F</a:t>
            </a:r>
            <a:r>
              <a:rPr b="1" lang="zh-CN" sz="3600" spc="-1" strike="noStrike">
                <a:solidFill>
                  <a:srgbClr val="00007d"/>
                </a:solidFill>
                <a:latin typeface="黑体"/>
                <a:ea typeface="黑体"/>
              </a:rPr>
              <a:t>分布</a:t>
            </a:r>
            <a:endParaRPr b="0" lang="en-US" sz="3600" spc="-1" strike="noStrike">
              <a:solidFill>
                <a:srgbClr val="000000"/>
              </a:solidFill>
              <a:latin typeface="Arial"/>
            </a:endParaRPr>
          </a:p>
        </p:txBody>
      </p:sp>
      <p:sp>
        <p:nvSpPr>
          <p:cNvPr id="259" name="PlaceHolder 2"/>
          <p:cNvSpPr>
            <a:spLocks noGrp="1"/>
          </p:cNvSpPr>
          <p:nvPr>
            <p:ph/>
          </p:nvPr>
        </p:nvSpPr>
        <p:spPr>
          <a:xfrm>
            <a:off x="395280" y="1628280"/>
            <a:ext cx="8229600" cy="27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义</a:t>
            </a:r>
            <a:r>
              <a:rPr b="0" lang="zh-CN" sz="3200" spc="-1" strike="noStrike">
                <a:solidFill>
                  <a:srgbClr val="000000"/>
                </a:solidFill>
                <a:latin typeface="Arial"/>
              </a:rPr>
              <a:t>:  </a:t>
            </a:r>
            <a:r>
              <a:rPr b="0" lang="zh-CN" sz="2800" spc="-1" strike="noStrike">
                <a:solidFill>
                  <a:srgbClr val="000000"/>
                </a:solidFill>
                <a:latin typeface="华文新魏"/>
                <a:ea typeface="华文新魏"/>
              </a:rPr>
              <a:t>若            </a:t>
            </a:r>
            <a:r>
              <a:rPr b="0" lang="zh-CN" sz="2800" spc="-1" strike="noStrike">
                <a:solidFill>
                  <a:srgbClr val="000000"/>
                </a:solidFill>
                <a:latin typeface="华文新魏"/>
                <a:ea typeface="华文新魏"/>
              </a:rPr>
              <a:t>,                  , </a:t>
            </a:r>
            <a:r>
              <a:rPr b="0" lang="zh-CN" sz="2800" spc="-1" strike="noStrike">
                <a:solidFill>
                  <a:srgbClr val="000000"/>
                </a:solidFill>
                <a:latin typeface="华文新魏"/>
                <a:ea typeface="华文新魏"/>
              </a:rPr>
              <a:t>且相互独立</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服从自由度为</a:t>
            </a:r>
            <a:r>
              <a:rPr b="0" lang="zh-CN" sz="2800" spc="-1" strike="noStrike">
                <a:solidFill>
                  <a:srgbClr val="000000"/>
                </a:solidFill>
                <a:latin typeface="华文新魏"/>
                <a:ea typeface="华文新魏"/>
              </a:rPr>
              <a:t>(n, m)</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分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记作</a:t>
            </a:r>
            <a:r>
              <a:rPr b="0" lang="zh-CN" sz="2800" spc="-1" strike="noStrike">
                <a:solidFill>
                  <a:srgbClr val="000000"/>
                </a:solidFill>
                <a:latin typeface="华文新魏"/>
                <a:ea typeface="华文新魏"/>
              </a:rPr>
              <a:t>F ~ F(n, m)</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2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1979640" y="1773360"/>
                <a:ext cx="1152360" cy="368280"/>
              </a:xfrm>
              <a:prstGeom prst="rect">
                <a:avLst/>
              </a:prstGeom>
            </p:spPr>
            <p:txBody>
              <a:bodyPr/>
              <a:p>
                <a14:m>
                  <m:oMath xmlns:m="http://schemas.openxmlformats.org/officeDocument/2006/math">
                    <m:r>
                      <m:t xml:space="preserve">X</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6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3348000" y="1773360"/>
                <a:ext cx="1224000" cy="392040"/>
              </a:xfrm>
              <a:prstGeom prst="rect">
                <a:avLst/>
              </a:prstGeom>
            </p:spPr>
            <p:txBody>
              <a:bodyPr/>
              <a:p>
                <a14:m>
                  <m:oMath xmlns:m="http://schemas.openxmlformats.org/officeDocument/2006/math">
                    <m:r>
                      <m:t xml:space="preserve">Y</m:t>
                    </m:r>
                    <m:r>
                      <m:rPr>
                        <m:lit/>
                        <m:nor/>
                      </m:rPr>
                      <m:t xml:space="preserve">~</m:t>
                    </m:r>
                    <m:sSup>
                      <m:e>
                        <m:r>
                          <m:t xml:space="preserve">χ</m:t>
                        </m:r>
                      </m:e>
                      <m:sup>
                        <m:r>
                          <m:t xml:space="preserve">2</m:t>
                        </m:r>
                      </m:sup>
                    </m:sSup>
                    <m:r>
                      <m:t xml:space="preserve">(</m:t>
                    </m:r>
                    <m:r>
                      <m:t xml:space="preserve">m</m:t>
                    </m:r>
                    <m:r>
                      <m:t xml:space="preserve">)</m:t>
                    </m:r>
                  </m:oMath>
                </a14:m>
              </a:p>
            </p:txBody>
          </p:sp>
        </mc:Choice>
        <mc:Fallback/>
      </mc:AlternateContent>
      <p:sp>
        <p:nvSpPr>
          <p:cNvPr id="26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046320" y="2276640"/>
                <a:ext cx="1465200" cy="900000"/>
              </a:xfrm>
              <a:prstGeom prst="rect">
                <a:avLst/>
              </a:prstGeom>
            </p:spPr>
            <p:txBody>
              <a:bodyPr/>
              <a:p>
                <a14:m>
                  <m:oMath xmlns:m="http://schemas.openxmlformats.org/officeDocument/2006/math">
                    <m:r>
                      <m:t xml:space="preserve">F</m:t>
                    </m:r>
                    <m:r>
                      <m:t xml:space="preserve">=</m:t>
                    </m:r>
                    <m:f>
                      <m:num>
                        <m:f>
                          <m:fPr>
                            <m:type m:val="lin"/>
                          </m:fPr>
                          <m:num>
                            <m:r>
                              <m:t xml:space="preserve">X</m:t>
                            </m:r>
                          </m:num>
                          <m:den>
                            <m:r>
                              <m:t xml:space="preserve">n</m:t>
                            </m:r>
                          </m:den>
                        </m:f>
                      </m:num>
                      <m:den>
                        <m:f>
                          <m:fPr>
                            <m:type m:val="lin"/>
                          </m:fPr>
                          <m:num>
                            <m:r>
                              <m:t xml:space="preserve">Y</m:t>
                            </m:r>
                          </m:num>
                          <m:den>
                            <m:r>
                              <m:t xml:space="preserve">m</m:t>
                            </m:r>
                          </m:den>
                        </m:f>
                      </m:den>
                    </m:f>
                  </m:oMath>
                </a14:m>
              </a:p>
            </p:txBody>
          </p:sp>
        </mc:Choice>
        <mc:Fallback/>
      </mc:AlternateContent>
      <p:pic>
        <p:nvPicPr>
          <p:cNvPr id="266" name="" descr=""/>
          <p:cNvPicPr/>
          <p:nvPr/>
        </p:nvPicPr>
        <p:blipFill>
          <a:blip r:embed="rId1"/>
          <a:stretch/>
        </p:blipFill>
        <p:spPr>
          <a:xfrm>
            <a:off x="4319640" y="3905280"/>
            <a:ext cx="4824360" cy="2952720"/>
          </a:xfrm>
          <a:prstGeom prst="rect">
            <a:avLst/>
          </a:prstGeom>
          <a:ln w="0">
            <a:noFill/>
          </a:ln>
        </p:spPr>
      </p:pic>
      <p:pic>
        <p:nvPicPr>
          <p:cNvPr id="267" name="" descr=""/>
          <p:cNvPicPr/>
          <p:nvPr/>
        </p:nvPicPr>
        <p:blipFill>
          <a:blip r:embed="rId2"/>
          <a:stretch/>
        </p:blipFill>
        <p:spPr>
          <a:xfrm>
            <a:off x="108000" y="4724280"/>
            <a:ext cx="1776240" cy="18259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266"/>
                                        </p:tgtEl>
                                        <p:attrNameLst>
                                          <p:attrName>style.visibility</p:attrName>
                                        </p:attrNameLst>
                                      </p:cBhvr>
                                      <p:to>
                                        <p:strVal val="visible"/>
                                      </p:to>
                                    </p:set>
                                    <p:animEffect filter="diamond(in)" transition="in">
                                      <p:cBhvr additive="repl">
                                        <p:cTn id="347"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四、 </a:t>
            </a:r>
            <a:r>
              <a:rPr b="1" lang="zh-CN" sz="3600" spc="-1" strike="noStrike">
                <a:solidFill>
                  <a:srgbClr val="00007d"/>
                </a:solidFill>
                <a:latin typeface="黑体"/>
                <a:ea typeface="黑体"/>
              </a:rPr>
              <a:t>t </a:t>
            </a:r>
            <a:r>
              <a:rPr b="1" lang="zh-CN" sz="3600" spc="-1" strike="noStrike">
                <a:solidFill>
                  <a:srgbClr val="00007d"/>
                </a:solidFill>
                <a:latin typeface="黑体"/>
                <a:ea typeface="黑体"/>
              </a:rPr>
              <a:t>分布</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69" name="PlaceHolder 2"/>
          <p:cNvSpPr>
            <a:spLocks noGrp="1"/>
          </p:cNvSpPr>
          <p:nvPr>
            <p:ph/>
          </p:nvPr>
        </p:nvSpPr>
        <p:spPr>
          <a:xfrm>
            <a:off x="456840" y="1557000"/>
            <a:ext cx="764388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a:t>
            </a:r>
            <a:r>
              <a:rPr b="0" lang="zh-CN" sz="2800" spc="-1" strike="noStrike">
                <a:solidFill>
                  <a:srgbClr val="000000"/>
                </a:solidFill>
                <a:latin typeface="Arial"/>
              </a:rPr>
              <a:t>:   </a:t>
            </a:r>
            <a:r>
              <a:rPr b="0" lang="zh-CN" sz="2800" spc="-1" strike="noStrike">
                <a:solidFill>
                  <a:srgbClr val="000000"/>
                </a:solidFill>
                <a:latin typeface="华文新魏"/>
                <a:ea typeface="华文新魏"/>
              </a:rPr>
              <a:t>如果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且 </a:t>
            </a:r>
            <a:r>
              <a:rPr b="0" lang="zh-CN" sz="2800" spc="-1" strike="noStrike">
                <a:solidFill>
                  <a:srgbClr val="000000"/>
                </a:solidFill>
                <a:latin typeface="华文新魏"/>
                <a:ea typeface="华文新魏"/>
              </a:rPr>
              <a:t>X </a:t>
            </a:r>
            <a:r>
              <a:rPr b="0" lang="zh-CN" sz="2800" spc="-1" strike="noStrike">
                <a:solidFill>
                  <a:srgbClr val="000000"/>
                </a:solidFill>
                <a:latin typeface="华文新魏"/>
                <a:ea typeface="华文新魏"/>
              </a:rPr>
              <a:t>与 </a:t>
            </a:r>
            <a:r>
              <a:rPr b="0" lang="zh-CN" sz="2800" spc="-1" strike="noStrike">
                <a:solidFill>
                  <a:srgbClr val="000000"/>
                </a:solidFill>
                <a:latin typeface="华文新魏"/>
                <a:ea typeface="华文新魏"/>
              </a:rPr>
              <a:t>Y </a:t>
            </a:r>
            <a:r>
              <a:rPr b="0" lang="zh-CN" sz="2800" spc="-1" strike="noStrike">
                <a:solidFill>
                  <a:srgbClr val="000000"/>
                </a:solidFill>
                <a:latin typeface="华文新魏"/>
                <a:ea typeface="华文新魏"/>
              </a:rPr>
              <a:t>相互独立，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服从自由度为</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记作</a:t>
            </a:r>
            <a:r>
              <a:rPr b="0" lang="zh-CN" sz="2800" spc="-1" strike="noStrike">
                <a:solidFill>
                  <a:srgbClr val="000000"/>
                </a:solidFill>
                <a:latin typeface="华文新魏"/>
                <a:ea typeface="华文新魏"/>
              </a:rPr>
              <a:t>t</a:t>
            </a:r>
            <a:r>
              <a:rPr b="0" lang="en-US" sz="2800" spc="-1" strike="noStrike">
                <a:solidFill>
                  <a:srgbClr val="000000"/>
                </a:solidFill>
                <a:latin typeface="Arial"/>
              </a:rPr>
              <a:t>∽</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1" name=""/>
              <p:cNvSpPr txBox="1"/>
              <p:nvPr/>
            </p:nvSpPr>
            <p:spPr>
              <a:xfrm>
                <a:off x="4716360" y="1557360"/>
                <a:ext cx="1513080" cy="512640"/>
              </a:xfrm>
              <a:prstGeom prst="rect">
                <a:avLst/>
              </a:prstGeom>
            </p:spPr>
            <p:txBody>
              <a:bodyPr/>
              <a:p>
                <a14:m>
                  <m:oMath xmlns:m="http://schemas.openxmlformats.org/officeDocument/2006/math">
                    <m:r>
                      <m:t xml:space="preserve">Y</m:t>
                    </m:r>
                    <m:r>
                      <m:rPr>
                        <m:lit/>
                        <m:nor/>
                      </m:rPr>
                      <m:t xml:space="preserve">~</m:t>
                    </m:r>
                    <m:sSup>
                      <m:e>
                        <m:r>
                          <m:t xml:space="preserve">χ</m:t>
                        </m:r>
                      </m:e>
                      <m:sup>
                        <m:r>
                          <m:t xml:space="preserve">2</m:t>
                        </m:r>
                      </m:sup>
                    </m:sSup>
                    <m:r>
                      <m:t xml:space="preserve">(</m:t>
                    </m:r>
                    <m:r>
                      <m:t xml:space="preserve">n</m:t>
                    </m:r>
                    <m:r>
                      <m:t xml:space="preserve">)</m:t>
                    </m:r>
                  </m:oMath>
                </a14:m>
              </a:p>
            </p:txBody>
          </p:sp>
        </mc:Choice>
        <mc:Fallback/>
      </mc:AlternateContent>
      <p:sp>
        <p:nvSpPr>
          <p:cNvPr id="27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2916360" y="2708280"/>
                <a:ext cx="1657080" cy="1066680"/>
              </a:xfrm>
              <a:prstGeom prst="rect">
                <a:avLst/>
              </a:prstGeom>
            </p:spPr>
            <p:txBody>
              <a:bodyPr/>
              <a:p>
                <a14:m>
                  <m:oMath xmlns:m="http://schemas.openxmlformats.org/officeDocument/2006/math">
                    <m:r>
                      <m:t xml:space="preserve">t</m:t>
                    </m:r>
                    <m:r>
                      <m:t xml:space="preserve">=</m:t>
                    </m:r>
                    <m:f>
                      <m:num>
                        <m:r>
                          <m:t xml:space="preserve">X</m:t>
                        </m:r>
                      </m:num>
                      <m:den>
                        <m:rad>
                          <m:radPr>
                            <m:degHide m:val="1"/>
                          </m:radPr>
                          <m:deg/>
                          <m:e>
                            <m:f>
                              <m:fPr>
                                <m:type m:val="lin"/>
                              </m:fPr>
                              <m:num>
                                <m:r>
                                  <m:t xml:space="preserve">Y</m:t>
                                </m:r>
                              </m:num>
                              <m:den>
                                <m:r>
                                  <m:t xml:space="preserve">n</m:t>
                                </m:r>
                              </m:den>
                            </m:f>
                          </m:e>
                        </m:rad>
                      </m:den>
                    </m:f>
                  </m:oMath>
                </a14:m>
              </a:p>
            </p:txBody>
          </p:sp>
        </mc:Choice>
        <mc:Fallback/>
      </mc:AlternateContent>
      <p:pic>
        <p:nvPicPr>
          <p:cNvPr id="275" name="" descr=""/>
          <p:cNvPicPr/>
          <p:nvPr/>
        </p:nvPicPr>
        <p:blipFill>
          <a:blip r:embed="rId1"/>
          <a:stretch/>
        </p:blipFill>
        <p:spPr>
          <a:xfrm>
            <a:off x="2195640" y="5950080"/>
            <a:ext cx="215640" cy="215640"/>
          </a:xfrm>
          <a:prstGeom prst="rect">
            <a:avLst/>
          </a:prstGeom>
          <a:ln w="0">
            <a:noFill/>
          </a:ln>
        </p:spPr>
      </p:pic>
      <p:pic>
        <p:nvPicPr>
          <p:cNvPr id="276" name="" descr=""/>
          <p:cNvPicPr/>
          <p:nvPr/>
        </p:nvPicPr>
        <p:blipFill>
          <a:blip r:embed="rId2"/>
          <a:stretch/>
        </p:blipFill>
        <p:spPr>
          <a:xfrm>
            <a:off x="2627280" y="5950080"/>
            <a:ext cx="216000" cy="215640"/>
          </a:xfrm>
          <a:prstGeom prst="rect">
            <a:avLst/>
          </a:prstGeom>
          <a:ln w="0">
            <a:noFill/>
          </a:ln>
        </p:spPr>
      </p:pic>
      <p:pic>
        <p:nvPicPr>
          <p:cNvPr id="277" name="" descr=""/>
          <p:cNvPicPr/>
          <p:nvPr/>
        </p:nvPicPr>
        <p:blipFill>
          <a:blip r:embed="rId3"/>
          <a:stretch/>
        </p:blipFill>
        <p:spPr>
          <a:xfrm>
            <a:off x="4427640" y="5950080"/>
            <a:ext cx="215640" cy="215640"/>
          </a:xfrm>
          <a:prstGeom prst="rect">
            <a:avLst/>
          </a:prstGeom>
          <a:ln w="0">
            <a:noFill/>
          </a:ln>
        </p:spPr>
      </p:pic>
      <p:pic>
        <p:nvPicPr>
          <p:cNvPr id="278" name="" descr=""/>
          <p:cNvPicPr/>
          <p:nvPr/>
        </p:nvPicPr>
        <p:blipFill>
          <a:blip r:embed="rId4"/>
          <a:stretch/>
        </p:blipFill>
        <p:spPr>
          <a:xfrm>
            <a:off x="4067280" y="5950080"/>
            <a:ext cx="215640" cy="215640"/>
          </a:xfrm>
          <a:prstGeom prst="rect">
            <a:avLst/>
          </a:prstGeom>
          <a:ln w="0">
            <a:noFill/>
          </a:ln>
        </p:spPr>
      </p:pic>
      <p:pic>
        <p:nvPicPr>
          <p:cNvPr id="279" name="" descr=""/>
          <p:cNvPicPr/>
          <p:nvPr/>
        </p:nvPicPr>
        <p:blipFill>
          <a:blip r:embed="rId5"/>
          <a:stretch/>
        </p:blipFill>
        <p:spPr>
          <a:xfrm>
            <a:off x="2987640" y="5950080"/>
            <a:ext cx="216000" cy="215640"/>
          </a:xfrm>
          <a:prstGeom prst="rect">
            <a:avLst/>
          </a:prstGeom>
          <a:ln w="0">
            <a:noFill/>
          </a:ln>
        </p:spPr>
      </p:pic>
      <p:pic>
        <p:nvPicPr>
          <p:cNvPr id="280" name="" descr=""/>
          <p:cNvPicPr/>
          <p:nvPr/>
        </p:nvPicPr>
        <p:blipFill>
          <a:blip r:embed="rId6"/>
          <a:stretch/>
        </p:blipFill>
        <p:spPr>
          <a:xfrm>
            <a:off x="3348000" y="5950080"/>
            <a:ext cx="216000" cy="215640"/>
          </a:xfrm>
          <a:prstGeom prst="rect">
            <a:avLst/>
          </a:prstGeom>
          <a:ln w="0">
            <a:noFill/>
          </a:ln>
        </p:spPr>
      </p:pic>
      <p:pic>
        <p:nvPicPr>
          <p:cNvPr id="281" name="" descr=""/>
          <p:cNvPicPr/>
          <p:nvPr/>
        </p:nvPicPr>
        <p:blipFill>
          <a:blip r:embed="rId7"/>
          <a:stretch/>
        </p:blipFill>
        <p:spPr>
          <a:xfrm>
            <a:off x="3708360" y="5950080"/>
            <a:ext cx="216000" cy="215640"/>
          </a:xfrm>
          <a:prstGeom prst="rect">
            <a:avLst/>
          </a:prstGeom>
          <a:ln w="0">
            <a:noFill/>
          </a:ln>
        </p:spPr>
      </p:pic>
      <p:pic>
        <p:nvPicPr>
          <p:cNvPr id="282" name="" descr=""/>
          <p:cNvPicPr/>
          <p:nvPr/>
        </p:nvPicPr>
        <p:blipFill>
          <a:blip r:embed="rId8"/>
          <a:stretch/>
        </p:blipFill>
        <p:spPr>
          <a:xfrm>
            <a:off x="1763640" y="5950080"/>
            <a:ext cx="216000" cy="215640"/>
          </a:xfrm>
          <a:prstGeom prst="rect">
            <a:avLst/>
          </a:prstGeom>
          <a:ln w="0">
            <a:noFill/>
          </a:ln>
        </p:spPr>
      </p:pic>
      <p:pic>
        <p:nvPicPr>
          <p:cNvPr id="283" name="" descr=""/>
          <p:cNvPicPr/>
          <p:nvPr/>
        </p:nvPicPr>
        <p:blipFill>
          <a:blip r:embed="rId9"/>
          <a:stretch/>
        </p:blipFill>
        <p:spPr>
          <a:xfrm>
            <a:off x="5724360" y="5950080"/>
            <a:ext cx="216000" cy="215640"/>
          </a:xfrm>
          <a:prstGeom prst="rect">
            <a:avLst/>
          </a:prstGeom>
          <a:ln w="0">
            <a:noFill/>
          </a:ln>
        </p:spPr>
      </p:pic>
      <p:pic>
        <p:nvPicPr>
          <p:cNvPr id="284" name="" descr=""/>
          <p:cNvPicPr/>
          <p:nvPr/>
        </p:nvPicPr>
        <p:blipFill>
          <a:blip r:embed="rId10"/>
          <a:stretch/>
        </p:blipFill>
        <p:spPr>
          <a:xfrm>
            <a:off x="5292720" y="5950080"/>
            <a:ext cx="216000" cy="215640"/>
          </a:xfrm>
          <a:prstGeom prst="rect">
            <a:avLst/>
          </a:prstGeom>
          <a:ln w="0">
            <a:noFill/>
          </a:ln>
        </p:spPr>
      </p:pic>
      <p:pic>
        <p:nvPicPr>
          <p:cNvPr id="285" name="" descr=""/>
          <p:cNvPicPr/>
          <p:nvPr/>
        </p:nvPicPr>
        <p:blipFill>
          <a:blip r:embed="rId11"/>
          <a:stretch/>
        </p:blipFill>
        <p:spPr>
          <a:xfrm>
            <a:off x="4859280" y="5950080"/>
            <a:ext cx="216000" cy="215640"/>
          </a:xfrm>
          <a:prstGeom prst="rect">
            <a:avLst/>
          </a:prstGeom>
          <a:ln w="0">
            <a:noFill/>
          </a:ln>
        </p:spPr>
      </p:pic>
      <p:pic>
        <p:nvPicPr>
          <p:cNvPr id="286" name="" descr=""/>
          <p:cNvPicPr/>
          <p:nvPr/>
        </p:nvPicPr>
        <p:blipFill>
          <a:blip r:embed="rId12"/>
          <a:stretch/>
        </p:blipFill>
        <p:spPr>
          <a:xfrm>
            <a:off x="6516720" y="5950080"/>
            <a:ext cx="216000" cy="215640"/>
          </a:xfrm>
          <a:prstGeom prst="rect">
            <a:avLst/>
          </a:prstGeom>
          <a:ln w="0">
            <a:noFill/>
          </a:ln>
        </p:spPr>
      </p:pic>
      <p:pic>
        <p:nvPicPr>
          <p:cNvPr id="287" name="" descr=""/>
          <p:cNvPicPr/>
          <p:nvPr/>
        </p:nvPicPr>
        <p:blipFill>
          <a:blip r:embed="rId13"/>
          <a:stretch/>
        </p:blipFill>
        <p:spPr>
          <a:xfrm>
            <a:off x="6156360" y="5950080"/>
            <a:ext cx="216000" cy="215640"/>
          </a:xfrm>
          <a:prstGeom prst="rect">
            <a:avLst/>
          </a:prstGeom>
          <a:ln w="0">
            <a:noFill/>
          </a:ln>
        </p:spPr>
      </p:pic>
      <p:pic>
        <p:nvPicPr>
          <p:cNvPr id="288" name="" descr=""/>
          <p:cNvPicPr/>
          <p:nvPr/>
        </p:nvPicPr>
        <p:blipFill>
          <a:blip r:embed="rId14"/>
          <a:stretch/>
        </p:blipFill>
        <p:spPr>
          <a:xfrm>
            <a:off x="1403280" y="5950080"/>
            <a:ext cx="216000" cy="215640"/>
          </a:xfrm>
          <a:prstGeom prst="rect">
            <a:avLst/>
          </a:prstGeom>
          <a:ln w="0">
            <a:noFill/>
          </a:ln>
        </p:spPr>
      </p:pic>
      <p:pic>
        <p:nvPicPr>
          <p:cNvPr id="289" name="" descr=""/>
          <p:cNvPicPr/>
          <p:nvPr/>
        </p:nvPicPr>
        <p:blipFill>
          <a:blip r:embed="rId15"/>
          <a:stretch/>
        </p:blipFill>
        <p:spPr>
          <a:xfrm>
            <a:off x="6877080" y="5950080"/>
            <a:ext cx="216000" cy="215640"/>
          </a:xfrm>
          <a:prstGeom prst="rect">
            <a:avLst/>
          </a:prstGeom>
          <a:ln w="0">
            <a:noFill/>
          </a:ln>
        </p:spPr>
      </p:pic>
      <p:pic>
        <p:nvPicPr>
          <p:cNvPr id="290" name="" descr=""/>
          <p:cNvPicPr/>
          <p:nvPr/>
        </p:nvPicPr>
        <p:blipFill>
          <a:blip r:embed="rId16"/>
          <a:stretch/>
        </p:blipFill>
        <p:spPr>
          <a:xfrm>
            <a:off x="7596360" y="5950080"/>
            <a:ext cx="215640" cy="215640"/>
          </a:xfrm>
          <a:prstGeom prst="rect">
            <a:avLst/>
          </a:prstGeom>
          <a:ln w="0">
            <a:noFill/>
          </a:ln>
        </p:spPr>
      </p:pic>
      <p:pic>
        <p:nvPicPr>
          <p:cNvPr id="291" name="" descr=""/>
          <p:cNvPicPr/>
          <p:nvPr/>
        </p:nvPicPr>
        <p:blipFill>
          <a:blip r:embed="rId17"/>
          <a:stretch/>
        </p:blipFill>
        <p:spPr>
          <a:xfrm>
            <a:off x="7236000" y="5950080"/>
            <a:ext cx="215640" cy="215640"/>
          </a:xfrm>
          <a:prstGeom prst="rect">
            <a:avLst/>
          </a:prstGeom>
          <a:ln w="0">
            <a:noFill/>
          </a:ln>
        </p:spPr>
      </p:pic>
      <p:pic>
        <p:nvPicPr>
          <p:cNvPr id="292" name="" descr=""/>
          <p:cNvPicPr/>
          <p:nvPr/>
        </p:nvPicPr>
        <p:blipFill>
          <a:blip r:embed="rId18"/>
          <a:stretch/>
        </p:blipFill>
        <p:spPr>
          <a:xfrm>
            <a:off x="971640" y="5950080"/>
            <a:ext cx="215640" cy="215640"/>
          </a:xfrm>
          <a:prstGeom prst="rect">
            <a:avLst/>
          </a:prstGeom>
          <a:ln w="0">
            <a:noFill/>
          </a:ln>
        </p:spPr>
      </p:pic>
      <p:pic>
        <p:nvPicPr>
          <p:cNvPr id="293" name="" descr=""/>
          <p:cNvPicPr/>
          <p:nvPr/>
        </p:nvPicPr>
        <p:blipFill>
          <a:blip r:embed="rId19"/>
          <a:stretch/>
        </p:blipFill>
        <p:spPr>
          <a:xfrm>
            <a:off x="7956720" y="5950080"/>
            <a:ext cx="215640" cy="215640"/>
          </a:xfrm>
          <a:prstGeom prst="rect">
            <a:avLst/>
          </a:prstGeom>
          <a:ln w="0">
            <a:noFill/>
          </a:ln>
        </p:spPr>
      </p:pic>
      <p:pic>
        <p:nvPicPr>
          <p:cNvPr id="294" name="" descr=""/>
          <p:cNvPicPr/>
          <p:nvPr/>
        </p:nvPicPr>
        <p:blipFill>
          <a:blip r:embed="rId20"/>
          <a:stretch/>
        </p:blipFill>
        <p:spPr>
          <a:xfrm>
            <a:off x="8317080" y="5950080"/>
            <a:ext cx="215640" cy="215640"/>
          </a:xfrm>
          <a:prstGeom prst="rect">
            <a:avLst/>
          </a:prstGeom>
          <a:ln w="0">
            <a:noFill/>
          </a:ln>
        </p:spPr>
      </p:pic>
      <p:pic>
        <p:nvPicPr>
          <p:cNvPr id="295" name="" descr=""/>
          <p:cNvPicPr/>
          <p:nvPr/>
        </p:nvPicPr>
        <p:blipFill>
          <a:blip r:embed="rId21"/>
          <a:stretch/>
        </p:blipFill>
        <p:spPr>
          <a:xfrm>
            <a:off x="611280" y="5950080"/>
            <a:ext cx="215640" cy="215640"/>
          </a:xfrm>
          <a:prstGeom prst="rect">
            <a:avLst/>
          </a:prstGeom>
          <a:ln w="0">
            <a:noFill/>
          </a:ln>
        </p:spPr>
      </p:pic>
      <mc:AlternateContent>
        <mc:Choice xmlns:a14="http://schemas.microsoft.com/office/drawing/2010/main" Requires="a14">
          <p:sp>
            <p:nvSpPr>
              <p:cNvPr id="296" name=""/>
              <p:cNvSpPr txBox="1"/>
              <p:nvPr/>
            </p:nvSpPr>
            <p:spPr>
              <a:xfrm>
                <a:off x="2484360" y="1628640"/>
                <a:ext cx="1538280" cy="43200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三节  </a:t>
            </a:r>
            <a:r>
              <a:rPr b="0" lang="zh-CN" sz="4000" spc="-1" strike="noStrike">
                <a:solidFill>
                  <a:srgbClr val="000000"/>
                </a:solidFill>
                <a:latin typeface="Arial"/>
              </a:rPr>
              <a:t>大数定律与中心极限定理</a:t>
            </a:r>
            <a:br>
              <a:rPr sz="4000"/>
            </a:br>
            <a:endParaRPr b="0" lang="en-US" sz="4000" spc="-1" strike="noStrike">
              <a:solidFill>
                <a:srgbClr val="000000"/>
              </a:solidFill>
              <a:latin typeface="Arial"/>
            </a:endParaRPr>
          </a:p>
        </p:txBody>
      </p:sp>
      <p:sp>
        <p:nvSpPr>
          <p:cNvPr id="298"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大数定律</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有在掌握足够多的单位数目的情况时，大量现象的规律性及大量过程的倾向性才能充分显示出来。因此只有从大量现象的总体中，才能研究这些现象的规律性。</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象的总体规律性，通常是以平均数的形式表现出来。</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所研究的现象总体包含的单位越多，平均数也就越能够正确地反映出这些现象的规律性。</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单位的共同倾向（它表现为主要的、基本的因素）决定着平均数的水平。而各单位对平均数的离差（它表现为次要的、偶然的因素）则会由于综合汇总的结果而相互抵消，趋于消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中心极限定理</a:t>
            </a:r>
            <a:endParaRPr b="0" lang="en-US" sz="4400" spc="-1" strike="noStrike">
              <a:solidFill>
                <a:srgbClr val="000000"/>
              </a:solidFill>
              <a:latin typeface="Arial"/>
            </a:endParaRPr>
          </a:p>
        </p:txBody>
      </p:sp>
      <p:sp>
        <p:nvSpPr>
          <p:cNvPr id="3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心极限定理就是解决在什么条件下，大量独立随机变量的平均数是以正态分布为极限的，它集中地论证了对于那些不属于正态分布的随机变量，在一定条件下，当无限增大时，也收敛于正态分布。以下我们仅介绍其中的两个主要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中心极限定理指出抽样分布与总体分布有关，其关系可以用下图描述。</a:t>
            </a:r>
            <a:endParaRPr b="0" lang="en-US" sz="3200" spc="-1" strike="noStrike">
              <a:solidFill>
                <a:srgbClr val="000000"/>
              </a:solidFill>
              <a:latin typeface="Arial"/>
            </a:endParaRPr>
          </a:p>
        </p:txBody>
      </p:sp>
      <p:sp>
        <p:nvSpPr>
          <p:cNvPr id="3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1692360" y="2565360"/>
            <a:ext cx="6192720" cy="30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692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节  样本统计量的分布</a:t>
            </a:r>
            <a:br>
              <a:rPr sz="4000"/>
            </a:br>
            <a:endParaRPr b="0" lang="en-US" sz="40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总体——就是一个随机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样本——</a:t>
            </a:r>
            <a:r>
              <a:rPr b="1" lang="zh-CN" sz="3200" spc="-1" strike="noStrike">
                <a:solidFill>
                  <a:srgbClr val="000000"/>
                </a:solidFill>
                <a:latin typeface="Arial"/>
              </a:rPr>
              <a:t>样本就是由</a:t>
            </a:r>
            <a:r>
              <a:rPr b="1" lang="zh-CN" sz="3200" spc="-1" strike="noStrike">
                <a:solidFill>
                  <a:srgbClr val="000000"/>
                </a:solidFill>
                <a:latin typeface="Arial"/>
              </a:rPr>
              <a:t>n</a:t>
            </a:r>
            <a:r>
              <a:rPr b="1" lang="zh-CN" sz="3200" spc="-1" strike="noStrike">
                <a:solidFill>
                  <a:srgbClr val="000000"/>
                </a:solidFill>
                <a:latin typeface="Arial"/>
              </a:rPr>
              <a:t>个互独立与总体有相同分布的随机变量                    （</a:t>
            </a:r>
            <a:r>
              <a:rPr b="1" lang="zh-CN" sz="3200" spc="-1" strike="noStrike">
                <a:solidFill>
                  <a:srgbClr val="000000"/>
                </a:solidFill>
                <a:latin typeface="Arial"/>
              </a:rPr>
              <a:t>n</a:t>
            </a:r>
            <a:r>
              <a:rPr b="1" lang="zh-CN" sz="3200" spc="-1" strike="noStrike">
                <a:solidFill>
                  <a:srgbClr val="000000"/>
                </a:solidFill>
                <a:latin typeface="Arial"/>
              </a:rPr>
              <a:t>是样本容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7" name=""/>
          <p:cNvGraphicFramePr/>
          <p:nvPr/>
        </p:nvGraphicFramePr>
        <p:xfrm>
          <a:off x="4788000" y="3068640"/>
          <a:ext cx="2160360" cy="546120"/>
        </p:xfrm>
        <a:graphic>
          <a:graphicData uri="http://schemas.openxmlformats.org/presentationml/2006/ole">
            <p:oleObj r:id="rId1" spid="">
              <p:embed/>
              <p:pic>
                <p:nvPicPr>
                  <p:cNvPr id="308" name="" descr=""/>
                  <p:cNvPicPr/>
                  <p:nvPr/>
                </p:nvPicPr>
                <p:blipFill>
                  <a:blip r:embed="rId2"/>
                  <a:stretch/>
                </p:blipFill>
                <p:spPr>
                  <a:xfrm>
                    <a:off x="4788000" y="3068640"/>
                    <a:ext cx="216036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黑体"/>
              </a:rPr>
              <a:t>二、</a:t>
            </a:r>
            <a:r>
              <a:rPr b="1" lang="zh-CN" sz="4400" spc="-1" strike="noStrike">
                <a:solidFill>
                  <a:srgbClr val="000000"/>
                </a:solidFill>
                <a:latin typeface="Arial"/>
              </a:rPr>
              <a:t>几个常用的统计量分布</a:t>
            </a:r>
            <a:br>
              <a:rPr sz="4400"/>
            </a:br>
            <a:endParaRPr b="0" lang="en-US" sz="4400" spc="-1" strike="noStrike">
              <a:solidFill>
                <a:srgbClr val="000000"/>
              </a:solidFill>
              <a:latin typeface="Arial"/>
            </a:endParaRPr>
          </a:p>
        </p:txBody>
      </p:sp>
      <p:sp>
        <p:nvSpPr>
          <p:cNvPr id="310"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理</a:t>
            </a:r>
            <a:r>
              <a:rPr b="1" lang="zh-CN" sz="2800" spc="-1" strike="noStrike">
                <a:solidFill>
                  <a:srgbClr val="000000"/>
                </a:solidFill>
                <a:latin typeface="Arial"/>
              </a:rPr>
              <a:t>2.1</a:t>
            </a:r>
            <a:r>
              <a:rPr b="0" lang="zh-CN" sz="2800" spc="-1" strike="noStrike">
                <a:solidFill>
                  <a:srgbClr val="000000"/>
                </a:solidFill>
                <a:latin typeface="Arial"/>
              </a:rPr>
              <a:t>： </a:t>
            </a:r>
            <a:r>
              <a:rPr b="0" lang="zh-CN" sz="2800" spc="-1" strike="noStrike">
                <a:solidFill>
                  <a:srgbClr val="000000"/>
                </a:solidFill>
                <a:latin typeface="华文新魏"/>
                <a:ea typeface="华文新魏"/>
              </a:rPr>
              <a:t>：是从总体                           抽出的一个样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3995640" y="2276640"/>
                <a:ext cx="1800360" cy="455400"/>
              </a:xfrm>
              <a:prstGeom prst="rect">
                <a:avLst/>
              </a:prstGeom>
            </p:spPr>
            <p:txBody>
              <a:bodyPr/>
              <a:p>
                <a14:m>
                  <m:oMath xmlns:m="http://schemas.openxmlformats.org/officeDocument/2006/math">
                    <m:r>
                      <m:t xml:space="preserve">X</m:t>
                    </m:r>
                    <m:r>
                      <m:rPr>
                        <m:lit/>
                        <m:nor/>
                      </m:rPr>
                      <m:t xml:space="preserve">~</m:t>
                    </m:r>
                    <m:r>
                      <m:t xml:space="preserve">N</m:t>
                    </m:r>
                    <m:r>
                      <m:t xml:space="preserve">(</m:t>
                    </m:r>
                    <m:r>
                      <m:t xml:space="preserve">μ</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312" name=""/>
              <p:cNvSpPr txBox="1"/>
              <p:nvPr/>
            </p:nvSpPr>
            <p:spPr>
              <a:xfrm>
                <a:off x="2916360" y="3789360"/>
                <a:ext cx="1800000" cy="81432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r>
                      <m:t xml:space="preserve">(</m:t>
                    </m:r>
                    <m:r>
                      <m:t xml:space="preserve">μ</m:t>
                    </m:r>
                    <m:r>
                      <m:t xml:space="preserve">,</m:t>
                    </m:r>
                    <m:f>
                      <m:num>
                        <m:sSup>
                          <m:e>
                            <m:r>
                              <m:t xml:space="preserve">σ</m:t>
                            </m:r>
                          </m:e>
                          <m:sup>
                            <m:r>
                              <m:t xml:space="preserve">2</m:t>
                            </m:r>
                          </m:sup>
                        </m:sSup>
                      </m:num>
                      <m:den>
                        <m:r>
                          <m:t xml:space="preserve">n</m:t>
                        </m:r>
                      </m:den>
                    </m:f>
                    <m:r>
                      <m:t xml:space="preserve">)</m:t>
                    </m:r>
                  </m:oMath>
                </a14:m>
              </a:p>
            </p:txBody>
          </p:sp>
        </mc:Choice>
        <mc:Fallback/>
      </mc:AlternateContent>
      <mc:AlternateContent>
        <mc:Choice xmlns:a14="http://schemas.microsoft.com/office/drawing/2010/main" Requires="a14">
          <p:sp>
            <p:nvSpPr>
              <p:cNvPr id="313" name=""/>
              <p:cNvSpPr txBox="1"/>
              <p:nvPr/>
            </p:nvSpPr>
            <p:spPr>
              <a:xfrm>
                <a:off x="2843280" y="4581360"/>
                <a:ext cx="2104920" cy="89388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r>
                      <m:rPr>
                        <m:lit/>
                        <m:nor/>
                      </m:rPr>
                      <m:t xml:space="preserve">~</m:t>
                    </m:r>
                    <m:r>
                      <m:t xml:space="preserve">N</m:t>
                    </m:r>
                    <m:r>
                      <m:t xml:space="preserve">(</m:t>
                    </m:r>
                    <m:r>
                      <m:t xml:space="preserve">0,1</m:t>
                    </m:r>
                    <m:r>
                      <m:t xml:space="preserve">)</m:t>
                    </m:r>
                  </m:oMath>
                </a14:m>
              </a:p>
            </p:txBody>
          </p:sp>
        </mc:Choice>
        <mc:Fallback/>
      </mc:AlternateContent>
      <mc:AlternateContent>
        <mc:Choice xmlns:a14="http://schemas.microsoft.com/office/drawing/2010/main" Requires="a14">
          <p:sp>
            <p:nvSpPr>
              <p:cNvPr id="314" name=""/>
              <p:cNvSpPr txBox="1"/>
              <p:nvPr/>
            </p:nvSpPr>
            <p:spPr>
              <a:xfrm>
                <a:off x="2843280" y="5589720"/>
                <a:ext cx="2160360" cy="928440"/>
              </a:xfrm>
              <a:prstGeom prst="rect">
                <a:avLst/>
              </a:prstGeom>
            </p:spPr>
            <p:txBody>
              <a:bodyPr/>
              <a:p>
                <a14:m>
                  <m:oMath xmlns:m="http://schemas.openxmlformats.org/officeDocument/2006/math">
                    <m:f>
                      <m:num>
                        <m:acc>
                          <m:accPr>
                            <m:chr m:val="¯"/>
                          </m:accPr>
                          <m:e>
                            <m:r>
                              <m:t xml:space="preserve">X</m:t>
                            </m:r>
                          </m:e>
                        </m:acc>
                        <m:r>
                          <m:t xml:space="preserve">−</m:t>
                        </m:r>
                        <m:r>
                          <m:t xml:space="preserve">μ</m:t>
                        </m:r>
                      </m:num>
                      <m:den>
                        <m:f>
                          <m:fPr>
                            <m:type m:val="lin"/>
                          </m:fPr>
                          <m:num>
                            <m:r>
                              <m:t xml:space="preserve">s</m:t>
                            </m:r>
                          </m:num>
                          <m:den>
                            <m:rad>
                              <m:radPr>
                                <m:degHide m:val="1"/>
                              </m:radPr>
                              <m:deg/>
                              <m:e>
                                <m:r>
                                  <m:t xml:space="preserve">n</m:t>
                                </m:r>
                              </m:e>
                            </m:rad>
                          </m:den>
                        </m:f>
                      </m:den>
                    </m:f>
                    <m:r>
                      <m:rPr>
                        <m:lit/>
                        <m:nor/>
                      </m:rPr>
                      <m:t xml:space="preserve">~</m:t>
                    </m:r>
                    <m:r>
                      <m:t xml:space="preserve">t</m:t>
                    </m:r>
                    <m:r>
                      <m:t xml:space="preserve">(</m:t>
                    </m:r>
                    <m:r>
                      <m:t xml:space="preserve">n</m:t>
                    </m:r>
                    <m:r>
                      <m:t xml:space="preserve">−</m:t>
                    </m:r>
                    <m:r>
                      <m:t xml:space="preserve">1</m:t>
                    </m:r>
                    <m:r>
                      <m:t xml:space="preserve">)</m:t>
                    </m:r>
                  </m:oMath>
                </a14:m>
              </a:p>
            </p:txBody>
          </p:sp>
        </mc:Choice>
        <mc:Fallback/>
      </mc:AlternateContent>
      <p:graphicFrame>
        <p:nvGraphicFramePr>
          <p:cNvPr id="315" name=""/>
          <p:cNvGraphicFramePr/>
          <p:nvPr/>
        </p:nvGraphicFramePr>
        <p:xfrm>
          <a:off x="1476360" y="2708280"/>
          <a:ext cx="1871640" cy="473040"/>
        </p:xfrm>
        <a:graphic>
          <a:graphicData uri="http://schemas.openxmlformats.org/presentationml/2006/ole">
            <p:oleObj r:id="rId1" spid="">
              <p:embed/>
              <p:pic>
                <p:nvPicPr>
                  <p:cNvPr id="316" name="" descr=""/>
                  <p:cNvPicPr/>
                  <p:nvPr/>
                </p:nvPicPr>
                <p:blipFill>
                  <a:blip r:embed="rId2"/>
                  <a:stretch/>
                </p:blipFill>
                <p:spPr>
                  <a:xfrm>
                    <a:off x="1476360" y="2708280"/>
                    <a:ext cx="1871640" cy="473040"/>
                  </a:xfrm>
                  <a:prstGeom prst="rect">
                    <a:avLst/>
                  </a:prstGeom>
                  <a:ln w="0">
                    <a:noFill/>
                  </a:ln>
                </p:spPr>
              </p:pic>
            </p:oleObj>
          </a:graphicData>
        </a:graphic>
      </p:graphicFrame>
      <p:sp>
        <p:nvSpPr>
          <p:cNvPr id="317" name=""/>
          <p:cNvSpPr/>
          <p:nvPr/>
        </p:nvSpPr>
        <p:spPr>
          <a:xfrm>
            <a:off x="938880" y="407664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18" name=""/>
          <p:cNvSpPr/>
          <p:nvPr/>
        </p:nvSpPr>
        <p:spPr>
          <a:xfrm>
            <a:off x="1010160" y="49417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19" name=""/>
          <p:cNvSpPr/>
          <p:nvPr/>
        </p:nvSpPr>
        <p:spPr>
          <a:xfrm>
            <a:off x="1010160" y="5877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10">
                                            <p:txEl>
                                              <p:pRg st="1" end="1"/>
                                            </p:txEl>
                                          </p:spTgt>
                                        </p:tgtEl>
                                        <p:attrNameLst>
                                          <p:attrName>style.visibility</p:attrName>
                                        </p:attrNameLst>
                                      </p:cBhvr>
                                      <p:to>
                                        <p:strVal val="visible"/>
                                      </p:to>
                                    </p:set>
                                    <p:animEffect filter="blinds(horizontal)" transition="in">
                                      <p:cBhvr additive="repl">
                                        <p:cTn id="354" dur="500"/>
                                        <p:tgtEl>
                                          <p:spTgt spid="31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311"/>
                                        </p:tgtEl>
                                        <p:attrNameLst>
                                          <p:attrName>style.visibility</p:attrName>
                                        </p:attrNameLst>
                                      </p:cBhvr>
                                      <p:to>
                                        <p:strVal val="visible"/>
                                      </p:to>
                                    </p:set>
                                    <p:animEffect filter="blinds(horizontal)" transition="in">
                                      <p:cBhvr additive="repl">
                                        <p:cTn id="359" dur="500"/>
                                        <p:tgtEl>
                                          <p:spTgt spid="31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12"/>
                                        </p:tgtEl>
                                        <p:attrNameLst>
                                          <p:attrName>style.visibility</p:attrName>
                                        </p:attrNameLst>
                                      </p:cBhvr>
                                      <p:to>
                                        <p:strVal val="visible"/>
                                      </p:to>
                                    </p:set>
                                    <p:animEffect filter="blinds(horizontal)" transition="in">
                                      <p:cBhvr additive="repl">
                                        <p:cTn id="364" dur="500"/>
                                        <p:tgtEl>
                                          <p:spTgt spid="31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13"/>
                                        </p:tgtEl>
                                        <p:attrNameLst>
                                          <p:attrName>style.visibility</p:attrName>
                                        </p:attrNameLst>
                                      </p:cBhvr>
                                      <p:to>
                                        <p:strVal val="visible"/>
                                      </p:to>
                                    </p:set>
                                    <p:animEffect filter="blinds(horizontal)" transition="in">
                                      <p:cBhvr additive="repl">
                                        <p:cTn id="369" dur="500"/>
                                        <p:tgtEl>
                                          <p:spTgt spid="31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14"/>
                                        </p:tgtEl>
                                        <p:attrNameLst>
                                          <p:attrName>style.visibility</p:attrName>
                                        </p:attrNameLst>
                                      </p:cBhvr>
                                      <p:to>
                                        <p:strVal val="visible"/>
                                      </p:to>
                                    </p:set>
                                    <p:animEffect filter="blinds(horizontal)" transition="in">
                                      <p:cBhvr additive="repl">
                                        <p:cTn id="37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ea typeface="黑体"/>
              </a:rPr>
              <a:t>一、基本概念</a:t>
            </a: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随机现象：不确定现象，即条件一定，结果不唯一。</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概率： 用来刻划随机现象某一结果发生可能性大小的数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随机试验：对随机现象进行观察和实验。</a:t>
            </a:r>
            <a:endParaRPr b="0" lang="en-US" sz="3200" spc="-1" strike="noStrike">
              <a:solidFill>
                <a:srgbClr val="000000"/>
              </a:solidFill>
              <a:latin typeface="Arial"/>
            </a:endParaRPr>
          </a:p>
        </p:txBody>
      </p:sp>
      <p:pic>
        <p:nvPicPr>
          <p:cNvPr id="116" name="" descr=""/>
          <p:cNvPicPr/>
          <p:nvPr/>
        </p:nvPicPr>
        <p:blipFill>
          <a:blip r:embed="rId1"/>
          <a:stretch/>
        </p:blipFill>
        <p:spPr>
          <a:xfrm>
            <a:off x="6659640" y="4724280"/>
            <a:ext cx="1827000" cy="1824120"/>
          </a:xfrm>
          <a:prstGeom prst="rect">
            <a:avLst/>
          </a:prstGeom>
          <a:ln w="0">
            <a:noFill/>
          </a:ln>
        </p:spPr>
      </p:pic>
      <p:pic>
        <p:nvPicPr>
          <p:cNvPr id="117" name="" descr=""/>
          <p:cNvPicPr/>
          <p:nvPr/>
        </p:nvPicPr>
        <p:blipFill>
          <a:blip r:embed="rId2"/>
          <a:stretch/>
        </p:blipFill>
        <p:spPr>
          <a:xfrm>
            <a:off x="684360" y="6237360"/>
            <a:ext cx="5905440" cy="98280"/>
          </a:xfrm>
          <a:prstGeom prst="rect">
            <a:avLst/>
          </a:prstGeom>
          <a:ln w="0">
            <a:noFill/>
          </a:ln>
        </p:spPr>
      </p:pic>
      <p:sp>
        <p:nvSpPr>
          <p:cNvPr id="118" name=""/>
          <p:cNvSpPr/>
          <p:nvPr/>
        </p:nvSpPr>
        <p:spPr>
          <a:xfrm>
            <a:off x="1395360" y="5603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cc0099"/>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006600"/>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cc0099"/>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    </a:t>
            </a:r>
            <a:r>
              <a:rPr b="1" lang="zh-CN" sz="1800" spc="-1" strike="noStrike">
                <a:solidFill>
                  <a:srgbClr val="006600"/>
                </a:solidFill>
                <a:latin typeface="Arial"/>
              </a:rPr>
              <a:t>＊</a:t>
            </a:r>
            <a:r>
              <a:rPr b="1" lang="zh-CN" sz="1800" spc="-1" strike="noStrike">
                <a:solidFill>
                  <a:srgbClr val="666699"/>
                </a:solidFill>
                <a:latin typeface="Arial"/>
              </a:rPr>
              <a:t>   </a:t>
            </a:r>
            <a:r>
              <a:rPr b="1" lang="zh-CN" sz="1800" spc="-1" strike="noStrike">
                <a:solidFill>
                  <a:srgbClr val="00007d"/>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7" dur="500"/>
                                        <p:tgtEl>
                                          <p:spTgt spid="1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2" dur="500"/>
                                        <p:tgtEl>
                                          <p:spTgt spid="11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7"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95280" y="1052280"/>
            <a:ext cx="874872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理</a:t>
            </a:r>
            <a:r>
              <a:rPr b="1" lang="zh-CN" sz="3200" spc="-1" strike="noStrike">
                <a:solidFill>
                  <a:srgbClr val="000000"/>
                </a:solidFill>
                <a:latin typeface="Arial"/>
              </a:rPr>
              <a:t>2.2</a:t>
            </a:r>
            <a:r>
              <a:rPr b="0" lang="zh-CN" sz="3200" spc="-1" strike="noStrike">
                <a:solidFill>
                  <a:srgbClr val="000000"/>
                </a:solidFill>
                <a:latin typeface="Arial"/>
              </a:rPr>
              <a:t>：如果样本来自正态总体              ，则有</a:t>
            </a:r>
            <a:endParaRPr b="0" lang="en-US" sz="3200" spc="-1" strike="noStrike">
              <a:solidFill>
                <a:srgbClr val="000000"/>
              </a:solidFill>
              <a:latin typeface="Arial"/>
            </a:endParaRPr>
          </a:p>
        </p:txBody>
      </p:sp>
      <p:sp>
        <p:nvSpPr>
          <p:cNvPr id="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2" name=""/>
          <p:cNvGraphicFramePr/>
          <p:nvPr/>
        </p:nvGraphicFramePr>
        <p:xfrm>
          <a:off x="6588000" y="1125360"/>
          <a:ext cx="1800360" cy="520920"/>
        </p:xfrm>
        <a:graphic>
          <a:graphicData uri="http://schemas.openxmlformats.org/presentationml/2006/ole">
            <p:oleObj r:id="rId1" spid="">
              <p:embed/>
              <p:pic>
                <p:nvPicPr>
                  <p:cNvPr id="323" name="" descr=""/>
                  <p:cNvPicPr/>
                  <p:nvPr/>
                </p:nvPicPr>
                <p:blipFill>
                  <a:blip r:embed="rId2"/>
                  <a:stretch/>
                </p:blipFill>
                <p:spPr>
                  <a:xfrm>
                    <a:off x="6588000" y="1125360"/>
                    <a:ext cx="1800360" cy="520920"/>
                  </a:xfrm>
                  <a:prstGeom prst="rect">
                    <a:avLst/>
                  </a:prstGeom>
                  <a:ln w="0">
                    <a:noFill/>
                  </a:ln>
                </p:spPr>
              </p:pic>
            </p:oleObj>
          </a:graphicData>
        </a:graphic>
      </p:graphicFrame>
      <p:sp>
        <p:nvSpPr>
          <p:cNvPr id="32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5" name=""/>
          <p:cNvGraphicFramePr/>
          <p:nvPr/>
        </p:nvGraphicFramePr>
        <p:xfrm>
          <a:off x="3059280" y="2565360"/>
          <a:ext cx="3456000" cy="1285920"/>
        </p:xfrm>
        <a:graphic>
          <a:graphicData uri="http://schemas.openxmlformats.org/presentationml/2006/ole">
            <p:oleObj r:id="rId3" spid="">
              <p:embed/>
              <p:pic>
                <p:nvPicPr>
                  <p:cNvPr id="326" name="" descr=""/>
                  <p:cNvPicPr/>
                  <p:nvPr/>
                </p:nvPicPr>
                <p:blipFill>
                  <a:blip r:embed="rId4"/>
                  <a:stretch/>
                </p:blipFill>
                <p:spPr>
                  <a:xfrm>
                    <a:off x="3059280" y="2565360"/>
                    <a:ext cx="3456000" cy="1285920"/>
                  </a:xfrm>
                  <a:prstGeom prst="rect">
                    <a:avLst/>
                  </a:prstGeom>
                  <a:ln w="0">
                    <a:noFill/>
                  </a:ln>
                </p:spPr>
              </p:pic>
            </p:oleObj>
          </a:graphicData>
        </a:graphic>
      </p:graphicFrame>
      <p:sp>
        <p:nvSpPr>
          <p:cNvPr id="32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28" name=""/>
          <p:cNvGraphicFramePr/>
          <p:nvPr/>
        </p:nvGraphicFramePr>
        <p:xfrm>
          <a:off x="2916360" y="4221000"/>
          <a:ext cx="2881080" cy="865440"/>
        </p:xfrm>
        <a:graphic>
          <a:graphicData uri="http://schemas.openxmlformats.org/presentationml/2006/ole">
            <p:oleObj r:id="rId5" spid="">
              <p:embed/>
              <p:pic>
                <p:nvPicPr>
                  <p:cNvPr id="329" name="" descr=""/>
                  <p:cNvPicPr/>
                  <p:nvPr/>
                </p:nvPicPr>
                <p:blipFill>
                  <a:blip r:embed="rId6"/>
                  <a:stretch/>
                </p:blipFill>
                <p:spPr>
                  <a:xfrm>
                    <a:off x="2916360" y="4221000"/>
                    <a:ext cx="2881080" cy="865440"/>
                  </a:xfrm>
                  <a:prstGeom prst="rect">
                    <a:avLst/>
                  </a:prstGeom>
                  <a:ln w="0">
                    <a:noFill/>
                  </a:ln>
                </p:spPr>
              </p:pic>
            </p:oleObj>
          </a:graphicData>
        </a:graphic>
      </p:graphicFrame>
      <p:sp>
        <p:nvSpPr>
          <p:cNvPr id="330" name=""/>
          <p:cNvSpPr/>
          <p:nvPr/>
        </p:nvSpPr>
        <p:spPr>
          <a:xfrm>
            <a:off x="6156360" y="4258440"/>
            <a:ext cx="2087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互独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1" name=""/>
          <p:cNvSpPr/>
          <p:nvPr/>
        </p:nvSpPr>
        <p:spPr>
          <a:xfrm>
            <a:off x="1514880" y="31417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32" name=""/>
          <p:cNvSpPr/>
          <p:nvPr/>
        </p:nvSpPr>
        <p:spPr>
          <a:xfrm>
            <a:off x="1442160" y="4437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395280" y="1052280"/>
            <a:ext cx="874872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理</a:t>
            </a:r>
            <a:r>
              <a:rPr b="1" lang="zh-CN" sz="3200" spc="-1" strike="noStrike">
                <a:solidFill>
                  <a:srgbClr val="000000"/>
                </a:solidFill>
                <a:latin typeface="Arial"/>
              </a:rPr>
              <a:t>2.3</a:t>
            </a:r>
            <a:r>
              <a:rPr b="0" lang="zh-CN" sz="3200" spc="-1" strike="noStrike">
                <a:solidFill>
                  <a:srgbClr val="000000"/>
                </a:solidFill>
                <a:latin typeface="Arial"/>
              </a:rPr>
              <a:t>：如果样本来自正态总体              ，则有</a:t>
            </a:r>
            <a:endParaRPr b="0" lang="en-US" sz="3200" spc="-1" strike="noStrike">
              <a:solidFill>
                <a:srgbClr val="000000"/>
              </a:solidFill>
              <a:latin typeface="Arial"/>
            </a:endParaRPr>
          </a:p>
        </p:txBody>
      </p:sp>
      <p:sp>
        <p:nvSpPr>
          <p:cNvPr id="3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5" name=""/>
          <p:cNvGraphicFramePr/>
          <p:nvPr/>
        </p:nvGraphicFramePr>
        <p:xfrm>
          <a:off x="6588000" y="1125360"/>
          <a:ext cx="1800360" cy="520920"/>
        </p:xfrm>
        <a:graphic>
          <a:graphicData uri="http://schemas.openxmlformats.org/presentationml/2006/ole">
            <p:oleObj r:id="rId1" spid="">
              <p:embed/>
              <p:pic>
                <p:nvPicPr>
                  <p:cNvPr id="336" name="" descr=""/>
                  <p:cNvPicPr/>
                  <p:nvPr/>
                </p:nvPicPr>
                <p:blipFill>
                  <a:blip r:embed="rId2"/>
                  <a:stretch/>
                </p:blipFill>
                <p:spPr>
                  <a:xfrm>
                    <a:off x="6588000" y="1125360"/>
                    <a:ext cx="1800360" cy="520920"/>
                  </a:xfrm>
                  <a:prstGeom prst="rect">
                    <a:avLst/>
                  </a:prstGeom>
                  <a:ln w="0">
                    <a:noFill/>
                  </a:ln>
                </p:spPr>
              </p:pic>
            </p:oleObj>
          </a:graphicData>
        </a:graphic>
      </p:graphicFrame>
      <p:sp>
        <p:nvSpPr>
          <p:cNvPr id="337"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
          <p:cNvSpPr/>
          <p:nvPr/>
        </p:nvSpPr>
        <p:spPr>
          <a:xfrm>
            <a:off x="1514880" y="2421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4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1" name=""/>
          <p:cNvGraphicFramePr/>
          <p:nvPr/>
        </p:nvGraphicFramePr>
        <p:xfrm>
          <a:off x="2843280" y="2060640"/>
          <a:ext cx="3168720" cy="1025640"/>
        </p:xfrm>
        <a:graphic>
          <a:graphicData uri="http://schemas.openxmlformats.org/presentationml/2006/ole">
            <p:oleObj r:id="rId3" spid="">
              <p:embed/>
              <p:pic>
                <p:nvPicPr>
                  <p:cNvPr id="342" name="" descr=""/>
                  <p:cNvPicPr/>
                  <p:nvPr/>
                </p:nvPicPr>
                <p:blipFill>
                  <a:blip r:embed="rId4"/>
                  <a:stretch/>
                </p:blipFill>
                <p:spPr>
                  <a:xfrm>
                    <a:off x="2843280" y="2060640"/>
                    <a:ext cx="3168720" cy="1025640"/>
                  </a:xfrm>
                  <a:prstGeom prst="rect">
                    <a:avLst/>
                  </a:prstGeom>
                  <a:ln w="0">
                    <a:noFill/>
                  </a:ln>
                </p:spPr>
              </p:pic>
            </p:oleObj>
          </a:graphicData>
        </a:graphic>
      </p:graphicFrame>
      <p:pic>
        <p:nvPicPr>
          <p:cNvPr id="343" name="" descr=""/>
          <p:cNvPicPr/>
          <p:nvPr/>
        </p:nvPicPr>
        <p:blipFill>
          <a:blip r:embed="rId5"/>
          <a:stretch/>
        </p:blipFill>
        <p:spPr>
          <a:xfrm>
            <a:off x="395280" y="3500280"/>
            <a:ext cx="8210520" cy="785880"/>
          </a:xfrm>
          <a:prstGeom prst="rect">
            <a:avLst/>
          </a:prstGeom>
          <a:ln w="0">
            <a:noFill/>
          </a:ln>
        </p:spPr>
      </p:pic>
      <p:sp>
        <p:nvSpPr>
          <p:cNvPr id="34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45" name=""/>
          <p:cNvGraphicFramePr/>
          <p:nvPr/>
        </p:nvGraphicFramePr>
        <p:xfrm>
          <a:off x="2050920" y="4437000"/>
          <a:ext cx="4681800" cy="1106640"/>
        </p:xfrm>
        <a:graphic>
          <a:graphicData uri="http://schemas.openxmlformats.org/presentationml/2006/ole">
            <p:oleObj r:id="rId6" spid="">
              <p:embed/>
              <p:pic>
                <p:nvPicPr>
                  <p:cNvPr id="346" name="" descr=""/>
                  <p:cNvPicPr/>
                  <p:nvPr/>
                </p:nvPicPr>
                <p:blipFill>
                  <a:blip r:embed="rId7"/>
                  <a:stretch/>
                </p:blipFill>
                <p:spPr>
                  <a:xfrm>
                    <a:off x="2050920" y="4437000"/>
                    <a:ext cx="4681800" cy="1106640"/>
                  </a:xfrm>
                  <a:prstGeom prst="rect">
                    <a:avLst/>
                  </a:prstGeom>
                  <a:ln w="0">
                    <a:noFill/>
                  </a:ln>
                </p:spPr>
              </p:pic>
            </p:oleObj>
          </a:graphicData>
        </a:graphic>
      </p:graphicFrame>
      <p:pic>
        <p:nvPicPr>
          <p:cNvPr id="347" name="" descr=""/>
          <p:cNvPicPr/>
          <p:nvPr/>
        </p:nvPicPr>
        <p:blipFill>
          <a:blip r:embed="rId8"/>
          <a:stretch/>
        </p:blipFill>
        <p:spPr>
          <a:xfrm>
            <a:off x="684360" y="5805360"/>
            <a:ext cx="5759280" cy="6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节  参数估计与假设检验</a:t>
            </a:r>
            <a:endParaRPr b="0" lang="en-US" sz="4400" spc="-1" strike="noStrike">
              <a:solidFill>
                <a:srgbClr val="000000"/>
              </a:solidFill>
              <a:latin typeface="Arial"/>
            </a:endParaRPr>
          </a:p>
        </p:txBody>
      </p:sp>
      <p:sp>
        <p:nvSpPr>
          <p:cNvPr id="3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参数估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数估计指的是根据样本统计量来推断对应总体参数的方法。它包括两部分内容：一是点估计，二是区间估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点估计</a:t>
            </a:r>
            <a:endParaRPr b="0" lang="en-US" sz="4400" spc="-1" strike="noStrike">
              <a:solidFill>
                <a:srgbClr val="000000"/>
              </a:solidFill>
              <a:latin typeface="Arial"/>
            </a:endParaRPr>
          </a:p>
        </p:txBody>
      </p:sp>
      <p:sp>
        <p:nvSpPr>
          <p:cNvPr id="351" name="PlaceHolder 2"/>
          <p:cNvSpPr>
            <a:spLocks noGrp="1"/>
          </p:cNvSpPr>
          <p:nvPr>
            <p:ph/>
          </p:nvPr>
        </p:nvSpPr>
        <p:spPr>
          <a:xfrm>
            <a:off x="395280" y="162828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点估计赋予被估计的总体参数一个估计值。点估计常用的方法是矩估计。    矩有中心矩和原点矩之分，原点矩就是随机变量</a:t>
            </a:r>
            <a:r>
              <a:rPr b="0" lang="zh-CN" sz="3200" spc="-1" strike="noStrike">
                <a:solidFill>
                  <a:srgbClr val="000000"/>
                </a:solidFill>
                <a:latin typeface="Arial"/>
              </a:rPr>
              <a:t>k</a:t>
            </a:r>
            <a:r>
              <a:rPr b="0" lang="zh-CN" sz="3200" spc="-1" strike="noStrike">
                <a:solidFill>
                  <a:srgbClr val="000000"/>
                </a:solidFill>
                <a:latin typeface="Arial"/>
              </a:rPr>
              <a:t>次幂的数学期望，即原点矩为           。中心矩是随机变量离差的</a:t>
            </a:r>
            <a:r>
              <a:rPr b="0" lang="zh-CN" sz="3200" spc="-1" strike="noStrike">
                <a:solidFill>
                  <a:srgbClr val="000000"/>
                </a:solidFill>
                <a:latin typeface="Arial"/>
              </a:rPr>
              <a:t>k</a:t>
            </a:r>
            <a:r>
              <a:rPr b="0" lang="zh-CN" sz="3200" spc="-1" strike="noStrike">
                <a:solidFill>
                  <a:srgbClr val="000000"/>
                </a:solidFill>
                <a:latin typeface="Arial"/>
              </a:rPr>
              <a:t>次幂的数学期望，即中心矩为                。 </a:t>
            </a:r>
            <a:endParaRPr b="0" lang="en-US" sz="3200" spc="-1" strike="noStrike">
              <a:solidFill>
                <a:srgbClr val="000000"/>
              </a:solidFill>
              <a:latin typeface="Arial"/>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3" name=""/>
          <p:cNvGraphicFramePr/>
          <p:nvPr/>
        </p:nvGraphicFramePr>
        <p:xfrm>
          <a:off x="6659640" y="3141720"/>
          <a:ext cx="1224000" cy="554040"/>
        </p:xfrm>
        <a:graphic>
          <a:graphicData uri="http://schemas.openxmlformats.org/presentationml/2006/ole">
            <p:oleObj r:id="rId1" spid="">
              <p:embed/>
              <p:pic>
                <p:nvPicPr>
                  <p:cNvPr id="354" name="" descr=""/>
                  <p:cNvPicPr/>
                  <p:nvPr/>
                </p:nvPicPr>
                <p:blipFill>
                  <a:blip r:embed="rId2"/>
                  <a:stretch/>
                </p:blipFill>
                <p:spPr>
                  <a:xfrm>
                    <a:off x="6659640" y="3141720"/>
                    <a:ext cx="1224000" cy="554040"/>
                  </a:xfrm>
                  <a:prstGeom prst="rect">
                    <a:avLst/>
                  </a:prstGeom>
                  <a:ln w="0">
                    <a:noFill/>
                  </a:ln>
                </p:spPr>
              </p:pic>
            </p:oleObj>
          </a:graphicData>
        </a:graphic>
      </p:graphicFrame>
      <p:sp>
        <p:nvSpPr>
          <p:cNvPr id="3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3708360" y="4076640"/>
          <a:ext cx="1657440" cy="530280"/>
        </p:xfrm>
        <a:graphic>
          <a:graphicData uri="http://schemas.openxmlformats.org/presentationml/2006/ole">
            <p:oleObj r:id="rId3" spid="">
              <p:embed/>
              <p:pic>
                <p:nvPicPr>
                  <p:cNvPr id="357" name="" descr=""/>
                  <p:cNvPicPr/>
                  <p:nvPr/>
                </p:nvPicPr>
                <p:blipFill>
                  <a:blip r:embed="rId4"/>
                  <a:stretch/>
                </p:blipFill>
                <p:spPr>
                  <a:xfrm>
                    <a:off x="3708360" y="4076640"/>
                    <a:ext cx="165744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区间估计</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置信区间与置信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0" name="" descr=""/>
          <p:cNvPicPr/>
          <p:nvPr/>
        </p:nvPicPr>
        <p:blipFill>
          <a:blip r:embed="rId1"/>
          <a:stretch/>
        </p:blipFill>
        <p:spPr>
          <a:xfrm>
            <a:off x="468360" y="2852640"/>
            <a:ext cx="8209080" cy="218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2" name="" descr=""/>
          <p:cNvPicPr/>
          <p:nvPr/>
        </p:nvPicPr>
        <p:blipFill>
          <a:blip r:embed="rId1"/>
          <a:stretch/>
        </p:blipFill>
        <p:spPr>
          <a:xfrm>
            <a:off x="179280" y="1484280"/>
            <a:ext cx="8569440" cy="34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4" name="" descr=""/>
          <p:cNvPicPr/>
          <p:nvPr/>
        </p:nvPicPr>
        <p:blipFill>
          <a:blip r:embed="rId1"/>
          <a:stretch/>
        </p:blipFill>
        <p:spPr>
          <a:xfrm>
            <a:off x="1187280" y="549360"/>
            <a:ext cx="5453280" cy="561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 </a:t>
            </a:r>
            <a:r>
              <a:rPr b="1" lang="zh-CN" sz="4000" spc="-1" strike="noStrike">
                <a:solidFill>
                  <a:srgbClr val="00007d"/>
                </a:solidFill>
                <a:latin typeface="黑体"/>
                <a:ea typeface="黑体"/>
              </a:rPr>
              <a:t>二、假设检验</a:t>
            </a:r>
            <a:endParaRPr b="0" lang="en-US" sz="4000" spc="-1" strike="noStrike">
              <a:solidFill>
                <a:srgbClr val="000000"/>
              </a:solidFill>
              <a:latin typeface="Arial"/>
            </a:endParaRPr>
          </a:p>
        </p:txBody>
      </p:sp>
      <p:sp>
        <p:nvSpPr>
          <p:cNvPr id="366" name=""/>
          <p:cNvSpPr txBox="1"/>
          <p:nvPr/>
        </p:nvSpPr>
        <p:spPr>
          <a:xfrm>
            <a:off x="468360" y="1483920"/>
            <a:ext cx="8229600" cy="38862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1606320" y="1366920"/>
            <a:ext cx="3583440" cy="152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什么是假设</a:t>
            </a:r>
            <a:r>
              <a:rPr b="0" lang="zh-CN" sz="3200" spc="-1" strike="noStrike">
                <a:solidFill>
                  <a:srgbClr val="660033"/>
                </a:solidFill>
                <a:latin typeface="黑体"/>
                <a:ea typeface="黑体"/>
              </a:rPr>
              <a:t>?</a:t>
            </a:r>
            <a:endParaRPr b="0" lang="en-US" sz="3200" spc="-1" strike="noStrike">
              <a:solidFill>
                <a:srgbClr val="000000"/>
              </a:solidFill>
              <a:latin typeface="Arial"/>
            </a:endParaRPr>
          </a:p>
          <a:p>
            <a:pP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对总体参数的具体数值所作的陈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
          <p:cNvSpPr/>
          <p:nvPr/>
        </p:nvSpPr>
        <p:spPr>
          <a:xfrm>
            <a:off x="6516720" y="2349360"/>
            <a:ext cx="23860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Arial"/>
              </a:rPr>
              <a:t>我认为这种新药的疗效比原有的药物更有效</a:t>
            </a:r>
            <a:r>
              <a:rPr b="0" lang="zh-CN" sz="2000" spc="-1" strike="noStrike">
                <a:solidFill>
                  <a:srgbClr val="006600"/>
                </a:solidFill>
                <a:latin typeface="Arial"/>
              </a:rPr>
              <a:t>!</a:t>
            </a:r>
            <a:endParaRPr b="0" lang="en-US" sz="2000" spc="-1" strike="noStrike">
              <a:solidFill>
                <a:srgbClr val="000000"/>
              </a:solidFill>
              <a:latin typeface="Arial"/>
            </a:endParaRPr>
          </a:p>
        </p:txBody>
      </p:sp>
      <p:sp>
        <p:nvSpPr>
          <p:cNvPr id="369" name=""/>
          <p:cNvSpPr/>
          <p:nvPr/>
        </p:nvSpPr>
        <p:spPr>
          <a:xfrm>
            <a:off x="6443640" y="2421000"/>
            <a:ext cx="2440080" cy="1177920"/>
          </a:xfrm>
          <a:custGeom>
            <a:avLst/>
            <a:gdLst>
              <a:gd name="textAreaLeft" fmla="*/ 90360 w 2440080"/>
              <a:gd name="textAreaRight" fmla="*/ 2349720 w 2440080"/>
              <a:gd name="textAreaTop" fmla="*/ 43560 h 1177920"/>
              <a:gd name="textAreaBottom" fmla="*/ 940680 h 117792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noFill/>
          <a:ln w="1260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 name=""/>
          <p:cNvGrpSpPr/>
          <p:nvPr/>
        </p:nvGrpSpPr>
        <p:grpSpPr>
          <a:xfrm>
            <a:off x="5003640" y="3716280"/>
            <a:ext cx="2305080" cy="2640240"/>
            <a:chOff x="5003640" y="3716280"/>
            <a:chExt cx="2305080" cy="2640240"/>
          </a:xfrm>
        </p:grpSpPr>
        <p:sp>
          <p:nvSpPr>
            <p:cNvPr id="371" name=""/>
            <p:cNvSpPr/>
            <p:nvPr/>
          </p:nvSpPr>
          <p:spPr>
            <a:xfrm>
              <a:off x="5003640" y="3732120"/>
              <a:ext cx="2305080" cy="2624400"/>
            </a:xfrm>
            <a:custGeom>
              <a:avLst/>
              <a:gdLst/>
              <a:ahLst/>
              <a:rect l="l" t="t" r="r" b="b"/>
              <a:pathLst>
                <a:path w="10716" h="10654">
                  <a:moveTo>
                    <a:pt x="5288" y="0"/>
                  </a:moveTo>
                  <a:lnTo>
                    <a:pt x="5427" y="0"/>
                  </a:lnTo>
                  <a:lnTo>
                    <a:pt x="5427" y="66"/>
                  </a:lnTo>
                  <a:lnTo>
                    <a:pt x="5494" y="66"/>
                  </a:lnTo>
                  <a:lnTo>
                    <a:pt x="5494" y="195"/>
                  </a:lnTo>
                  <a:lnTo>
                    <a:pt x="5710" y="195"/>
                  </a:lnTo>
                  <a:lnTo>
                    <a:pt x="5710" y="263"/>
                  </a:lnTo>
                  <a:lnTo>
                    <a:pt x="5849" y="263"/>
                  </a:lnTo>
                  <a:lnTo>
                    <a:pt x="5849" y="324"/>
                  </a:lnTo>
                  <a:lnTo>
                    <a:pt x="5992" y="324"/>
                  </a:lnTo>
                  <a:lnTo>
                    <a:pt x="5992" y="391"/>
                  </a:lnTo>
                  <a:lnTo>
                    <a:pt x="6060" y="391"/>
                  </a:lnTo>
                  <a:lnTo>
                    <a:pt x="6060" y="458"/>
                  </a:lnTo>
                  <a:lnTo>
                    <a:pt x="6132" y="458"/>
                  </a:lnTo>
                  <a:lnTo>
                    <a:pt x="6132" y="524"/>
                  </a:lnTo>
                  <a:lnTo>
                    <a:pt x="6204" y="524"/>
                  </a:lnTo>
                  <a:lnTo>
                    <a:pt x="6204" y="586"/>
                  </a:lnTo>
                  <a:lnTo>
                    <a:pt x="6769" y="586"/>
                  </a:lnTo>
                  <a:lnTo>
                    <a:pt x="6769" y="653"/>
                  </a:lnTo>
                  <a:lnTo>
                    <a:pt x="6347" y="653"/>
                  </a:lnTo>
                  <a:lnTo>
                    <a:pt x="6347" y="720"/>
                  </a:lnTo>
                  <a:lnTo>
                    <a:pt x="6414" y="720"/>
                  </a:lnTo>
                  <a:lnTo>
                    <a:pt x="6414" y="782"/>
                  </a:lnTo>
                  <a:lnTo>
                    <a:pt x="6486" y="782"/>
                  </a:lnTo>
                  <a:lnTo>
                    <a:pt x="6486" y="849"/>
                  </a:lnTo>
                  <a:lnTo>
                    <a:pt x="6907" y="849"/>
                  </a:lnTo>
                  <a:lnTo>
                    <a:pt x="6907" y="915"/>
                  </a:lnTo>
                  <a:lnTo>
                    <a:pt x="6978" y="915"/>
                  </a:lnTo>
                  <a:lnTo>
                    <a:pt x="6978" y="982"/>
                  </a:lnTo>
                  <a:lnTo>
                    <a:pt x="7051" y="982"/>
                  </a:lnTo>
                  <a:lnTo>
                    <a:pt x="7051" y="915"/>
                  </a:lnTo>
                  <a:lnTo>
                    <a:pt x="7119" y="915"/>
                  </a:lnTo>
                  <a:lnTo>
                    <a:pt x="7119" y="1244"/>
                  </a:lnTo>
                  <a:lnTo>
                    <a:pt x="7190" y="1244"/>
                  </a:lnTo>
                  <a:lnTo>
                    <a:pt x="7190" y="1373"/>
                  </a:lnTo>
                  <a:lnTo>
                    <a:pt x="7257" y="1373"/>
                  </a:lnTo>
                  <a:lnTo>
                    <a:pt x="7257" y="1568"/>
                  </a:lnTo>
                  <a:lnTo>
                    <a:pt x="7329" y="1568"/>
                  </a:lnTo>
                  <a:lnTo>
                    <a:pt x="7329" y="1701"/>
                  </a:lnTo>
                  <a:lnTo>
                    <a:pt x="7401" y="1701"/>
                  </a:lnTo>
                  <a:lnTo>
                    <a:pt x="7401" y="1959"/>
                  </a:lnTo>
                  <a:lnTo>
                    <a:pt x="7329" y="1959"/>
                  </a:lnTo>
                  <a:lnTo>
                    <a:pt x="7329" y="2092"/>
                  </a:lnTo>
                  <a:lnTo>
                    <a:pt x="7257" y="2092"/>
                  </a:lnTo>
                  <a:lnTo>
                    <a:pt x="7257" y="2160"/>
                  </a:lnTo>
                  <a:lnTo>
                    <a:pt x="7190" y="2160"/>
                  </a:lnTo>
                  <a:lnTo>
                    <a:pt x="7190" y="2221"/>
                  </a:lnTo>
                  <a:lnTo>
                    <a:pt x="7257" y="2221"/>
                  </a:lnTo>
                  <a:lnTo>
                    <a:pt x="7257" y="2351"/>
                  </a:lnTo>
                  <a:lnTo>
                    <a:pt x="7329" y="2351"/>
                  </a:lnTo>
                  <a:lnTo>
                    <a:pt x="7329" y="2550"/>
                  </a:lnTo>
                  <a:lnTo>
                    <a:pt x="7401" y="2550"/>
                  </a:lnTo>
                  <a:lnTo>
                    <a:pt x="7401" y="2746"/>
                  </a:lnTo>
                  <a:lnTo>
                    <a:pt x="7472" y="2746"/>
                  </a:lnTo>
                  <a:lnTo>
                    <a:pt x="7472" y="3070"/>
                  </a:lnTo>
                  <a:lnTo>
                    <a:pt x="7401" y="3070"/>
                  </a:lnTo>
                  <a:lnTo>
                    <a:pt x="7401" y="3270"/>
                  </a:lnTo>
                  <a:lnTo>
                    <a:pt x="7472" y="3270"/>
                  </a:lnTo>
                  <a:lnTo>
                    <a:pt x="7472" y="3332"/>
                  </a:lnTo>
                  <a:lnTo>
                    <a:pt x="7544" y="3332"/>
                  </a:lnTo>
                  <a:lnTo>
                    <a:pt x="7544" y="3399"/>
                  </a:lnTo>
                  <a:lnTo>
                    <a:pt x="7611" y="3399"/>
                  </a:lnTo>
                  <a:lnTo>
                    <a:pt x="7611" y="3661"/>
                  </a:lnTo>
                  <a:lnTo>
                    <a:pt x="7683" y="3661"/>
                  </a:lnTo>
                  <a:lnTo>
                    <a:pt x="7683" y="3727"/>
                  </a:lnTo>
                  <a:lnTo>
                    <a:pt x="7755" y="3727"/>
                  </a:lnTo>
                  <a:lnTo>
                    <a:pt x="7755" y="3790"/>
                  </a:lnTo>
                  <a:lnTo>
                    <a:pt x="7823" y="3790"/>
                  </a:lnTo>
                  <a:lnTo>
                    <a:pt x="7823" y="3856"/>
                  </a:lnTo>
                  <a:lnTo>
                    <a:pt x="8038" y="3856"/>
                  </a:lnTo>
                  <a:lnTo>
                    <a:pt x="8038" y="3919"/>
                  </a:lnTo>
                  <a:lnTo>
                    <a:pt x="8176" y="3919"/>
                  </a:lnTo>
                  <a:lnTo>
                    <a:pt x="8176" y="3986"/>
                  </a:lnTo>
                  <a:lnTo>
                    <a:pt x="8249" y="3986"/>
                  </a:lnTo>
                  <a:lnTo>
                    <a:pt x="8249" y="4118"/>
                  </a:lnTo>
                  <a:lnTo>
                    <a:pt x="8532" y="4118"/>
                  </a:lnTo>
                  <a:lnTo>
                    <a:pt x="8532" y="4185"/>
                  </a:lnTo>
                  <a:lnTo>
                    <a:pt x="8670" y="4185"/>
                  </a:lnTo>
                  <a:lnTo>
                    <a:pt x="8670" y="4252"/>
                  </a:lnTo>
                  <a:lnTo>
                    <a:pt x="8741" y="4252"/>
                  </a:lnTo>
                  <a:lnTo>
                    <a:pt x="8741" y="4315"/>
                  </a:lnTo>
                  <a:lnTo>
                    <a:pt x="8809" y="4315"/>
                  </a:lnTo>
                  <a:lnTo>
                    <a:pt x="8809" y="4376"/>
                  </a:lnTo>
                  <a:lnTo>
                    <a:pt x="8882" y="4376"/>
                  </a:lnTo>
                  <a:lnTo>
                    <a:pt x="8882" y="4443"/>
                  </a:lnTo>
                  <a:lnTo>
                    <a:pt x="8953" y="4443"/>
                  </a:lnTo>
                  <a:lnTo>
                    <a:pt x="8953" y="4376"/>
                  </a:lnTo>
                  <a:lnTo>
                    <a:pt x="9517" y="4376"/>
                  </a:lnTo>
                  <a:lnTo>
                    <a:pt x="9517" y="4443"/>
                  </a:lnTo>
                  <a:lnTo>
                    <a:pt x="9657" y="4443"/>
                  </a:lnTo>
                  <a:lnTo>
                    <a:pt x="9657" y="4510"/>
                  </a:lnTo>
                  <a:lnTo>
                    <a:pt x="9728" y="4510"/>
                  </a:lnTo>
                  <a:lnTo>
                    <a:pt x="9728" y="4577"/>
                  </a:lnTo>
                  <a:lnTo>
                    <a:pt x="9800" y="4577"/>
                  </a:lnTo>
                  <a:lnTo>
                    <a:pt x="9800" y="4643"/>
                  </a:lnTo>
                  <a:lnTo>
                    <a:pt x="9868" y="4643"/>
                  </a:lnTo>
                  <a:lnTo>
                    <a:pt x="9868" y="4772"/>
                  </a:lnTo>
                  <a:lnTo>
                    <a:pt x="9939" y="4772"/>
                  </a:lnTo>
                  <a:lnTo>
                    <a:pt x="9939" y="4838"/>
                  </a:lnTo>
                  <a:lnTo>
                    <a:pt x="10007" y="4838"/>
                  </a:lnTo>
                  <a:lnTo>
                    <a:pt x="10007" y="4901"/>
                  </a:lnTo>
                  <a:lnTo>
                    <a:pt x="10078" y="4901"/>
                  </a:lnTo>
                  <a:lnTo>
                    <a:pt x="10078" y="5100"/>
                  </a:lnTo>
                  <a:lnTo>
                    <a:pt x="10151" y="5100"/>
                  </a:lnTo>
                  <a:lnTo>
                    <a:pt x="10151" y="5229"/>
                  </a:lnTo>
                  <a:lnTo>
                    <a:pt x="10222" y="5229"/>
                  </a:lnTo>
                  <a:lnTo>
                    <a:pt x="10222" y="5359"/>
                  </a:lnTo>
                  <a:lnTo>
                    <a:pt x="10293" y="5359"/>
                  </a:lnTo>
                  <a:lnTo>
                    <a:pt x="10293" y="5487"/>
                  </a:lnTo>
                  <a:lnTo>
                    <a:pt x="10366" y="5487"/>
                  </a:lnTo>
                  <a:lnTo>
                    <a:pt x="10366" y="5555"/>
                  </a:lnTo>
                  <a:lnTo>
                    <a:pt x="10433" y="5555"/>
                  </a:lnTo>
                  <a:lnTo>
                    <a:pt x="10433" y="5688"/>
                  </a:lnTo>
                  <a:lnTo>
                    <a:pt x="10504" y="5688"/>
                  </a:lnTo>
                  <a:lnTo>
                    <a:pt x="10504" y="5950"/>
                  </a:lnTo>
                  <a:lnTo>
                    <a:pt x="10572" y="5950"/>
                  </a:lnTo>
                  <a:lnTo>
                    <a:pt x="10572" y="6144"/>
                  </a:lnTo>
                  <a:lnTo>
                    <a:pt x="10644" y="6144"/>
                  </a:lnTo>
                  <a:lnTo>
                    <a:pt x="10644" y="6536"/>
                  </a:lnTo>
                  <a:lnTo>
                    <a:pt x="10716" y="6536"/>
                  </a:lnTo>
                  <a:lnTo>
                    <a:pt x="10716" y="7646"/>
                  </a:lnTo>
                  <a:lnTo>
                    <a:pt x="10644" y="7646"/>
                  </a:lnTo>
                  <a:lnTo>
                    <a:pt x="10644" y="7779"/>
                  </a:lnTo>
                  <a:lnTo>
                    <a:pt x="10572" y="7779"/>
                  </a:lnTo>
                  <a:lnTo>
                    <a:pt x="10572" y="7908"/>
                  </a:lnTo>
                  <a:lnTo>
                    <a:pt x="10504" y="7908"/>
                  </a:lnTo>
                  <a:lnTo>
                    <a:pt x="10504" y="7972"/>
                  </a:lnTo>
                  <a:lnTo>
                    <a:pt x="10433" y="7972"/>
                  </a:lnTo>
                  <a:lnTo>
                    <a:pt x="10433" y="8038"/>
                  </a:lnTo>
                  <a:lnTo>
                    <a:pt x="10366" y="8038"/>
                  </a:lnTo>
                  <a:lnTo>
                    <a:pt x="10366" y="8105"/>
                  </a:lnTo>
                  <a:lnTo>
                    <a:pt x="10293" y="8105"/>
                  </a:lnTo>
                  <a:lnTo>
                    <a:pt x="10293" y="8172"/>
                  </a:lnTo>
                  <a:lnTo>
                    <a:pt x="10222" y="8172"/>
                  </a:lnTo>
                  <a:lnTo>
                    <a:pt x="10222" y="8237"/>
                  </a:lnTo>
                  <a:lnTo>
                    <a:pt x="10151" y="8237"/>
                  </a:lnTo>
                  <a:lnTo>
                    <a:pt x="10151" y="8304"/>
                  </a:lnTo>
                  <a:lnTo>
                    <a:pt x="10078" y="8304"/>
                  </a:lnTo>
                  <a:lnTo>
                    <a:pt x="10078" y="8495"/>
                  </a:lnTo>
                  <a:lnTo>
                    <a:pt x="10151" y="8495"/>
                  </a:lnTo>
                  <a:lnTo>
                    <a:pt x="10151" y="8696"/>
                  </a:lnTo>
                  <a:lnTo>
                    <a:pt x="10222" y="8696"/>
                  </a:lnTo>
                  <a:lnTo>
                    <a:pt x="10222" y="8953"/>
                  </a:lnTo>
                  <a:lnTo>
                    <a:pt x="10293" y="8953"/>
                  </a:lnTo>
                  <a:lnTo>
                    <a:pt x="10293" y="9152"/>
                  </a:lnTo>
                  <a:lnTo>
                    <a:pt x="10366" y="9152"/>
                  </a:lnTo>
                  <a:lnTo>
                    <a:pt x="10366" y="9543"/>
                  </a:lnTo>
                  <a:lnTo>
                    <a:pt x="10433" y="9543"/>
                  </a:lnTo>
                  <a:lnTo>
                    <a:pt x="10433" y="9872"/>
                  </a:lnTo>
                  <a:lnTo>
                    <a:pt x="10366" y="9872"/>
                  </a:lnTo>
                  <a:lnTo>
                    <a:pt x="10366" y="9935"/>
                  </a:lnTo>
                  <a:lnTo>
                    <a:pt x="10293" y="9935"/>
                  </a:lnTo>
                  <a:lnTo>
                    <a:pt x="10293" y="10001"/>
                  </a:lnTo>
                  <a:lnTo>
                    <a:pt x="10222" y="10001"/>
                  </a:lnTo>
                  <a:lnTo>
                    <a:pt x="10222" y="10063"/>
                  </a:lnTo>
                  <a:lnTo>
                    <a:pt x="10078" y="10063"/>
                  </a:lnTo>
                  <a:lnTo>
                    <a:pt x="10078" y="10130"/>
                  </a:lnTo>
                  <a:lnTo>
                    <a:pt x="9585" y="10130"/>
                  </a:lnTo>
                  <a:lnTo>
                    <a:pt x="9585" y="10197"/>
                  </a:lnTo>
                  <a:lnTo>
                    <a:pt x="8809" y="10197"/>
                  </a:lnTo>
                  <a:lnTo>
                    <a:pt x="8809" y="10130"/>
                  </a:lnTo>
                  <a:lnTo>
                    <a:pt x="7611" y="10130"/>
                  </a:lnTo>
                  <a:lnTo>
                    <a:pt x="7611" y="10063"/>
                  </a:lnTo>
                  <a:lnTo>
                    <a:pt x="7257" y="10063"/>
                  </a:lnTo>
                  <a:lnTo>
                    <a:pt x="7257" y="10001"/>
                  </a:lnTo>
                  <a:lnTo>
                    <a:pt x="6486" y="10001"/>
                  </a:lnTo>
                  <a:lnTo>
                    <a:pt x="6486" y="9935"/>
                  </a:lnTo>
                  <a:lnTo>
                    <a:pt x="5920" y="9935"/>
                  </a:lnTo>
                  <a:lnTo>
                    <a:pt x="5920" y="10001"/>
                  </a:lnTo>
                  <a:lnTo>
                    <a:pt x="5849" y="10001"/>
                  </a:lnTo>
                  <a:lnTo>
                    <a:pt x="5849" y="10063"/>
                  </a:lnTo>
                  <a:lnTo>
                    <a:pt x="5782" y="10063"/>
                  </a:lnTo>
                  <a:lnTo>
                    <a:pt x="5782" y="10197"/>
                  </a:lnTo>
                  <a:lnTo>
                    <a:pt x="5567" y="10197"/>
                  </a:lnTo>
                  <a:lnTo>
                    <a:pt x="5567" y="10130"/>
                  </a:lnTo>
                  <a:lnTo>
                    <a:pt x="5494" y="10130"/>
                  </a:lnTo>
                  <a:lnTo>
                    <a:pt x="5494" y="10001"/>
                  </a:lnTo>
                  <a:lnTo>
                    <a:pt x="5359" y="10001"/>
                  </a:lnTo>
                  <a:lnTo>
                    <a:pt x="5359" y="9935"/>
                  </a:lnTo>
                  <a:lnTo>
                    <a:pt x="5144" y="9935"/>
                  </a:lnTo>
                  <a:lnTo>
                    <a:pt x="5144" y="10264"/>
                  </a:lnTo>
                  <a:lnTo>
                    <a:pt x="5073" y="10264"/>
                  </a:lnTo>
                  <a:lnTo>
                    <a:pt x="5073" y="10392"/>
                  </a:lnTo>
                  <a:lnTo>
                    <a:pt x="5002" y="10392"/>
                  </a:lnTo>
                  <a:lnTo>
                    <a:pt x="5002" y="10459"/>
                  </a:lnTo>
                  <a:lnTo>
                    <a:pt x="4934" y="10459"/>
                  </a:lnTo>
                  <a:lnTo>
                    <a:pt x="4934" y="10522"/>
                  </a:lnTo>
                  <a:lnTo>
                    <a:pt x="4794" y="10522"/>
                  </a:lnTo>
                  <a:lnTo>
                    <a:pt x="4794" y="10589"/>
                  </a:lnTo>
                  <a:lnTo>
                    <a:pt x="3948" y="10589"/>
                  </a:lnTo>
                  <a:lnTo>
                    <a:pt x="3948" y="10654"/>
                  </a:lnTo>
                  <a:lnTo>
                    <a:pt x="3525" y="10654"/>
                  </a:lnTo>
                  <a:lnTo>
                    <a:pt x="3525" y="10589"/>
                  </a:lnTo>
                  <a:lnTo>
                    <a:pt x="3032" y="10589"/>
                  </a:lnTo>
                  <a:lnTo>
                    <a:pt x="3032" y="10522"/>
                  </a:lnTo>
                  <a:lnTo>
                    <a:pt x="2606" y="10522"/>
                  </a:lnTo>
                  <a:lnTo>
                    <a:pt x="2606" y="10459"/>
                  </a:lnTo>
                  <a:lnTo>
                    <a:pt x="2395" y="10459"/>
                  </a:lnTo>
                  <a:lnTo>
                    <a:pt x="2395" y="10392"/>
                  </a:lnTo>
                  <a:lnTo>
                    <a:pt x="2256" y="10392"/>
                  </a:lnTo>
                  <a:lnTo>
                    <a:pt x="2256" y="10330"/>
                  </a:lnTo>
                  <a:lnTo>
                    <a:pt x="2112" y="10330"/>
                  </a:lnTo>
                  <a:lnTo>
                    <a:pt x="2112" y="10264"/>
                  </a:lnTo>
                  <a:lnTo>
                    <a:pt x="1973" y="10264"/>
                  </a:lnTo>
                  <a:lnTo>
                    <a:pt x="1973" y="10197"/>
                  </a:lnTo>
                  <a:lnTo>
                    <a:pt x="1906" y="10197"/>
                  </a:lnTo>
                  <a:lnTo>
                    <a:pt x="1906" y="10130"/>
                  </a:lnTo>
                  <a:lnTo>
                    <a:pt x="1835" y="10130"/>
                  </a:lnTo>
                  <a:lnTo>
                    <a:pt x="1835" y="10063"/>
                  </a:lnTo>
                  <a:lnTo>
                    <a:pt x="1691" y="10063"/>
                  </a:lnTo>
                  <a:lnTo>
                    <a:pt x="1691" y="10001"/>
                  </a:lnTo>
                  <a:lnTo>
                    <a:pt x="1619" y="10001"/>
                  </a:lnTo>
                  <a:lnTo>
                    <a:pt x="1619" y="9935"/>
                  </a:lnTo>
                  <a:lnTo>
                    <a:pt x="1548" y="9935"/>
                  </a:lnTo>
                  <a:lnTo>
                    <a:pt x="1548" y="9872"/>
                  </a:lnTo>
                  <a:lnTo>
                    <a:pt x="1408" y="9872"/>
                  </a:lnTo>
                  <a:lnTo>
                    <a:pt x="1408" y="9806"/>
                  </a:lnTo>
                  <a:lnTo>
                    <a:pt x="1341" y="9806"/>
                  </a:lnTo>
                  <a:lnTo>
                    <a:pt x="1341" y="9740"/>
                  </a:lnTo>
                  <a:lnTo>
                    <a:pt x="1270" y="9740"/>
                  </a:lnTo>
                  <a:lnTo>
                    <a:pt x="1270" y="9673"/>
                  </a:lnTo>
                  <a:lnTo>
                    <a:pt x="1198" y="9673"/>
                  </a:lnTo>
                  <a:lnTo>
                    <a:pt x="1198" y="9543"/>
                  </a:lnTo>
                  <a:lnTo>
                    <a:pt x="1126" y="9543"/>
                  </a:lnTo>
                  <a:lnTo>
                    <a:pt x="1126" y="9281"/>
                  </a:lnTo>
                  <a:lnTo>
                    <a:pt x="1198" y="9281"/>
                  </a:lnTo>
                  <a:lnTo>
                    <a:pt x="1198" y="8953"/>
                  </a:lnTo>
                  <a:lnTo>
                    <a:pt x="1270" y="8953"/>
                  </a:lnTo>
                  <a:lnTo>
                    <a:pt x="1270" y="8824"/>
                  </a:lnTo>
                  <a:lnTo>
                    <a:pt x="1341" y="8824"/>
                  </a:lnTo>
                  <a:lnTo>
                    <a:pt x="1341" y="8628"/>
                  </a:lnTo>
                  <a:lnTo>
                    <a:pt x="1408" y="8628"/>
                  </a:lnTo>
                  <a:lnTo>
                    <a:pt x="1408" y="8495"/>
                  </a:lnTo>
                  <a:lnTo>
                    <a:pt x="1480" y="8495"/>
                  </a:lnTo>
                  <a:lnTo>
                    <a:pt x="1480" y="8367"/>
                  </a:lnTo>
                  <a:lnTo>
                    <a:pt x="1548" y="8367"/>
                  </a:lnTo>
                  <a:lnTo>
                    <a:pt x="1548" y="8304"/>
                  </a:lnTo>
                  <a:lnTo>
                    <a:pt x="1619" y="8304"/>
                  </a:lnTo>
                  <a:lnTo>
                    <a:pt x="1619" y="8237"/>
                  </a:lnTo>
                  <a:lnTo>
                    <a:pt x="1691" y="8237"/>
                  </a:lnTo>
                  <a:lnTo>
                    <a:pt x="1691" y="8172"/>
                  </a:lnTo>
                  <a:lnTo>
                    <a:pt x="1763" y="8172"/>
                  </a:lnTo>
                  <a:lnTo>
                    <a:pt x="1763" y="8105"/>
                  </a:lnTo>
                  <a:lnTo>
                    <a:pt x="1619" y="8105"/>
                  </a:lnTo>
                  <a:lnTo>
                    <a:pt x="1619" y="8038"/>
                  </a:lnTo>
                  <a:lnTo>
                    <a:pt x="1480" y="8038"/>
                  </a:lnTo>
                  <a:lnTo>
                    <a:pt x="1480" y="7972"/>
                  </a:lnTo>
                  <a:lnTo>
                    <a:pt x="1341" y="7972"/>
                  </a:lnTo>
                  <a:lnTo>
                    <a:pt x="1341" y="7908"/>
                  </a:lnTo>
                  <a:lnTo>
                    <a:pt x="1198" y="7908"/>
                  </a:lnTo>
                  <a:lnTo>
                    <a:pt x="1198" y="7843"/>
                  </a:lnTo>
                  <a:lnTo>
                    <a:pt x="1059" y="7843"/>
                  </a:lnTo>
                  <a:lnTo>
                    <a:pt x="1059" y="7779"/>
                  </a:lnTo>
                  <a:lnTo>
                    <a:pt x="987" y="7779"/>
                  </a:lnTo>
                  <a:lnTo>
                    <a:pt x="987" y="7713"/>
                  </a:lnTo>
                  <a:lnTo>
                    <a:pt x="848" y="7713"/>
                  </a:lnTo>
                  <a:lnTo>
                    <a:pt x="848" y="7646"/>
                  </a:lnTo>
                  <a:lnTo>
                    <a:pt x="776" y="7646"/>
                  </a:lnTo>
                  <a:lnTo>
                    <a:pt x="776" y="7584"/>
                  </a:lnTo>
                  <a:lnTo>
                    <a:pt x="704" y="7584"/>
                  </a:lnTo>
                  <a:lnTo>
                    <a:pt x="704" y="7518"/>
                  </a:lnTo>
                  <a:lnTo>
                    <a:pt x="633" y="7518"/>
                  </a:lnTo>
                  <a:lnTo>
                    <a:pt x="633" y="7451"/>
                  </a:lnTo>
                  <a:lnTo>
                    <a:pt x="560" y="7451"/>
                  </a:lnTo>
                  <a:lnTo>
                    <a:pt x="560" y="7384"/>
                  </a:lnTo>
                  <a:lnTo>
                    <a:pt x="493" y="7384"/>
                  </a:lnTo>
                  <a:lnTo>
                    <a:pt x="493" y="7323"/>
                  </a:lnTo>
                  <a:lnTo>
                    <a:pt x="422" y="7323"/>
                  </a:lnTo>
                  <a:lnTo>
                    <a:pt x="422" y="7255"/>
                  </a:lnTo>
                  <a:lnTo>
                    <a:pt x="351" y="7255"/>
                  </a:lnTo>
                  <a:lnTo>
                    <a:pt x="351" y="7122"/>
                  </a:lnTo>
                  <a:lnTo>
                    <a:pt x="283" y="7122"/>
                  </a:lnTo>
                  <a:lnTo>
                    <a:pt x="283" y="6928"/>
                  </a:lnTo>
                  <a:lnTo>
                    <a:pt x="210" y="6928"/>
                  </a:lnTo>
                  <a:lnTo>
                    <a:pt x="210" y="5816"/>
                  </a:lnTo>
                  <a:lnTo>
                    <a:pt x="143" y="5816"/>
                  </a:lnTo>
                  <a:lnTo>
                    <a:pt x="143" y="5621"/>
                  </a:lnTo>
                  <a:lnTo>
                    <a:pt x="72" y="5621"/>
                  </a:lnTo>
                  <a:lnTo>
                    <a:pt x="72" y="5426"/>
                  </a:lnTo>
                  <a:lnTo>
                    <a:pt x="0" y="5426"/>
                  </a:lnTo>
                  <a:lnTo>
                    <a:pt x="0" y="4967"/>
                  </a:lnTo>
                  <a:lnTo>
                    <a:pt x="72" y="4967"/>
                  </a:lnTo>
                  <a:lnTo>
                    <a:pt x="72" y="4901"/>
                  </a:lnTo>
                  <a:lnTo>
                    <a:pt x="143" y="4901"/>
                  </a:lnTo>
                  <a:lnTo>
                    <a:pt x="143" y="4643"/>
                  </a:lnTo>
                  <a:lnTo>
                    <a:pt x="210" y="4643"/>
                  </a:lnTo>
                  <a:lnTo>
                    <a:pt x="210" y="4901"/>
                  </a:lnTo>
                  <a:lnTo>
                    <a:pt x="560" y="4901"/>
                  </a:lnTo>
                  <a:lnTo>
                    <a:pt x="560" y="4838"/>
                  </a:lnTo>
                  <a:lnTo>
                    <a:pt x="704" y="4838"/>
                  </a:lnTo>
                  <a:lnTo>
                    <a:pt x="704" y="4772"/>
                  </a:lnTo>
                  <a:lnTo>
                    <a:pt x="916" y="4772"/>
                  </a:lnTo>
                  <a:lnTo>
                    <a:pt x="916" y="4705"/>
                  </a:lnTo>
                  <a:lnTo>
                    <a:pt x="1126" y="4705"/>
                  </a:lnTo>
                  <a:lnTo>
                    <a:pt x="1126" y="4643"/>
                  </a:lnTo>
                  <a:lnTo>
                    <a:pt x="1341" y="4643"/>
                  </a:lnTo>
                  <a:lnTo>
                    <a:pt x="1341" y="4577"/>
                  </a:lnTo>
                  <a:lnTo>
                    <a:pt x="1619" y="4577"/>
                  </a:lnTo>
                  <a:lnTo>
                    <a:pt x="1619" y="4510"/>
                  </a:lnTo>
                  <a:lnTo>
                    <a:pt x="1835" y="4510"/>
                  </a:lnTo>
                  <a:lnTo>
                    <a:pt x="1835" y="4443"/>
                  </a:lnTo>
                  <a:lnTo>
                    <a:pt x="1973" y="4443"/>
                  </a:lnTo>
                  <a:lnTo>
                    <a:pt x="1973" y="4376"/>
                  </a:lnTo>
                  <a:lnTo>
                    <a:pt x="2112" y="4376"/>
                  </a:lnTo>
                  <a:lnTo>
                    <a:pt x="2112" y="4315"/>
                  </a:lnTo>
                  <a:lnTo>
                    <a:pt x="2256" y="4315"/>
                  </a:lnTo>
                  <a:lnTo>
                    <a:pt x="2256" y="4252"/>
                  </a:lnTo>
                  <a:lnTo>
                    <a:pt x="2395" y="4252"/>
                  </a:lnTo>
                  <a:lnTo>
                    <a:pt x="2395" y="4185"/>
                  </a:lnTo>
                  <a:lnTo>
                    <a:pt x="2467" y="4185"/>
                  </a:lnTo>
                  <a:lnTo>
                    <a:pt x="2467" y="4118"/>
                  </a:lnTo>
                  <a:lnTo>
                    <a:pt x="2538" y="4118"/>
                  </a:lnTo>
                  <a:lnTo>
                    <a:pt x="2538" y="3919"/>
                  </a:lnTo>
                  <a:lnTo>
                    <a:pt x="2323" y="3919"/>
                  </a:lnTo>
                  <a:lnTo>
                    <a:pt x="2323" y="3986"/>
                  </a:lnTo>
                  <a:lnTo>
                    <a:pt x="2256" y="3986"/>
                  </a:lnTo>
                  <a:lnTo>
                    <a:pt x="2256" y="4053"/>
                  </a:lnTo>
                  <a:lnTo>
                    <a:pt x="2112" y="4053"/>
                  </a:lnTo>
                  <a:lnTo>
                    <a:pt x="2112" y="4118"/>
                  </a:lnTo>
                  <a:lnTo>
                    <a:pt x="1973" y="4118"/>
                  </a:lnTo>
                  <a:lnTo>
                    <a:pt x="1973" y="4185"/>
                  </a:lnTo>
                  <a:lnTo>
                    <a:pt x="1906" y="4185"/>
                  </a:lnTo>
                  <a:lnTo>
                    <a:pt x="1906" y="4252"/>
                  </a:lnTo>
                  <a:lnTo>
                    <a:pt x="1691" y="4252"/>
                  </a:lnTo>
                  <a:lnTo>
                    <a:pt x="1691" y="4315"/>
                  </a:lnTo>
                  <a:lnTo>
                    <a:pt x="1548" y="4315"/>
                  </a:lnTo>
                  <a:lnTo>
                    <a:pt x="1548" y="4376"/>
                  </a:lnTo>
                  <a:lnTo>
                    <a:pt x="1408" y="4376"/>
                  </a:lnTo>
                  <a:lnTo>
                    <a:pt x="1408" y="4443"/>
                  </a:lnTo>
                  <a:lnTo>
                    <a:pt x="1270" y="4443"/>
                  </a:lnTo>
                  <a:lnTo>
                    <a:pt x="1270" y="4510"/>
                  </a:lnTo>
                  <a:lnTo>
                    <a:pt x="987" y="4510"/>
                  </a:lnTo>
                  <a:lnTo>
                    <a:pt x="987" y="4577"/>
                  </a:lnTo>
                  <a:lnTo>
                    <a:pt x="704" y="4577"/>
                  </a:lnTo>
                  <a:lnTo>
                    <a:pt x="704" y="4643"/>
                  </a:lnTo>
                  <a:lnTo>
                    <a:pt x="210" y="4643"/>
                  </a:lnTo>
                  <a:lnTo>
                    <a:pt x="210" y="4577"/>
                  </a:lnTo>
                  <a:lnTo>
                    <a:pt x="351" y="4577"/>
                  </a:lnTo>
                  <a:lnTo>
                    <a:pt x="351" y="4510"/>
                  </a:lnTo>
                  <a:lnTo>
                    <a:pt x="283" y="4510"/>
                  </a:lnTo>
                  <a:lnTo>
                    <a:pt x="283" y="4443"/>
                  </a:lnTo>
                  <a:lnTo>
                    <a:pt x="210" y="4443"/>
                  </a:lnTo>
                  <a:lnTo>
                    <a:pt x="210" y="4315"/>
                  </a:lnTo>
                  <a:lnTo>
                    <a:pt x="143" y="4315"/>
                  </a:lnTo>
                  <a:lnTo>
                    <a:pt x="143" y="4118"/>
                  </a:lnTo>
                  <a:lnTo>
                    <a:pt x="72" y="4118"/>
                  </a:lnTo>
                  <a:lnTo>
                    <a:pt x="72" y="3661"/>
                  </a:lnTo>
                  <a:lnTo>
                    <a:pt x="143" y="3661"/>
                  </a:lnTo>
                  <a:lnTo>
                    <a:pt x="143" y="3528"/>
                  </a:lnTo>
                  <a:lnTo>
                    <a:pt x="210" y="3528"/>
                  </a:lnTo>
                  <a:lnTo>
                    <a:pt x="210" y="3465"/>
                  </a:lnTo>
                  <a:lnTo>
                    <a:pt x="283" y="3465"/>
                  </a:lnTo>
                  <a:lnTo>
                    <a:pt x="283" y="3399"/>
                  </a:lnTo>
                  <a:lnTo>
                    <a:pt x="351" y="3399"/>
                  </a:lnTo>
                  <a:lnTo>
                    <a:pt x="351" y="3204"/>
                  </a:lnTo>
                  <a:lnTo>
                    <a:pt x="422" y="3204"/>
                  </a:lnTo>
                  <a:lnTo>
                    <a:pt x="422" y="3137"/>
                  </a:lnTo>
                  <a:lnTo>
                    <a:pt x="493" y="3137"/>
                  </a:lnTo>
                  <a:lnTo>
                    <a:pt x="493" y="3070"/>
                  </a:lnTo>
                  <a:lnTo>
                    <a:pt x="560" y="3070"/>
                  </a:lnTo>
                  <a:lnTo>
                    <a:pt x="560" y="3009"/>
                  </a:lnTo>
                  <a:lnTo>
                    <a:pt x="633" y="3009"/>
                  </a:lnTo>
                  <a:lnTo>
                    <a:pt x="633" y="2942"/>
                  </a:lnTo>
                  <a:lnTo>
                    <a:pt x="704" y="2942"/>
                  </a:lnTo>
                  <a:lnTo>
                    <a:pt x="704" y="2875"/>
                  </a:lnTo>
                  <a:lnTo>
                    <a:pt x="776" y="2875"/>
                  </a:lnTo>
                  <a:lnTo>
                    <a:pt x="776" y="2812"/>
                  </a:lnTo>
                  <a:lnTo>
                    <a:pt x="848" y="2812"/>
                  </a:lnTo>
                  <a:lnTo>
                    <a:pt x="848" y="2746"/>
                  </a:lnTo>
                  <a:lnTo>
                    <a:pt x="916" y="2746"/>
                  </a:lnTo>
                  <a:lnTo>
                    <a:pt x="916" y="2550"/>
                  </a:lnTo>
                  <a:lnTo>
                    <a:pt x="848" y="2550"/>
                  </a:lnTo>
                  <a:lnTo>
                    <a:pt x="848" y="2288"/>
                  </a:lnTo>
                  <a:lnTo>
                    <a:pt x="916" y="2288"/>
                  </a:lnTo>
                  <a:lnTo>
                    <a:pt x="916" y="1893"/>
                  </a:lnTo>
                  <a:lnTo>
                    <a:pt x="987" y="1893"/>
                  </a:lnTo>
                  <a:lnTo>
                    <a:pt x="987" y="1764"/>
                  </a:lnTo>
                  <a:lnTo>
                    <a:pt x="1059" y="1764"/>
                  </a:lnTo>
                  <a:lnTo>
                    <a:pt x="1059" y="1636"/>
                  </a:lnTo>
                  <a:lnTo>
                    <a:pt x="1126" y="1636"/>
                  </a:lnTo>
                  <a:lnTo>
                    <a:pt x="1126" y="1568"/>
                  </a:lnTo>
                  <a:lnTo>
                    <a:pt x="1198" y="1568"/>
                  </a:lnTo>
                  <a:lnTo>
                    <a:pt x="1198" y="1502"/>
                  </a:lnTo>
                  <a:lnTo>
                    <a:pt x="1408" y="1502"/>
                  </a:lnTo>
                  <a:lnTo>
                    <a:pt x="1408" y="1568"/>
                  </a:lnTo>
                  <a:lnTo>
                    <a:pt x="1548" y="1568"/>
                  </a:lnTo>
                  <a:lnTo>
                    <a:pt x="1548" y="1636"/>
                  </a:lnTo>
                  <a:lnTo>
                    <a:pt x="1619" y="1636"/>
                  </a:lnTo>
                  <a:lnTo>
                    <a:pt x="1619" y="1701"/>
                  </a:lnTo>
                  <a:lnTo>
                    <a:pt x="1691" y="1701"/>
                  </a:lnTo>
                  <a:lnTo>
                    <a:pt x="1691" y="2746"/>
                  </a:lnTo>
                  <a:lnTo>
                    <a:pt x="1973" y="2746"/>
                  </a:lnTo>
                  <a:lnTo>
                    <a:pt x="1973" y="2812"/>
                  </a:lnTo>
                  <a:lnTo>
                    <a:pt x="2044" y="2812"/>
                  </a:lnTo>
                  <a:lnTo>
                    <a:pt x="2044" y="2875"/>
                  </a:lnTo>
                  <a:lnTo>
                    <a:pt x="2185" y="2875"/>
                  </a:lnTo>
                  <a:lnTo>
                    <a:pt x="2185" y="2942"/>
                  </a:lnTo>
                  <a:lnTo>
                    <a:pt x="2256" y="2942"/>
                  </a:lnTo>
                  <a:lnTo>
                    <a:pt x="2256" y="3070"/>
                  </a:lnTo>
                  <a:lnTo>
                    <a:pt x="2323" y="3070"/>
                  </a:lnTo>
                  <a:lnTo>
                    <a:pt x="2323" y="3204"/>
                  </a:lnTo>
                  <a:lnTo>
                    <a:pt x="2395" y="3204"/>
                  </a:lnTo>
                  <a:lnTo>
                    <a:pt x="2395" y="3332"/>
                  </a:lnTo>
                  <a:lnTo>
                    <a:pt x="2467" y="3332"/>
                  </a:lnTo>
                  <a:lnTo>
                    <a:pt x="2467" y="3856"/>
                  </a:lnTo>
                  <a:lnTo>
                    <a:pt x="2538" y="3856"/>
                  </a:lnTo>
                  <a:lnTo>
                    <a:pt x="2538" y="3661"/>
                  </a:lnTo>
                  <a:lnTo>
                    <a:pt x="2606" y="3661"/>
                  </a:lnTo>
                  <a:lnTo>
                    <a:pt x="2606" y="3528"/>
                  </a:lnTo>
                  <a:lnTo>
                    <a:pt x="2678" y="3528"/>
                  </a:lnTo>
                  <a:lnTo>
                    <a:pt x="2678" y="3399"/>
                  </a:lnTo>
                  <a:lnTo>
                    <a:pt x="2750" y="3399"/>
                  </a:lnTo>
                  <a:lnTo>
                    <a:pt x="2750" y="3332"/>
                  </a:lnTo>
                  <a:lnTo>
                    <a:pt x="2821" y="3332"/>
                  </a:lnTo>
                  <a:lnTo>
                    <a:pt x="2821" y="3270"/>
                  </a:lnTo>
                  <a:lnTo>
                    <a:pt x="2889" y="3270"/>
                  </a:lnTo>
                  <a:lnTo>
                    <a:pt x="2889" y="3204"/>
                  </a:lnTo>
                  <a:lnTo>
                    <a:pt x="2960" y="3204"/>
                  </a:lnTo>
                  <a:lnTo>
                    <a:pt x="2960" y="3137"/>
                  </a:lnTo>
                  <a:lnTo>
                    <a:pt x="3032" y="3137"/>
                  </a:lnTo>
                  <a:lnTo>
                    <a:pt x="3032" y="3070"/>
                  </a:lnTo>
                  <a:lnTo>
                    <a:pt x="3104" y="3070"/>
                  </a:lnTo>
                  <a:lnTo>
                    <a:pt x="3104" y="2617"/>
                  </a:lnTo>
                  <a:lnTo>
                    <a:pt x="3172" y="2617"/>
                  </a:lnTo>
                  <a:lnTo>
                    <a:pt x="3172" y="2417"/>
                  </a:lnTo>
                  <a:lnTo>
                    <a:pt x="3104" y="2417"/>
                  </a:lnTo>
                  <a:lnTo>
                    <a:pt x="3104" y="2351"/>
                  </a:lnTo>
                  <a:lnTo>
                    <a:pt x="3032" y="2351"/>
                  </a:lnTo>
                  <a:lnTo>
                    <a:pt x="3032" y="2288"/>
                  </a:lnTo>
                  <a:lnTo>
                    <a:pt x="2960" y="2288"/>
                  </a:lnTo>
                  <a:lnTo>
                    <a:pt x="2960" y="2160"/>
                  </a:lnTo>
                  <a:lnTo>
                    <a:pt x="2889" y="2160"/>
                  </a:lnTo>
                  <a:lnTo>
                    <a:pt x="2889" y="1701"/>
                  </a:lnTo>
                  <a:lnTo>
                    <a:pt x="2960" y="1701"/>
                  </a:lnTo>
                  <a:lnTo>
                    <a:pt x="2960" y="1636"/>
                  </a:lnTo>
                  <a:lnTo>
                    <a:pt x="3032" y="1636"/>
                  </a:lnTo>
                  <a:lnTo>
                    <a:pt x="3032" y="1568"/>
                  </a:lnTo>
                  <a:lnTo>
                    <a:pt x="3104" y="1568"/>
                  </a:lnTo>
                  <a:lnTo>
                    <a:pt x="3104" y="1373"/>
                  </a:lnTo>
                  <a:lnTo>
                    <a:pt x="3032" y="1373"/>
                  </a:lnTo>
                  <a:lnTo>
                    <a:pt x="3032" y="1307"/>
                  </a:lnTo>
                  <a:lnTo>
                    <a:pt x="2960" y="1307"/>
                  </a:lnTo>
                  <a:lnTo>
                    <a:pt x="2960" y="1111"/>
                  </a:lnTo>
                  <a:lnTo>
                    <a:pt x="3032" y="1111"/>
                  </a:lnTo>
                  <a:lnTo>
                    <a:pt x="3032" y="982"/>
                  </a:lnTo>
                  <a:lnTo>
                    <a:pt x="3104" y="982"/>
                  </a:lnTo>
                  <a:lnTo>
                    <a:pt x="3104" y="849"/>
                  </a:lnTo>
                  <a:lnTo>
                    <a:pt x="3172" y="849"/>
                  </a:lnTo>
                  <a:lnTo>
                    <a:pt x="3172" y="782"/>
                  </a:lnTo>
                  <a:lnTo>
                    <a:pt x="3238" y="782"/>
                  </a:lnTo>
                  <a:lnTo>
                    <a:pt x="3238" y="849"/>
                  </a:lnTo>
                  <a:lnTo>
                    <a:pt x="3382" y="849"/>
                  </a:lnTo>
                  <a:lnTo>
                    <a:pt x="3382" y="915"/>
                  </a:lnTo>
                  <a:lnTo>
                    <a:pt x="3238" y="915"/>
                  </a:lnTo>
                  <a:lnTo>
                    <a:pt x="3238" y="1048"/>
                  </a:lnTo>
                  <a:lnTo>
                    <a:pt x="3172" y="1048"/>
                  </a:lnTo>
                  <a:lnTo>
                    <a:pt x="3172" y="1177"/>
                  </a:lnTo>
                  <a:lnTo>
                    <a:pt x="3238" y="1177"/>
                  </a:lnTo>
                  <a:lnTo>
                    <a:pt x="3238" y="1373"/>
                  </a:lnTo>
                  <a:lnTo>
                    <a:pt x="3310" y="1373"/>
                  </a:lnTo>
                  <a:lnTo>
                    <a:pt x="3310" y="1436"/>
                  </a:lnTo>
                  <a:lnTo>
                    <a:pt x="3382" y="1436"/>
                  </a:lnTo>
                  <a:lnTo>
                    <a:pt x="3382" y="1373"/>
                  </a:lnTo>
                  <a:lnTo>
                    <a:pt x="3454" y="1373"/>
                  </a:lnTo>
                  <a:lnTo>
                    <a:pt x="3454" y="1177"/>
                  </a:lnTo>
                  <a:lnTo>
                    <a:pt x="3525" y="1177"/>
                  </a:lnTo>
                  <a:lnTo>
                    <a:pt x="3525" y="1048"/>
                  </a:lnTo>
                  <a:lnTo>
                    <a:pt x="3598" y="1048"/>
                  </a:lnTo>
                  <a:lnTo>
                    <a:pt x="3598" y="915"/>
                  </a:lnTo>
                  <a:lnTo>
                    <a:pt x="3664" y="915"/>
                  </a:lnTo>
                  <a:lnTo>
                    <a:pt x="3664" y="782"/>
                  </a:lnTo>
                  <a:lnTo>
                    <a:pt x="3454" y="782"/>
                  </a:lnTo>
                  <a:lnTo>
                    <a:pt x="3454" y="720"/>
                  </a:lnTo>
                  <a:lnTo>
                    <a:pt x="3804" y="720"/>
                  </a:lnTo>
                  <a:lnTo>
                    <a:pt x="3804" y="653"/>
                  </a:lnTo>
                  <a:lnTo>
                    <a:pt x="3875" y="653"/>
                  </a:lnTo>
                  <a:lnTo>
                    <a:pt x="3875" y="586"/>
                  </a:lnTo>
                  <a:lnTo>
                    <a:pt x="3525" y="586"/>
                  </a:lnTo>
                  <a:lnTo>
                    <a:pt x="3525" y="524"/>
                  </a:lnTo>
                  <a:lnTo>
                    <a:pt x="4019" y="524"/>
                  </a:lnTo>
                  <a:lnTo>
                    <a:pt x="4019" y="458"/>
                  </a:lnTo>
                  <a:lnTo>
                    <a:pt x="4086" y="458"/>
                  </a:lnTo>
                  <a:lnTo>
                    <a:pt x="4086" y="391"/>
                  </a:lnTo>
                  <a:lnTo>
                    <a:pt x="4230" y="391"/>
                  </a:lnTo>
                  <a:lnTo>
                    <a:pt x="4230" y="324"/>
                  </a:lnTo>
                  <a:lnTo>
                    <a:pt x="4369" y="324"/>
                  </a:lnTo>
                  <a:lnTo>
                    <a:pt x="4369" y="263"/>
                  </a:lnTo>
                  <a:lnTo>
                    <a:pt x="4513" y="263"/>
                  </a:lnTo>
                  <a:lnTo>
                    <a:pt x="4513" y="195"/>
                  </a:lnTo>
                  <a:lnTo>
                    <a:pt x="4651" y="195"/>
                  </a:lnTo>
                  <a:lnTo>
                    <a:pt x="4651" y="133"/>
                  </a:lnTo>
                  <a:lnTo>
                    <a:pt x="4723" y="133"/>
                  </a:lnTo>
                  <a:lnTo>
                    <a:pt x="4723" y="195"/>
                  </a:lnTo>
                  <a:lnTo>
                    <a:pt x="5002" y="195"/>
                  </a:lnTo>
                  <a:lnTo>
                    <a:pt x="5002" y="133"/>
                  </a:lnTo>
                  <a:lnTo>
                    <a:pt x="5073" y="133"/>
                  </a:lnTo>
                  <a:lnTo>
                    <a:pt x="5073" y="66"/>
                  </a:lnTo>
                  <a:lnTo>
                    <a:pt x="5288" y="66"/>
                  </a:lnTo>
                  <a:lnTo>
                    <a:pt x="5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033520" y="4117680"/>
              <a:ext cx="487080" cy="742320"/>
            </a:xfrm>
            <a:custGeom>
              <a:avLst/>
              <a:gdLst/>
              <a:ahLst/>
              <a:rect l="l" t="t" r="r" b="b"/>
              <a:pathLst>
                <a:path w="2265" h="3019">
                  <a:moveTo>
                    <a:pt x="1063" y="0"/>
                  </a:moveTo>
                  <a:lnTo>
                    <a:pt x="1274" y="0"/>
                  </a:lnTo>
                  <a:lnTo>
                    <a:pt x="1274" y="67"/>
                  </a:lnTo>
                  <a:lnTo>
                    <a:pt x="1413" y="67"/>
                  </a:lnTo>
                  <a:lnTo>
                    <a:pt x="1413" y="133"/>
                  </a:lnTo>
                  <a:lnTo>
                    <a:pt x="1485" y="133"/>
                  </a:lnTo>
                  <a:lnTo>
                    <a:pt x="1485" y="1315"/>
                  </a:lnTo>
                  <a:lnTo>
                    <a:pt x="1557" y="1315"/>
                  </a:lnTo>
                  <a:lnTo>
                    <a:pt x="1557" y="1248"/>
                  </a:lnTo>
                  <a:lnTo>
                    <a:pt x="1700" y="1248"/>
                  </a:lnTo>
                  <a:lnTo>
                    <a:pt x="1700" y="1315"/>
                  </a:lnTo>
                  <a:lnTo>
                    <a:pt x="1772" y="1315"/>
                  </a:lnTo>
                  <a:lnTo>
                    <a:pt x="1772" y="1248"/>
                  </a:lnTo>
                  <a:lnTo>
                    <a:pt x="1839" y="1248"/>
                  </a:lnTo>
                  <a:lnTo>
                    <a:pt x="1839" y="1315"/>
                  </a:lnTo>
                  <a:lnTo>
                    <a:pt x="1910" y="1315"/>
                  </a:lnTo>
                  <a:lnTo>
                    <a:pt x="1910" y="1577"/>
                  </a:lnTo>
                  <a:lnTo>
                    <a:pt x="1983" y="1577"/>
                  </a:lnTo>
                  <a:lnTo>
                    <a:pt x="1983" y="1381"/>
                  </a:lnTo>
                  <a:lnTo>
                    <a:pt x="2054" y="1381"/>
                  </a:lnTo>
                  <a:lnTo>
                    <a:pt x="2054" y="1510"/>
                  </a:lnTo>
                  <a:lnTo>
                    <a:pt x="2125" y="1510"/>
                  </a:lnTo>
                  <a:lnTo>
                    <a:pt x="2125" y="1640"/>
                  </a:lnTo>
                  <a:lnTo>
                    <a:pt x="2193" y="1640"/>
                  </a:lnTo>
                  <a:lnTo>
                    <a:pt x="2193" y="1772"/>
                  </a:lnTo>
                  <a:lnTo>
                    <a:pt x="2265" y="1772"/>
                  </a:lnTo>
                  <a:lnTo>
                    <a:pt x="2265" y="2296"/>
                  </a:lnTo>
                  <a:lnTo>
                    <a:pt x="2193" y="2296"/>
                  </a:lnTo>
                  <a:lnTo>
                    <a:pt x="2193" y="2364"/>
                  </a:lnTo>
                  <a:lnTo>
                    <a:pt x="2125" y="2364"/>
                  </a:lnTo>
                  <a:lnTo>
                    <a:pt x="2125" y="2429"/>
                  </a:lnTo>
                  <a:lnTo>
                    <a:pt x="1983" y="2429"/>
                  </a:lnTo>
                  <a:lnTo>
                    <a:pt x="1983" y="2496"/>
                  </a:lnTo>
                  <a:lnTo>
                    <a:pt x="1839" y="2496"/>
                  </a:lnTo>
                  <a:lnTo>
                    <a:pt x="1839" y="2559"/>
                  </a:lnTo>
                  <a:lnTo>
                    <a:pt x="1772" y="2559"/>
                  </a:lnTo>
                  <a:lnTo>
                    <a:pt x="1772" y="2625"/>
                  </a:lnTo>
                  <a:lnTo>
                    <a:pt x="1557" y="2625"/>
                  </a:lnTo>
                  <a:lnTo>
                    <a:pt x="1557" y="2693"/>
                  </a:lnTo>
                  <a:lnTo>
                    <a:pt x="1413" y="2693"/>
                  </a:lnTo>
                  <a:lnTo>
                    <a:pt x="1413" y="2758"/>
                  </a:lnTo>
                  <a:lnTo>
                    <a:pt x="1274" y="2758"/>
                  </a:lnTo>
                  <a:lnTo>
                    <a:pt x="1274" y="2821"/>
                  </a:lnTo>
                  <a:lnTo>
                    <a:pt x="1135" y="2821"/>
                  </a:lnTo>
                  <a:lnTo>
                    <a:pt x="1135" y="2887"/>
                  </a:lnTo>
                  <a:lnTo>
                    <a:pt x="852" y="2887"/>
                  </a:lnTo>
                  <a:lnTo>
                    <a:pt x="852" y="2954"/>
                  </a:lnTo>
                  <a:lnTo>
                    <a:pt x="565" y="2954"/>
                  </a:lnTo>
                  <a:lnTo>
                    <a:pt x="565" y="3019"/>
                  </a:lnTo>
                  <a:lnTo>
                    <a:pt x="282" y="3019"/>
                  </a:lnTo>
                  <a:lnTo>
                    <a:pt x="282" y="2954"/>
                  </a:lnTo>
                  <a:lnTo>
                    <a:pt x="211" y="2954"/>
                  </a:lnTo>
                  <a:lnTo>
                    <a:pt x="211" y="2887"/>
                  </a:lnTo>
                  <a:lnTo>
                    <a:pt x="140" y="2887"/>
                  </a:lnTo>
                  <a:lnTo>
                    <a:pt x="140" y="2758"/>
                  </a:lnTo>
                  <a:lnTo>
                    <a:pt x="67" y="2758"/>
                  </a:lnTo>
                  <a:lnTo>
                    <a:pt x="67" y="2559"/>
                  </a:lnTo>
                  <a:lnTo>
                    <a:pt x="0" y="2559"/>
                  </a:lnTo>
                  <a:lnTo>
                    <a:pt x="0" y="2101"/>
                  </a:lnTo>
                  <a:lnTo>
                    <a:pt x="67" y="2101"/>
                  </a:lnTo>
                  <a:lnTo>
                    <a:pt x="67" y="1969"/>
                  </a:lnTo>
                  <a:lnTo>
                    <a:pt x="140" y="1969"/>
                  </a:lnTo>
                  <a:lnTo>
                    <a:pt x="140" y="1905"/>
                  </a:lnTo>
                  <a:lnTo>
                    <a:pt x="355" y="1905"/>
                  </a:lnTo>
                  <a:lnTo>
                    <a:pt x="355" y="1839"/>
                  </a:lnTo>
                  <a:lnTo>
                    <a:pt x="282" y="1839"/>
                  </a:lnTo>
                  <a:lnTo>
                    <a:pt x="282" y="1640"/>
                  </a:lnTo>
                  <a:lnTo>
                    <a:pt x="355" y="1640"/>
                  </a:lnTo>
                  <a:lnTo>
                    <a:pt x="355" y="1577"/>
                  </a:lnTo>
                  <a:lnTo>
                    <a:pt x="423" y="1577"/>
                  </a:lnTo>
                  <a:lnTo>
                    <a:pt x="423" y="1510"/>
                  </a:lnTo>
                  <a:lnTo>
                    <a:pt x="708" y="1510"/>
                  </a:lnTo>
                  <a:lnTo>
                    <a:pt x="708" y="1445"/>
                  </a:lnTo>
                  <a:lnTo>
                    <a:pt x="565" y="1445"/>
                  </a:lnTo>
                  <a:lnTo>
                    <a:pt x="565" y="1381"/>
                  </a:lnTo>
                  <a:lnTo>
                    <a:pt x="638" y="1381"/>
                  </a:lnTo>
                  <a:lnTo>
                    <a:pt x="638" y="1315"/>
                  </a:lnTo>
                  <a:lnTo>
                    <a:pt x="708" y="1315"/>
                  </a:lnTo>
                  <a:lnTo>
                    <a:pt x="708" y="1248"/>
                  </a:lnTo>
                  <a:lnTo>
                    <a:pt x="991" y="1248"/>
                  </a:lnTo>
                  <a:lnTo>
                    <a:pt x="991" y="1182"/>
                  </a:lnTo>
                  <a:lnTo>
                    <a:pt x="852" y="1182"/>
                  </a:lnTo>
                  <a:lnTo>
                    <a:pt x="852" y="986"/>
                  </a:lnTo>
                  <a:lnTo>
                    <a:pt x="780" y="986"/>
                  </a:lnTo>
                  <a:lnTo>
                    <a:pt x="780" y="721"/>
                  </a:lnTo>
                  <a:lnTo>
                    <a:pt x="852" y="721"/>
                  </a:lnTo>
                  <a:lnTo>
                    <a:pt x="852" y="329"/>
                  </a:lnTo>
                  <a:lnTo>
                    <a:pt x="920" y="329"/>
                  </a:lnTo>
                  <a:lnTo>
                    <a:pt x="920" y="200"/>
                  </a:lnTo>
                  <a:lnTo>
                    <a:pt x="991" y="200"/>
                  </a:lnTo>
                  <a:lnTo>
                    <a:pt x="991" y="67"/>
                  </a:lnTo>
                  <a:lnTo>
                    <a:pt x="1063" y="67"/>
                  </a:lnTo>
                  <a:lnTo>
                    <a:pt x="1063"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093640" y="4422960"/>
              <a:ext cx="259920" cy="325080"/>
            </a:xfrm>
            <a:custGeom>
              <a:avLst/>
              <a:gdLst/>
              <a:ahLst/>
              <a:rect l="l" t="t" r="r" b="b"/>
              <a:pathLst>
                <a:path w="1210" h="1322">
                  <a:moveTo>
                    <a:pt x="712" y="0"/>
                  </a:moveTo>
                  <a:lnTo>
                    <a:pt x="856" y="0"/>
                  </a:lnTo>
                  <a:lnTo>
                    <a:pt x="856" y="65"/>
                  </a:lnTo>
                  <a:lnTo>
                    <a:pt x="928" y="65"/>
                  </a:lnTo>
                  <a:lnTo>
                    <a:pt x="928" y="132"/>
                  </a:lnTo>
                  <a:lnTo>
                    <a:pt x="1138" y="132"/>
                  </a:lnTo>
                  <a:lnTo>
                    <a:pt x="1138" y="65"/>
                  </a:lnTo>
                  <a:lnTo>
                    <a:pt x="1210" y="65"/>
                  </a:lnTo>
                  <a:lnTo>
                    <a:pt x="1210" y="132"/>
                  </a:lnTo>
                  <a:lnTo>
                    <a:pt x="1138" y="132"/>
                  </a:lnTo>
                  <a:lnTo>
                    <a:pt x="1138" y="329"/>
                  </a:lnTo>
                  <a:lnTo>
                    <a:pt x="1210" y="329"/>
                  </a:lnTo>
                  <a:lnTo>
                    <a:pt x="1210" y="461"/>
                  </a:lnTo>
                  <a:lnTo>
                    <a:pt x="1138" y="461"/>
                  </a:lnTo>
                  <a:lnTo>
                    <a:pt x="1138" y="594"/>
                  </a:lnTo>
                  <a:lnTo>
                    <a:pt x="1066" y="594"/>
                  </a:lnTo>
                  <a:lnTo>
                    <a:pt x="1066" y="660"/>
                  </a:lnTo>
                  <a:lnTo>
                    <a:pt x="999" y="660"/>
                  </a:lnTo>
                  <a:lnTo>
                    <a:pt x="999" y="794"/>
                  </a:lnTo>
                  <a:lnTo>
                    <a:pt x="928" y="794"/>
                  </a:lnTo>
                  <a:lnTo>
                    <a:pt x="928" y="860"/>
                  </a:lnTo>
                  <a:lnTo>
                    <a:pt x="856" y="860"/>
                  </a:lnTo>
                  <a:lnTo>
                    <a:pt x="856" y="993"/>
                  </a:lnTo>
                  <a:lnTo>
                    <a:pt x="784" y="993"/>
                  </a:lnTo>
                  <a:lnTo>
                    <a:pt x="784" y="1188"/>
                  </a:lnTo>
                  <a:lnTo>
                    <a:pt x="712" y="1188"/>
                  </a:lnTo>
                  <a:lnTo>
                    <a:pt x="712" y="1322"/>
                  </a:lnTo>
                  <a:lnTo>
                    <a:pt x="641" y="1322"/>
                  </a:lnTo>
                  <a:lnTo>
                    <a:pt x="641" y="1188"/>
                  </a:lnTo>
                  <a:lnTo>
                    <a:pt x="712" y="1188"/>
                  </a:lnTo>
                  <a:lnTo>
                    <a:pt x="712" y="993"/>
                  </a:lnTo>
                  <a:lnTo>
                    <a:pt x="784" y="993"/>
                  </a:lnTo>
                  <a:lnTo>
                    <a:pt x="784" y="794"/>
                  </a:lnTo>
                  <a:lnTo>
                    <a:pt x="712" y="794"/>
                  </a:lnTo>
                  <a:lnTo>
                    <a:pt x="712" y="860"/>
                  </a:lnTo>
                  <a:lnTo>
                    <a:pt x="641" y="860"/>
                  </a:lnTo>
                  <a:lnTo>
                    <a:pt x="641" y="926"/>
                  </a:lnTo>
                  <a:lnTo>
                    <a:pt x="569" y="926"/>
                  </a:lnTo>
                  <a:lnTo>
                    <a:pt x="569" y="993"/>
                  </a:lnTo>
                  <a:lnTo>
                    <a:pt x="426" y="993"/>
                  </a:lnTo>
                  <a:lnTo>
                    <a:pt x="426" y="1055"/>
                  </a:lnTo>
                  <a:lnTo>
                    <a:pt x="354" y="1055"/>
                  </a:lnTo>
                  <a:lnTo>
                    <a:pt x="354" y="1123"/>
                  </a:lnTo>
                  <a:lnTo>
                    <a:pt x="71" y="1123"/>
                  </a:lnTo>
                  <a:lnTo>
                    <a:pt x="71" y="1188"/>
                  </a:lnTo>
                  <a:lnTo>
                    <a:pt x="0" y="1188"/>
                  </a:lnTo>
                  <a:lnTo>
                    <a:pt x="0" y="1123"/>
                  </a:lnTo>
                  <a:lnTo>
                    <a:pt x="71" y="1123"/>
                  </a:lnTo>
                  <a:lnTo>
                    <a:pt x="71" y="993"/>
                  </a:lnTo>
                  <a:lnTo>
                    <a:pt x="0" y="993"/>
                  </a:lnTo>
                  <a:lnTo>
                    <a:pt x="0" y="860"/>
                  </a:lnTo>
                  <a:lnTo>
                    <a:pt x="71" y="860"/>
                  </a:lnTo>
                  <a:lnTo>
                    <a:pt x="71" y="794"/>
                  </a:lnTo>
                  <a:lnTo>
                    <a:pt x="211" y="794"/>
                  </a:lnTo>
                  <a:lnTo>
                    <a:pt x="211" y="728"/>
                  </a:lnTo>
                  <a:lnTo>
                    <a:pt x="71" y="728"/>
                  </a:lnTo>
                  <a:lnTo>
                    <a:pt x="71" y="660"/>
                  </a:lnTo>
                  <a:lnTo>
                    <a:pt x="211" y="660"/>
                  </a:lnTo>
                  <a:lnTo>
                    <a:pt x="211" y="728"/>
                  </a:lnTo>
                  <a:lnTo>
                    <a:pt x="282" y="728"/>
                  </a:lnTo>
                  <a:lnTo>
                    <a:pt x="282" y="1055"/>
                  </a:lnTo>
                  <a:lnTo>
                    <a:pt x="354" y="1055"/>
                  </a:lnTo>
                  <a:lnTo>
                    <a:pt x="354" y="993"/>
                  </a:lnTo>
                  <a:lnTo>
                    <a:pt x="426" y="993"/>
                  </a:lnTo>
                  <a:lnTo>
                    <a:pt x="426" y="926"/>
                  </a:lnTo>
                  <a:lnTo>
                    <a:pt x="569" y="926"/>
                  </a:lnTo>
                  <a:lnTo>
                    <a:pt x="569" y="860"/>
                  </a:lnTo>
                  <a:lnTo>
                    <a:pt x="641" y="860"/>
                  </a:lnTo>
                  <a:lnTo>
                    <a:pt x="641" y="794"/>
                  </a:lnTo>
                  <a:lnTo>
                    <a:pt x="712" y="794"/>
                  </a:lnTo>
                  <a:lnTo>
                    <a:pt x="712" y="728"/>
                  </a:lnTo>
                  <a:lnTo>
                    <a:pt x="784" y="728"/>
                  </a:lnTo>
                  <a:lnTo>
                    <a:pt x="784" y="527"/>
                  </a:lnTo>
                  <a:lnTo>
                    <a:pt x="712" y="527"/>
                  </a:lnTo>
                  <a:lnTo>
                    <a:pt x="712" y="461"/>
                  </a:lnTo>
                  <a:lnTo>
                    <a:pt x="641" y="461"/>
                  </a:lnTo>
                  <a:lnTo>
                    <a:pt x="641" y="394"/>
                  </a:lnTo>
                  <a:lnTo>
                    <a:pt x="569" y="394"/>
                  </a:lnTo>
                  <a:lnTo>
                    <a:pt x="569" y="329"/>
                  </a:lnTo>
                  <a:lnTo>
                    <a:pt x="426" y="329"/>
                  </a:lnTo>
                  <a:lnTo>
                    <a:pt x="426" y="262"/>
                  </a:lnTo>
                  <a:lnTo>
                    <a:pt x="569" y="262"/>
                  </a:lnTo>
                  <a:lnTo>
                    <a:pt x="569" y="329"/>
                  </a:lnTo>
                  <a:lnTo>
                    <a:pt x="641" y="329"/>
                  </a:lnTo>
                  <a:lnTo>
                    <a:pt x="641" y="394"/>
                  </a:lnTo>
                  <a:lnTo>
                    <a:pt x="712" y="394"/>
                  </a:lnTo>
                  <a:lnTo>
                    <a:pt x="712" y="461"/>
                  </a:lnTo>
                  <a:lnTo>
                    <a:pt x="784" y="461"/>
                  </a:lnTo>
                  <a:lnTo>
                    <a:pt x="784" y="527"/>
                  </a:lnTo>
                  <a:lnTo>
                    <a:pt x="856" y="527"/>
                  </a:lnTo>
                  <a:lnTo>
                    <a:pt x="856" y="728"/>
                  </a:lnTo>
                  <a:lnTo>
                    <a:pt x="928" y="728"/>
                  </a:lnTo>
                  <a:lnTo>
                    <a:pt x="928" y="660"/>
                  </a:lnTo>
                  <a:lnTo>
                    <a:pt x="999" y="660"/>
                  </a:lnTo>
                  <a:lnTo>
                    <a:pt x="999" y="594"/>
                  </a:lnTo>
                  <a:lnTo>
                    <a:pt x="1066" y="594"/>
                  </a:lnTo>
                  <a:lnTo>
                    <a:pt x="1066" y="461"/>
                  </a:lnTo>
                  <a:lnTo>
                    <a:pt x="1138" y="461"/>
                  </a:lnTo>
                  <a:lnTo>
                    <a:pt x="1138" y="329"/>
                  </a:lnTo>
                  <a:lnTo>
                    <a:pt x="1066" y="329"/>
                  </a:lnTo>
                  <a:lnTo>
                    <a:pt x="1066" y="394"/>
                  </a:lnTo>
                  <a:lnTo>
                    <a:pt x="999" y="394"/>
                  </a:lnTo>
                  <a:lnTo>
                    <a:pt x="999" y="461"/>
                  </a:lnTo>
                  <a:lnTo>
                    <a:pt x="928" y="461"/>
                  </a:lnTo>
                  <a:lnTo>
                    <a:pt x="928" y="394"/>
                  </a:lnTo>
                  <a:lnTo>
                    <a:pt x="856" y="394"/>
                  </a:lnTo>
                  <a:lnTo>
                    <a:pt x="856" y="65"/>
                  </a:lnTo>
                  <a:lnTo>
                    <a:pt x="712" y="65"/>
                  </a:lnTo>
                  <a:lnTo>
                    <a:pt x="712" y="0"/>
                  </a:lnTo>
                  <a:close/>
                </a:path>
              </a:pathLst>
            </a:custGeom>
            <a:solidFill>
              <a:srgbClr val="ef8f01"/>
            </a:solidFill>
            <a:ln w="9360">
              <a:solidFill>
                <a:srgbClr val="0000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90560" y="4472280"/>
              <a:ext cx="34200" cy="50040"/>
            </a:xfrm>
            <a:custGeom>
              <a:avLst/>
              <a:gdLst/>
              <a:ahLst/>
              <a:rect l="l" t="t" r="r" b="b"/>
              <a:pathLst>
                <a:path w="157" h="206">
                  <a:moveTo>
                    <a:pt x="0" y="0"/>
                  </a:moveTo>
                  <a:lnTo>
                    <a:pt x="157" y="0"/>
                  </a:lnTo>
                  <a:lnTo>
                    <a:pt x="157" y="137"/>
                  </a:lnTo>
                  <a:lnTo>
                    <a:pt x="80" y="137"/>
                  </a:lnTo>
                  <a:lnTo>
                    <a:pt x="80" y="206"/>
                  </a:lnTo>
                  <a:lnTo>
                    <a:pt x="0" y="206"/>
                  </a:lnTo>
                  <a:lnTo>
                    <a:pt x="0" y="0"/>
                  </a:lnTo>
                  <a:close/>
                </a:path>
              </a:pathLst>
            </a:custGeom>
            <a:solidFill>
              <a:srgbClr val="ffa58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375" name=""/>
            <p:cNvGrpSpPr/>
            <p:nvPr/>
          </p:nvGrpSpPr>
          <p:grpSpPr>
            <a:xfrm>
              <a:off x="5018400" y="3716280"/>
              <a:ext cx="2274480" cy="2624040"/>
              <a:chOff x="5018400" y="3716280"/>
              <a:chExt cx="2274480" cy="2624040"/>
            </a:xfrm>
          </p:grpSpPr>
          <p:grpSp>
            <p:nvGrpSpPr>
              <p:cNvPr id="376" name=""/>
              <p:cNvGrpSpPr/>
              <p:nvPr/>
            </p:nvGrpSpPr>
            <p:grpSpPr>
              <a:xfrm>
                <a:off x="5380560" y="3716280"/>
                <a:ext cx="1215000" cy="1127520"/>
                <a:chOff x="5380560" y="3716280"/>
                <a:chExt cx="1215000" cy="1127520"/>
              </a:xfrm>
            </p:grpSpPr>
            <p:sp>
              <p:nvSpPr>
                <p:cNvPr id="377" name=""/>
                <p:cNvSpPr/>
                <p:nvPr/>
              </p:nvSpPr>
              <p:spPr>
                <a:xfrm>
                  <a:off x="6062400" y="3716280"/>
                  <a:ext cx="795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8" name=""/>
                <p:cNvSpPr/>
                <p:nvPr/>
              </p:nvSpPr>
              <p:spPr>
                <a:xfrm>
                  <a:off x="6017400" y="3732120"/>
                  <a:ext cx="48240" cy="35640"/>
                </a:xfrm>
                <a:custGeom>
                  <a:avLst/>
                  <a:gdLst/>
                  <a:ahLst/>
                  <a:rect l="l" t="t" r="r" b="b"/>
                  <a:pathLst>
                    <a:path w="229" h="144">
                      <a:moveTo>
                        <a:pt x="77" y="0"/>
                      </a:moveTo>
                      <a:lnTo>
                        <a:pt x="229" y="0"/>
                      </a:lnTo>
                      <a:lnTo>
                        <a:pt x="229" y="75"/>
                      </a:lnTo>
                      <a:lnTo>
                        <a:pt x="77" y="75"/>
                      </a:lnTo>
                      <a:lnTo>
                        <a:pt x="77" y="144"/>
                      </a:lnTo>
                      <a:lnTo>
                        <a:pt x="0" y="144"/>
                      </a:lnTo>
                      <a:lnTo>
                        <a:pt x="0" y="75"/>
                      </a:lnTo>
                      <a:lnTo>
                        <a:pt x="77" y="75"/>
                      </a:lnTo>
                      <a:lnTo>
                        <a:pt x="77"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5638680" y="3780000"/>
                  <a:ext cx="956880" cy="1063800"/>
                </a:xfrm>
                <a:custGeom>
                  <a:avLst/>
                  <a:gdLst/>
                  <a:ahLst/>
                  <a:rect l="l" t="t" r="r" b="b"/>
                  <a:pathLst>
                    <a:path w="4448" h="4323">
                      <a:moveTo>
                        <a:pt x="2046" y="0"/>
                      </a:moveTo>
                      <a:lnTo>
                        <a:pt x="2543" y="0"/>
                      </a:lnTo>
                      <a:lnTo>
                        <a:pt x="2543" y="63"/>
                      </a:lnTo>
                      <a:lnTo>
                        <a:pt x="2754" y="63"/>
                      </a:lnTo>
                      <a:lnTo>
                        <a:pt x="2754" y="129"/>
                      </a:lnTo>
                      <a:lnTo>
                        <a:pt x="2893" y="129"/>
                      </a:lnTo>
                      <a:lnTo>
                        <a:pt x="2893" y="196"/>
                      </a:lnTo>
                      <a:lnTo>
                        <a:pt x="3041" y="196"/>
                      </a:lnTo>
                      <a:lnTo>
                        <a:pt x="3041" y="263"/>
                      </a:lnTo>
                      <a:lnTo>
                        <a:pt x="3108" y="263"/>
                      </a:lnTo>
                      <a:lnTo>
                        <a:pt x="3108" y="329"/>
                      </a:lnTo>
                      <a:lnTo>
                        <a:pt x="3180" y="329"/>
                      </a:lnTo>
                      <a:lnTo>
                        <a:pt x="3180" y="391"/>
                      </a:lnTo>
                      <a:lnTo>
                        <a:pt x="3251" y="391"/>
                      </a:lnTo>
                      <a:lnTo>
                        <a:pt x="3251" y="458"/>
                      </a:lnTo>
                      <a:lnTo>
                        <a:pt x="3319" y="458"/>
                      </a:lnTo>
                      <a:lnTo>
                        <a:pt x="3319" y="520"/>
                      </a:lnTo>
                      <a:lnTo>
                        <a:pt x="3391" y="520"/>
                      </a:lnTo>
                      <a:lnTo>
                        <a:pt x="3391" y="587"/>
                      </a:lnTo>
                      <a:lnTo>
                        <a:pt x="3458" y="587"/>
                      </a:lnTo>
                      <a:lnTo>
                        <a:pt x="3458" y="720"/>
                      </a:lnTo>
                      <a:lnTo>
                        <a:pt x="3530" y="720"/>
                      </a:lnTo>
                      <a:lnTo>
                        <a:pt x="3530" y="853"/>
                      </a:lnTo>
                      <a:lnTo>
                        <a:pt x="3601" y="853"/>
                      </a:lnTo>
                      <a:lnTo>
                        <a:pt x="3601" y="1178"/>
                      </a:lnTo>
                      <a:lnTo>
                        <a:pt x="3530" y="1178"/>
                      </a:lnTo>
                      <a:lnTo>
                        <a:pt x="3530" y="1244"/>
                      </a:lnTo>
                      <a:lnTo>
                        <a:pt x="3673" y="1244"/>
                      </a:lnTo>
                      <a:lnTo>
                        <a:pt x="3673" y="1307"/>
                      </a:lnTo>
                      <a:lnTo>
                        <a:pt x="3745" y="1307"/>
                      </a:lnTo>
                      <a:lnTo>
                        <a:pt x="3745" y="1441"/>
                      </a:lnTo>
                      <a:lnTo>
                        <a:pt x="3816" y="1441"/>
                      </a:lnTo>
                      <a:lnTo>
                        <a:pt x="3816" y="1307"/>
                      </a:lnTo>
                      <a:lnTo>
                        <a:pt x="3889" y="1307"/>
                      </a:lnTo>
                      <a:lnTo>
                        <a:pt x="3889" y="1244"/>
                      </a:lnTo>
                      <a:lnTo>
                        <a:pt x="3954" y="1244"/>
                      </a:lnTo>
                      <a:lnTo>
                        <a:pt x="3954" y="1178"/>
                      </a:lnTo>
                      <a:lnTo>
                        <a:pt x="4166" y="1178"/>
                      </a:lnTo>
                      <a:lnTo>
                        <a:pt x="4166" y="1244"/>
                      </a:lnTo>
                      <a:lnTo>
                        <a:pt x="4239" y="1244"/>
                      </a:lnTo>
                      <a:lnTo>
                        <a:pt x="4239" y="1307"/>
                      </a:lnTo>
                      <a:lnTo>
                        <a:pt x="3954" y="1307"/>
                      </a:lnTo>
                      <a:lnTo>
                        <a:pt x="3954" y="1373"/>
                      </a:lnTo>
                      <a:lnTo>
                        <a:pt x="4305" y="1373"/>
                      </a:lnTo>
                      <a:lnTo>
                        <a:pt x="4305" y="1506"/>
                      </a:lnTo>
                      <a:lnTo>
                        <a:pt x="4377" y="1506"/>
                      </a:lnTo>
                      <a:lnTo>
                        <a:pt x="4377" y="1768"/>
                      </a:lnTo>
                      <a:lnTo>
                        <a:pt x="4305" y="1768"/>
                      </a:lnTo>
                      <a:lnTo>
                        <a:pt x="4305" y="1897"/>
                      </a:lnTo>
                      <a:lnTo>
                        <a:pt x="4166" y="1897"/>
                      </a:lnTo>
                      <a:lnTo>
                        <a:pt x="4166" y="2026"/>
                      </a:lnTo>
                      <a:lnTo>
                        <a:pt x="4239" y="2026"/>
                      </a:lnTo>
                      <a:lnTo>
                        <a:pt x="4239" y="2159"/>
                      </a:lnTo>
                      <a:lnTo>
                        <a:pt x="4305" y="2159"/>
                      </a:lnTo>
                      <a:lnTo>
                        <a:pt x="4305" y="2360"/>
                      </a:lnTo>
                      <a:lnTo>
                        <a:pt x="4377" y="2360"/>
                      </a:lnTo>
                      <a:lnTo>
                        <a:pt x="4377" y="2555"/>
                      </a:lnTo>
                      <a:lnTo>
                        <a:pt x="4448" y="2555"/>
                      </a:lnTo>
                      <a:lnTo>
                        <a:pt x="4448" y="2879"/>
                      </a:lnTo>
                      <a:lnTo>
                        <a:pt x="4377" y="2879"/>
                      </a:lnTo>
                      <a:lnTo>
                        <a:pt x="4377" y="3145"/>
                      </a:lnTo>
                      <a:lnTo>
                        <a:pt x="4305" y="3145"/>
                      </a:lnTo>
                      <a:lnTo>
                        <a:pt x="4305" y="3341"/>
                      </a:lnTo>
                      <a:lnTo>
                        <a:pt x="4239" y="3341"/>
                      </a:lnTo>
                      <a:lnTo>
                        <a:pt x="4239" y="3470"/>
                      </a:lnTo>
                      <a:lnTo>
                        <a:pt x="4166" y="3470"/>
                      </a:lnTo>
                      <a:lnTo>
                        <a:pt x="4166" y="3603"/>
                      </a:lnTo>
                      <a:lnTo>
                        <a:pt x="4095" y="3603"/>
                      </a:lnTo>
                      <a:lnTo>
                        <a:pt x="4095" y="3665"/>
                      </a:lnTo>
                      <a:lnTo>
                        <a:pt x="4027" y="3665"/>
                      </a:lnTo>
                      <a:lnTo>
                        <a:pt x="4027" y="3733"/>
                      </a:lnTo>
                      <a:lnTo>
                        <a:pt x="3954" y="3733"/>
                      </a:lnTo>
                      <a:lnTo>
                        <a:pt x="3954" y="3798"/>
                      </a:lnTo>
                      <a:lnTo>
                        <a:pt x="3816" y="3798"/>
                      </a:lnTo>
                      <a:lnTo>
                        <a:pt x="3816" y="3932"/>
                      </a:lnTo>
                      <a:lnTo>
                        <a:pt x="3673" y="3932"/>
                      </a:lnTo>
                      <a:lnTo>
                        <a:pt x="3673" y="3994"/>
                      </a:lnTo>
                      <a:lnTo>
                        <a:pt x="3601" y="3994"/>
                      </a:lnTo>
                      <a:lnTo>
                        <a:pt x="3601" y="4062"/>
                      </a:lnTo>
                      <a:lnTo>
                        <a:pt x="3458" y="4062"/>
                      </a:lnTo>
                      <a:lnTo>
                        <a:pt x="3458" y="4127"/>
                      </a:lnTo>
                      <a:lnTo>
                        <a:pt x="3319" y="4127"/>
                      </a:lnTo>
                      <a:lnTo>
                        <a:pt x="3319" y="4190"/>
                      </a:lnTo>
                      <a:lnTo>
                        <a:pt x="2682" y="4190"/>
                      </a:lnTo>
                      <a:lnTo>
                        <a:pt x="2682" y="4127"/>
                      </a:lnTo>
                      <a:lnTo>
                        <a:pt x="2614" y="4127"/>
                      </a:lnTo>
                      <a:lnTo>
                        <a:pt x="2614" y="4190"/>
                      </a:lnTo>
                      <a:lnTo>
                        <a:pt x="2476" y="4190"/>
                      </a:lnTo>
                      <a:lnTo>
                        <a:pt x="2476" y="4256"/>
                      </a:lnTo>
                      <a:lnTo>
                        <a:pt x="2332" y="4256"/>
                      </a:lnTo>
                      <a:lnTo>
                        <a:pt x="2332" y="4323"/>
                      </a:lnTo>
                      <a:lnTo>
                        <a:pt x="1906" y="4323"/>
                      </a:lnTo>
                      <a:lnTo>
                        <a:pt x="1906" y="4256"/>
                      </a:lnTo>
                      <a:lnTo>
                        <a:pt x="1557" y="4256"/>
                      </a:lnTo>
                      <a:lnTo>
                        <a:pt x="1557" y="4190"/>
                      </a:lnTo>
                      <a:lnTo>
                        <a:pt x="1413" y="4190"/>
                      </a:lnTo>
                      <a:lnTo>
                        <a:pt x="1413" y="4127"/>
                      </a:lnTo>
                      <a:lnTo>
                        <a:pt x="1269" y="4127"/>
                      </a:lnTo>
                      <a:lnTo>
                        <a:pt x="1269" y="4062"/>
                      </a:lnTo>
                      <a:lnTo>
                        <a:pt x="1130" y="4062"/>
                      </a:lnTo>
                      <a:lnTo>
                        <a:pt x="1130" y="3994"/>
                      </a:lnTo>
                      <a:lnTo>
                        <a:pt x="992" y="3994"/>
                      </a:lnTo>
                      <a:lnTo>
                        <a:pt x="992" y="3932"/>
                      </a:lnTo>
                      <a:lnTo>
                        <a:pt x="848" y="3932"/>
                      </a:lnTo>
                      <a:lnTo>
                        <a:pt x="848" y="3865"/>
                      </a:lnTo>
                      <a:lnTo>
                        <a:pt x="708" y="3865"/>
                      </a:lnTo>
                      <a:lnTo>
                        <a:pt x="708" y="3798"/>
                      </a:lnTo>
                      <a:lnTo>
                        <a:pt x="636" y="3798"/>
                      </a:lnTo>
                      <a:lnTo>
                        <a:pt x="636" y="3733"/>
                      </a:lnTo>
                      <a:lnTo>
                        <a:pt x="565" y="3733"/>
                      </a:lnTo>
                      <a:lnTo>
                        <a:pt x="565" y="3665"/>
                      </a:lnTo>
                      <a:lnTo>
                        <a:pt x="494" y="3665"/>
                      </a:lnTo>
                      <a:lnTo>
                        <a:pt x="494" y="3603"/>
                      </a:lnTo>
                      <a:lnTo>
                        <a:pt x="422" y="3603"/>
                      </a:lnTo>
                      <a:lnTo>
                        <a:pt x="422" y="3470"/>
                      </a:lnTo>
                      <a:lnTo>
                        <a:pt x="354" y="3470"/>
                      </a:lnTo>
                      <a:lnTo>
                        <a:pt x="354" y="3404"/>
                      </a:lnTo>
                      <a:lnTo>
                        <a:pt x="282" y="3404"/>
                      </a:lnTo>
                      <a:lnTo>
                        <a:pt x="282" y="3274"/>
                      </a:lnTo>
                      <a:lnTo>
                        <a:pt x="216" y="3274"/>
                      </a:lnTo>
                      <a:lnTo>
                        <a:pt x="216" y="2425"/>
                      </a:lnTo>
                      <a:lnTo>
                        <a:pt x="282" y="2425"/>
                      </a:lnTo>
                      <a:lnTo>
                        <a:pt x="282" y="2159"/>
                      </a:lnTo>
                      <a:lnTo>
                        <a:pt x="144" y="2159"/>
                      </a:lnTo>
                      <a:lnTo>
                        <a:pt x="144" y="2093"/>
                      </a:lnTo>
                      <a:lnTo>
                        <a:pt x="72" y="2093"/>
                      </a:lnTo>
                      <a:lnTo>
                        <a:pt x="72" y="1965"/>
                      </a:lnTo>
                      <a:lnTo>
                        <a:pt x="0" y="1965"/>
                      </a:lnTo>
                      <a:lnTo>
                        <a:pt x="0" y="1506"/>
                      </a:lnTo>
                      <a:lnTo>
                        <a:pt x="72" y="1506"/>
                      </a:lnTo>
                      <a:lnTo>
                        <a:pt x="72" y="1441"/>
                      </a:lnTo>
                      <a:lnTo>
                        <a:pt x="144" y="1441"/>
                      </a:lnTo>
                      <a:lnTo>
                        <a:pt x="144" y="1373"/>
                      </a:lnTo>
                      <a:lnTo>
                        <a:pt x="216" y="1373"/>
                      </a:lnTo>
                      <a:lnTo>
                        <a:pt x="216" y="1307"/>
                      </a:lnTo>
                      <a:lnTo>
                        <a:pt x="422" y="1307"/>
                      </a:lnTo>
                      <a:lnTo>
                        <a:pt x="422" y="1506"/>
                      </a:lnTo>
                      <a:lnTo>
                        <a:pt x="354" y="1506"/>
                      </a:lnTo>
                      <a:lnTo>
                        <a:pt x="354" y="1573"/>
                      </a:lnTo>
                      <a:lnTo>
                        <a:pt x="422" y="1573"/>
                      </a:lnTo>
                      <a:lnTo>
                        <a:pt x="422" y="1835"/>
                      </a:lnTo>
                      <a:lnTo>
                        <a:pt x="494" y="1835"/>
                      </a:lnTo>
                      <a:lnTo>
                        <a:pt x="494" y="1506"/>
                      </a:lnTo>
                      <a:lnTo>
                        <a:pt x="565" y="1506"/>
                      </a:lnTo>
                      <a:lnTo>
                        <a:pt x="565" y="1441"/>
                      </a:lnTo>
                      <a:lnTo>
                        <a:pt x="494" y="1441"/>
                      </a:lnTo>
                      <a:lnTo>
                        <a:pt x="494" y="1178"/>
                      </a:lnTo>
                      <a:lnTo>
                        <a:pt x="565" y="1178"/>
                      </a:lnTo>
                      <a:lnTo>
                        <a:pt x="565" y="982"/>
                      </a:lnTo>
                      <a:lnTo>
                        <a:pt x="636" y="982"/>
                      </a:lnTo>
                      <a:lnTo>
                        <a:pt x="636" y="853"/>
                      </a:lnTo>
                      <a:lnTo>
                        <a:pt x="708" y="853"/>
                      </a:lnTo>
                      <a:lnTo>
                        <a:pt x="708" y="720"/>
                      </a:lnTo>
                      <a:lnTo>
                        <a:pt x="776" y="720"/>
                      </a:lnTo>
                      <a:lnTo>
                        <a:pt x="776" y="587"/>
                      </a:lnTo>
                      <a:lnTo>
                        <a:pt x="848" y="587"/>
                      </a:lnTo>
                      <a:lnTo>
                        <a:pt x="848" y="520"/>
                      </a:lnTo>
                      <a:lnTo>
                        <a:pt x="919" y="520"/>
                      </a:lnTo>
                      <a:lnTo>
                        <a:pt x="919" y="458"/>
                      </a:lnTo>
                      <a:lnTo>
                        <a:pt x="992" y="458"/>
                      </a:lnTo>
                      <a:lnTo>
                        <a:pt x="992" y="391"/>
                      </a:lnTo>
                      <a:lnTo>
                        <a:pt x="1059" y="391"/>
                      </a:lnTo>
                      <a:lnTo>
                        <a:pt x="1059" y="329"/>
                      </a:lnTo>
                      <a:lnTo>
                        <a:pt x="1130" y="329"/>
                      </a:lnTo>
                      <a:lnTo>
                        <a:pt x="1130" y="263"/>
                      </a:lnTo>
                      <a:lnTo>
                        <a:pt x="1269" y="263"/>
                      </a:lnTo>
                      <a:lnTo>
                        <a:pt x="1269" y="196"/>
                      </a:lnTo>
                      <a:lnTo>
                        <a:pt x="1413" y="196"/>
                      </a:lnTo>
                      <a:lnTo>
                        <a:pt x="1413" y="129"/>
                      </a:lnTo>
                      <a:lnTo>
                        <a:pt x="1557" y="129"/>
                      </a:lnTo>
                      <a:lnTo>
                        <a:pt x="1557" y="63"/>
                      </a:lnTo>
                      <a:lnTo>
                        <a:pt x="2046" y="63"/>
                      </a:lnTo>
                      <a:lnTo>
                        <a:pt x="20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95720" y="3861360"/>
                  <a:ext cx="124560" cy="98280"/>
                </a:xfrm>
                <a:custGeom>
                  <a:avLst/>
                  <a:gdLst/>
                  <a:ahLst/>
                  <a:rect l="l" t="t" r="r" b="b"/>
                  <a:pathLst>
                    <a:path w="583" h="403">
                      <a:moveTo>
                        <a:pt x="368" y="0"/>
                      </a:moveTo>
                      <a:lnTo>
                        <a:pt x="511" y="0"/>
                      </a:lnTo>
                      <a:lnTo>
                        <a:pt x="511" y="68"/>
                      </a:lnTo>
                      <a:lnTo>
                        <a:pt x="583" y="68"/>
                      </a:lnTo>
                      <a:lnTo>
                        <a:pt x="583" y="133"/>
                      </a:lnTo>
                      <a:lnTo>
                        <a:pt x="511" y="133"/>
                      </a:lnTo>
                      <a:lnTo>
                        <a:pt x="511" y="200"/>
                      </a:lnTo>
                      <a:lnTo>
                        <a:pt x="368" y="200"/>
                      </a:lnTo>
                      <a:lnTo>
                        <a:pt x="368" y="266"/>
                      </a:lnTo>
                      <a:lnTo>
                        <a:pt x="220" y="266"/>
                      </a:lnTo>
                      <a:lnTo>
                        <a:pt x="220" y="337"/>
                      </a:lnTo>
                      <a:lnTo>
                        <a:pt x="149" y="337"/>
                      </a:lnTo>
                      <a:lnTo>
                        <a:pt x="149" y="403"/>
                      </a:lnTo>
                      <a:lnTo>
                        <a:pt x="72" y="403"/>
                      </a:lnTo>
                      <a:lnTo>
                        <a:pt x="72" y="337"/>
                      </a:lnTo>
                      <a:lnTo>
                        <a:pt x="0" y="337"/>
                      </a:lnTo>
                      <a:lnTo>
                        <a:pt x="0" y="266"/>
                      </a:lnTo>
                      <a:lnTo>
                        <a:pt x="72" y="266"/>
                      </a:lnTo>
                      <a:lnTo>
                        <a:pt x="72" y="200"/>
                      </a:lnTo>
                      <a:lnTo>
                        <a:pt x="149" y="200"/>
                      </a:lnTo>
                      <a:lnTo>
                        <a:pt x="149" y="133"/>
                      </a:lnTo>
                      <a:lnTo>
                        <a:pt x="220" y="133"/>
                      </a:lnTo>
                      <a:lnTo>
                        <a:pt x="220" y="68"/>
                      </a:lnTo>
                      <a:lnTo>
                        <a:pt x="368" y="68"/>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153840" y="3861360"/>
                  <a:ext cx="124560" cy="66240"/>
                </a:xfrm>
                <a:custGeom>
                  <a:avLst/>
                  <a:gdLst/>
                  <a:ahLst/>
                  <a:rect l="l" t="t" r="r" b="b"/>
                  <a:pathLst>
                    <a:path w="578" h="274">
                      <a:moveTo>
                        <a:pt x="216" y="0"/>
                      </a:moveTo>
                      <a:lnTo>
                        <a:pt x="502" y="0"/>
                      </a:lnTo>
                      <a:lnTo>
                        <a:pt x="502" y="68"/>
                      </a:lnTo>
                      <a:lnTo>
                        <a:pt x="578" y="68"/>
                      </a:lnTo>
                      <a:lnTo>
                        <a:pt x="578" y="137"/>
                      </a:lnTo>
                      <a:lnTo>
                        <a:pt x="502" y="137"/>
                      </a:lnTo>
                      <a:lnTo>
                        <a:pt x="502" y="204"/>
                      </a:lnTo>
                      <a:lnTo>
                        <a:pt x="216" y="204"/>
                      </a:lnTo>
                      <a:lnTo>
                        <a:pt x="216" y="274"/>
                      </a:lnTo>
                      <a:lnTo>
                        <a:pt x="72" y="274"/>
                      </a:lnTo>
                      <a:lnTo>
                        <a:pt x="72" y="204"/>
                      </a:lnTo>
                      <a:lnTo>
                        <a:pt x="0" y="204"/>
                      </a:lnTo>
                      <a:lnTo>
                        <a:pt x="0" y="137"/>
                      </a:lnTo>
                      <a:lnTo>
                        <a:pt x="72" y="137"/>
                      </a:lnTo>
                      <a:lnTo>
                        <a:pt x="72" y="68"/>
                      </a:lnTo>
                      <a:lnTo>
                        <a:pt x="216" y="68"/>
                      </a:lnTo>
                      <a:lnTo>
                        <a:pt x="21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82" name=""/>
                <p:cNvSpPr/>
                <p:nvPr/>
              </p:nvSpPr>
              <p:spPr>
                <a:xfrm>
                  <a:off x="5698800" y="3876120"/>
                  <a:ext cx="64080" cy="51480"/>
                </a:xfrm>
                <a:custGeom>
                  <a:avLst/>
                  <a:gdLst/>
                  <a:ahLst/>
                  <a:rect l="l" t="t" r="r" b="b"/>
                  <a:pathLst>
                    <a:path w="299" h="212">
                      <a:moveTo>
                        <a:pt x="151" y="0"/>
                      </a:moveTo>
                      <a:lnTo>
                        <a:pt x="299" y="0"/>
                      </a:lnTo>
                      <a:lnTo>
                        <a:pt x="299" y="71"/>
                      </a:lnTo>
                      <a:lnTo>
                        <a:pt x="151" y="71"/>
                      </a:lnTo>
                      <a:lnTo>
                        <a:pt x="151" y="142"/>
                      </a:lnTo>
                      <a:lnTo>
                        <a:pt x="75" y="142"/>
                      </a:lnTo>
                      <a:lnTo>
                        <a:pt x="75" y="212"/>
                      </a:lnTo>
                      <a:lnTo>
                        <a:pt x="0" y="212"/>
                      </a:lnTo>
                      <a:lnTo>
                        <a:pt x="0" y="142"/>
                      </a:lnTo>
                      <a:lnTo>
                        <a:pt x="75" y="142"/>
                      </a:lnTo>
                      <a:lnTo>
                        <a:pt x="75" y="71"/>
                      </a:lnTo>
                      <a:lnTo>
                        <a:pt x="151" y="71"/>
                      </a:lnTo>
                      <a:lnTo>
                        <a:pt x="15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3" name=""/>
                <p:cNvSpPr/>
                <p:nvPr/>
              </p:nvSpPr>
              <p:spPr>
                <a:xfrm>
                  <a:off x="5972040" y="3876120"/>
                  <a:ext cx="33120" cy="19800"/>
                </a:xfrm>
                <a:prstGeom prst="rect">
                  <a:avLst/>
                </a:prstGeom>
                <a:solidFill>
                  <a:srgbClr val="ffa58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4" name=""/>
                <p:cNvSpPr/>
                <p:nvPr/>
              </p:nvSpPr>
              <p:spPr>
                <a:xfrm>
                  <a:off x="6198120" y="3876120"/>
                  <a:ext cx="64080" cy="19800"/>
                </a:xfrm>
                <a:prstGeom prst="rect">
                  <a:avLst/>
                </a:prstGeom>
                <a:solidFill>
                  <a:srgbClr val="ffa58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5941800" y="3892320"/>
                  <a:ext cx="3312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6" name=""/>
                <p:cNvSpPr/>
                <p:nvPr/>
              </p:nvSpPr>
              <p:spPr>
                <a:xfrm>
                  <a:off x="6168960" y="3892320"/>
                  <a:ext cx="3312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7" name=""/>
                <p:cNvSpPr/>
                <p:nvPr/>
              </p:nvSpPr>
              <p:spPr>
                <a:xfrm>
                  <a:off x="6457320" y="3892320"/>
                  <a:ext cx="63360" cy="67320"/>
                </a:xfrm>
                <a:custGeom>
                  <a:avLst/>
                  <a:gdLst/>
                  <a:ahLst/>
                  <a:rect l="l" t="t" r="r" b="b"/>
                  <a:pathLst>
                    <a:path w="294" h="277">
                      <a:moveTo>
                        <a:pt x="0" y="0"/>
                      </a:moveTo>
                      <a:lnTo>
                        <a:pt x="76" y="0"/>
                      </a:lnTo>
                      <a:lnTo>
                        <a:pt x="76" y="70"/>
                      </a:lnTo>
                      <a:lnTo>
                        <a:pt x="147" y="70"/>
                      </a:lnTo>
                      <a:lnTo>
                        <a:pt x="147" y="140"/>
                      </a:lnTo>
                      <a:lnTo>
                        <a:pt x="218" y="140"/>
                      </a:lnTo>
                      <a:lnTo>
                        <a:pt x="218" y="207"/>
                      </a:lnTo>
                      <a:lnTo>
                        <a:pt x="294" y="207"/>
                      </a:lnTo>
                      <a:lnTo>
                        <a:pt x="294" y="277"/>
                      </a:lnTo>
                      <a:lnTo>
                        <a:pt x="218" y="277"/>
                      </a:lnTo>
                      <a:lnTo>
                        <a:pt x="218" y="207"/>
                      </a:lnTo>
                      <a:lnTo>
                        <a:pt x="147" y="207"/>
                      </a:lnTo>
                      <a:lnTo>
                        <a:pt x="147" y="140"/>
                      </a:lnTo>
                      <a:lnTo>
                        <a:pt x="76" y="140"/>
                      </a:lnTo>
                      <a:lnTo>
                        <a:pt x="76" y="70"/>
                      </a:lnTo>
                      <a:lnTo>
                        <a:pt x="0" y="7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8" name=""/>
                <p:cNvSpPr/>
                <p:nvPr/>
              </p:nvSpPr>
              <p:spPr>
                <a:xfrm>
                  <a:off x="5925960" y="3908160"/>
                  <a:ext cx="1944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9" name=""/>
                <p:cNvSpPr/>
                <p:nvPr/>
              </p:nvSpPr>
              <p:spPr>
                <a:xfrm>
                  <a:off x="5729040" y="3924000"/>
                  <a:ext cx="194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0" name=""/>
                <p:cNvSpPr/>
                <p:nvPr/>
              </p:nvSpPr>
              <p:spPr>
                <a:xfrm>
                  <a:off x="5910840" y="3924000"/>
                  <a:ext cx="19440" cy="20880"/>
                </a:xfrm>
                <a:prstGeom prst="rect">
                  <a:avLst/>
                </a:prstGeom>
                <a:solidFill>
                  <a:srgbClr val="ffa584"/>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91" name=""/>
                <p:cNvSpPr/>
                <p:nvPr/>
              </p:nvSpPr>
              <p:spPr>
                <a:xfrm>
                  <a:off x="5760000" y="3957480"/>
                  <a:ext cx="638640" cy="356040"/>
                </a:xfrm>
                <a:custGeom>
                  <a:avLst/>
                  <a:gdLst/>
                  <a:ahLst/>
                  <a:rect l="l" t="t" r="r" b="b"/>
                  <a:pathLst>
                    <a:path w="2969" h="1448">
                      <a:moveTo>
                        <a:pt x="848" y="0"/>
                      </a:moveTo>
                      <a:lnTo>
                        <a:pt x="1130" y="0"/>
                      </a:lnTo>
                      <a:lnTo>
                        <a:pt x="1130" y="67"/>
                      </a:lnTo>
                      <a:lnTo>
                        <a:pt x="1202" y="67"/>
                      </a:lnTo>
                      <a:lnTo>
                        <a:pt x="1202" y="133"/>
                      </a:lnTo>
                      <a:lnTo>
                        <a:pt x="1273" y="133"/>
                      </a:lnTo>
                      <a:lnTo>
                        <a:pt x="1273" y="196"/>
                      </a:lnTo>
                      <a:lnTo>
                        <a:pt x="1345" y="196"/>
                      </a:lnTo>
                      <a:lnTo>
                        <a:pt x="1345" y="395"/>
                      </a:lnTo>
                      <a:lnTo>
                        <a:pt x="1413" y="395"/>
                      </a:lnTo>
                      <a:lnTo>
                        <a:pt x="1413" y="329"/>
                      </a:lnTo>
                      <a:lnTo>
                        <a:pt x="1555" y="329"/>
                      </a:lnTo>
                      <a:lnTo>
                        <a:pt x="1555" y="262"/>
                      </a:lnTo>
                      <a:lnTo>
                        <a:pt x="1911" y="262"/>
                      </a:lnTo>
                      <a:lnTo>
                        <a:pt x="1911" y="196"/>
                      </a:lnTo>
                      <a:lnTo>
                        <a:pt x="1978" y="196"/>
                      </a:lnTo>
                      <a:lnTo>
                        <a:pt x="1978" y="133"/>
                      </a:lnTo>
                      <a:lnTo>
                        <a:pt x="2049" y="133"/>
                      </a:lnTo>
                      <a:lnTo>
                        <a:pt x="2049" y="67"/>
                      </a:lnTo>
                      <a:lnTo>
                        <a:pt x="2476" y="67"/>
                      </a:lnTo>
                      <a:lnTo>
                        <a:pt x="2476" y="133"/>
                      </a:lnTo>
                      <a:lnTo>
                        <a:pt x="2543" y="133"/>
                      </a:lnTo>
                      <a:lnTo>
                        <a:pt x="2543" y="196"/>
                      </a:lnTo>
                      <a:lnTo>
                        <a:pt x="2615" y="196"/>
                      </a:lnTo>
                      <a:lnTo>
                        <a:pt x="2615" y="329"/>
                      </a:lnTo>
                      <a:lnTo>
                        <a:pt x="2898" y="329"/>
                      </a:lnTo>
                      <a:lnTo>
                        <a:pt x="2898" y="395"/>
                      </a:lnTo>
                      <a:lnTo>
                        <a:pt x="2969" y="395"/>
                      </a:lnTo>
                      <a:lnTo>
                        <a:pt x="2969" y="462"/>
                      </a:lnTo>
                      <a:lnTo>
                        <a:pt x="2898" y="462"/>
                      </a:lnTo>
                      <a:lnTo>
                        <a:pt x="2898" y="395"/>
                      </a:lnTo>
                      <a:lnTo>
                        <a:pt x="2615" y="395"/>
                      </a:lnTo>
                      <a:lnTo>
                        <a:pt x="2615" y="524"/>
                      </a:lnTo>
                      <a:lnTo>
                        <a:pt x="2543" y="524"/>
                      </a:lnTo>
                      <a:lnTo>
                        <a:pt x="2543" y="591"/>
                      </a:lnTo>
                      <a:lnTo>
                        <a:pt x="2476" y="591"/>
                      </a:lnTo>
                      <a:lnTo>
                        <a:pt x="2476" y="657"/>
                      </a:lnTo>
                      <a:lnTo>
                        <a:pt x="2404" y="657"/>
                      </a:lnTo>
                      <a:lnTo>
                        <a:pt x="2404" y="724"/>
                      </a:lnTo>
                      <a:lnTo>
                        <a:pt x="1978" y="724"/>
                      </a:lnTo>
                      <a:lnTo>
                        <a:pt x="1978" y="790"/>
                      </a:lnTo>
                      <a:lnTo>
                        <a:pt x="2049" y="790"/>
                      </a:lnTo>
                      <a:lnTo>
                        <a:pt x="2049" y="857"/>
                      </a:lnTo>
                      <a:lnTo>
                        <a:pt x="2121" y="857"/>
                      </a:lnTo>
                      <a:lnTo>
                        <a:pt x="2121" y="922"/>
                      </a:lnTo>
                      <a:lnTo>
                        <a:pt x="2193" y="922"/>
                      </a:lnTo>
                      <a:lnTo>
                        <a:pt x="2193" y="986"/>
                      </a:lnTo>
                      <a:lnTo>
                        <a:pt x="2264" y="986"/>
                      </a:lnTo>
                      <a:lnTo>
                        <a:pt x="2264" y="1119"/>
                      </a:lnTo>
                      <a:lnTo>
                        <a:pt x="2193" y="1119"/>
                      </a:lnTo>
                      <a:lnTo>
                        <a:pt x="2193" y="1251"/>
                      </a:lnTo>
                      <a:lnTo>
                        <a:pt x="2121" y="1251"/>
                      </a:lnTo>
                      <a:lnTo>
                        <a:pt x="2121" y="1315"/>
                      </a:lnTo>
                      <a:lnTo>
                        <a:pt x="1978" y="1315"/>
                      </a:lnTo>
                      <a:lnTo>
                        <a:pt x="1978" y="1381"/>
                      </a:lnTo>
                      <a:lnTo>
                        <a:pt x="1838" y="1381"/>
                      </a:lnTo>
                      <a:lnTo>
                        <a:pt x="1838" y="1448"/>
                      </a:lnTo>
                      <a:lnTo>
                        <a:pt x="1345" y="1448"/>
                      </a:lnTo>
                      <a:lnTo>
                        <a:pt x="1345" y="1381"/>
                      </a:lnTo>
                      <a:lnTo>
                        <a:pt x="1273" y="1381"/>
                      </a:lnTo>
                      <a:lnTo>
                        <a:pt x="1273" y="1315"/>
                      </a:lnTo>
                      <a:lnTo>
                        <a:pt x="1202" y="1315"/>
                      </a:lnTo>
                      <a:lnTo>
                        <a:pt x="1202" y="1251"/>
                      </a:lnTo>
                      <a:lnTo>
                        <a:pt x="1130" y="1251"/>
                      </a:lnTo>
                      <a:lnTo>
                        <a:pt x="1130" y="986"/>
                      </a:lnTo>
                      <a:lnTo>
                        <a:pt x="1202" y="986"/>
                      </a:lnTo>
                      <a:lnTo>
                        <a:pt x="1202" y="857"/>
                      </a:lnTo>
                      <a:lnTo>
                        <a:pt x="1273" y="857"/>
                      </a:lnTo>
                      <a:lnTo>
                        <a:pt x="1273" y="790"/>
                      </a:lnTo>
                      <a:lnTo>
                        <a:pt x="1345" y="790"/>
                      </a:lnTo>
                      <a:lnTo>
                        <a:pt x="1345" y="724"/>
                      </a:lnTo>
                      <a:lnTo>
                        <a:pt x="1413" y="724"/>
                      </a:lnTo>
                      <a:lnTo>
                        <a:pt x="1413" y="790"/>
                      </a:lnTo>
                      <a:lnTo>
                        <a:pt x="1345" y="790"/>
                      </a:lnTo>
                      <a:lnTo>
                        <a:pt x="1345" y="857"/>
                      </a:lnTo>
                      <a:lnTo>
                        <a:pt x="1273" y="857"/>
                      </a:lnTo>
                      <a:lnTo>
                        <a:pt x="1273" y="986"/>
                      </a:lnTo>
                      <a:lnTo>
                        <a:pt x="1202" y="986"/>
                      </a:lnTo>
                      <a:lnTo>
                        <a:pt x="1202" y="1251"/>
                      </a:lnTo>
                      <a:lnTo>
                        <a:pt x="1273" y="1251"/>
                      </a:lnTo>
                      <a:lnTo>
                        <a:pt x="1273" y="1315"/>
                      </a:lnTo>
                      <a:lnTo>
                        <a:pt x="1345" y="1315"/>
                      </a:lnTo>
                      <a:lnTo>
                        <a:pt x="1345" y="1381"/>
                      </a:lnTo>
                      <a:lnTo>
                        <a:pt x="1838" y="1381"/>
                      </a:lnTo>
                      <a:lnTo>
                        <a:pt x="1838" y="1315"/>
                      </a:lnTo>
                      <a:lnTo>
                        <a:pt x="1978" y="1315"/>
                      </a:lnTo>
                      <a:lnTo>
                        <a:pt x="1978" y="1251"/>
                      </a:lnTo>
                      <a:lnTo>
                        <a:pt x="2121" y="1251"/>
                      </a:lnTo>
                      <a:lnTo>
                        <a:pt x="2121" y="1119"/>
                      </a:lnTo>
                      <a:lnTo>
                        <a:pt x="2193" y="1119"/>
                      </a:lnTo>
                      <a:lnTo>
                        <a:pt x="2193" y="986"/>
                      </a:lnTo>
                      <a:lnTo>
                        <a:pt x="2121" y="986"/>
                      </a:lnTo>
                      <a:lnTo>
                        <a:pt x="2121" y="922"/>
                      </a:lnTo>
                      <a:lnTo>
                        <a:pt x="2049" y="922"/>
                      </a:lnTo>
                      <a:lnTo>
                        <a:pt x="2049" y="857"/>
                      </a:lnTo>
                      <a:lnTo>
                        <a:pt x="1978" y="857"/>
                      </a:lnTo>
                      <a:lnTo>
                        <a:pt x="1978" y="790"/>
                      </a:lnTo>
                      <a:lnTo>
                        <a:pt x="1911" y="790"/>
                      </a:lnTo>
                      <a:lnTo>
                        <a:pt x="1911" y="657"/>
                      </a:lnTo>
                      <a:lnTo>
                        <a:pt x="1838" y="657"/>
                      </a:lnTo>
                      <a:lnTo>
                        <a:pt x="1838" y="524"/>
                      </a:lnTo>
                      <a:lnTo>
                        <a:pt x="1767" y="524"/>
                      </a:lnTo>
                      <a:lnTo>
                        <a:pt x="1767" y="462"/>
                      </a:lnTo>
                      <a:lnTo>
                        <a:pt x="1696" y="462"/>
                      </a:lnTo>
                      <a:lnTo>
                        <a:pt x="1696" y="524"/>
                      </a:lnTo>
                      <a:lnTo>
                        <a:pt x="1485" y="524"/>
                      </a:lnTo>
                      <a:lnTo>
                        <a:pt x="1485" y="591"/>
                      </a:lnTo>
                      <a:lnTo>
                        <a:pt x="1273" y="591"/>
                      </a:lnTo>
                      <a:lnTo>
                        <a:pt x="1273" y="657"/>
                      </a:lnTo>
                      <a:lnTo>
                        <a:pt x="1202" y="657"/>
                      </a:lnTo>
                      <a:lnTo>
                        <a:pt x="1202" y="724"/>
                      </a:lnTo>
                      <a:lnTo>
                        <a:pt x="1130" y="724"/>
                      </a:lnTo>
                      <a:lnTo>
                        <a:pt x="1130" y="790"/>
                      </a:lnTo>
                      <a:lnTo>
                        <a:pt x="636" y="790"/>
                      </a:lnTo>
                      <a:lnTo>
                        <a:pt x="636" y="857"/>
                      </a:lnTo>
                      <a:lnTo>
                        <a:pt x="565" y="857"/>
                      </a:lnTo>
                      <a:lnTo>
                        <a:pt x="565" y="922"/>
                      </a:lnTo>
                      <a:lnTo>
                        <a:pt x="494" y="922"/>
                      </a:lnTo>
                      <a:lnTo>
                        <a:pt x="494" y="986"/>
                      </a:lnTo>
                      <a:lnTo>
                        <a:pt x="427" y="986"/>
                      </a:lnTo>
                      <a:lnTo>
                        <a:pt x="427" y="922"/>
                      </a:lnTo>
                      <a:lnTo>
                        <a:pt x="494" y="922"/>
                      </a:lnTo>
                      <a:lnTo>
                        <a:pt x="494" y="857"/>
                      </a:lnTo>
                      <a:lnTo>
                        <a:pt x="565" y="857"/>
                      </a:lnTo>
                      <a:lnTo>
                        <a:pt x="565" y="790"/>
                      </a:lnTo>
                      <a:lnTo>
                        <a:pt x="636" y="790"/>
                      </a:lnTo>
                      <a:lnTo>
                        <a:pt x="636" y="724"/>
                      </a:lnTo>
                      <a:lnTo>
                        <a:pt x="565" y="724"/>
                      </a:lnTo>
                      <a:lnTo>
                        <a:pt x="565" y="657"/>
                      </a:lnTo>
                      <a:lnTo>
                        <a:pt x="494" y="657"/>
                      </a:lnTo>
                      <a:lnTo>
                        <a:pt x="494" y="591"/>
                      </a:lnTo>
                      <a:lnTo>
                        <a:pt x="427" y="591"/>
                      </a:lnTo>
                      <a:lnTo>
                        <a:pt x="427" y="524"/>
                      </a:lnTo>
                      <a:lnTo>
                        <a:pt x="283" y="524"/>
                      </a:lnTo>
                      <a:lnTo>
                        <a:pt x="283" y="591"/>
                      </a:lnTo>
                      <a:lnTo>
                        <a:pt x="143" y="591"/>
                      </a:lnTo>
                      <a:lnTo>
                        <a:pt x="143" y="657"/>
                      </a:lnTo>
                      <a:lnTo>
                        <a:pt x="71" y="657"/>
                      </a:lnTo>
                      <a:lnTo>
                        <a:pt x="71" y="724"/>
                      </a:lnTo>
                      <a:lnTo>
                        <a:pt x="0" y="724"/>
                      </a:lnTo>
                      <a:lnTo>
                        <a:pt x="0" y="657"/>
                      </a:lnTo>
                      <a:lnTo>
                        <a:pt x="71" y="657"/>
                      </a:lnTo>
                      <a:lnTo>
                        <a:pt x="71" y="591"/>
                      </a:lnTo>
                      <a:lnTo>
                        <a:pt x="143" y="591"/>
                      </a:lnTo>
                      <a:lnTo>
                        <a:pt x="143" y="524"/>
                      </a:lnTo>
                      <a:lnTo>
                        <a:pt x="283" y="524"/>
                      </a:lnTo>
                      <a:lnTo>
                        <a:pt x="283" y="462"/>
                      </a:lnTo>
                      <a:lnTo>
                        <a:pt x="427" y="462"/>
                      </a:lnTo>
                      <a:lnTo>
                        <a:pt x="427" y="329"/>
                      </a:lnTo>
                      <a:lnTo>
                        <a:pt x="494" y="329"/>
                      </a:lnTo>
                      <a:lnTo>
                        <a:pt x="494" y="196"/>
                      </a:lnTo>
                      <a:lnTo>
                        <a:pt x="565" y="196"/>
                      </a:lnTo>
                      <a:lnTo>
                        <a:pt x="565" y="133"/>
                      </a:lnTo>
                      <a:lnTo>
                        <a:pt x="704" y="133"/>
                      </a:lnTo>
                      <a:lnTo>
                        <a:pt x="704" y="67"/>
                      </a:lnTo>
                      <a:lnTo>
                        <a:pt x="848" y="67"/>
                      </a:lnTo>
                      <a:lnTo>
                        <a:pt x="8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98800" y="3973680"/>
                  <a:ext cx="49320" cy="50040"/>
                </a:xfrm>
                <a:custGeom>
                  <a:avLst/>
                  <a:gdLst/>
                  <a:ahLst/>
                  <a:rect l="l" t="t" r="r" b="b"/>
                  <a:pathLst>
                    <a:path w="231" h="209">
                      <a:moveTo>
                        <a:pt x="155" y="0"/>
                      </a:moveTo>
                      <a:lnTo>
                        <a:pt x="231" y="0"/>
                      </a:lnTo>
                      <a:lnTo>
                        <a:pt x="231" y="69"/>
                      </a:lnTo>
                      <a:lnTo>
                        <a:pt x="155" y="69"/>
                      </a:lnTo>
                      <a:lnTo>
                        <a:pt x="155" y="140"/>
                      </a:lnTo>
                      <a:lnTo>
                        <a:pt x="75" y="140"/>
                      </a:lnTo>
                      <a:lnTo>
                        <a:pt x="75" y="209"/>
                      </a:lnTo>
                      <a:lnTo>
                        <a:pt x="0" y="209"/>
                      </a:lnTo>
                      <a:lnTo>
                        <a:pt x="0" y="140"/>
                      </a:lnTo>
                      <a:lnTo>
                        <a:pt x="75" y="140"/>
                      </a:lnTo>
                      <a:lnTo>
                        <a:pt x="75" y="69"/>
                      </a:lnTo>
                      <a:lnTo>
                        <a:pt x="155" y="69"/>
                      </a:lnTo>
                      <a:lnTo>
                        <a:pt x="155"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3" name=""/>
                <p:cNvSpPr/>
                <p:nvPr/>
              </p:nvSpPr>
              <p:spPr>
                <a:xfrm>
                  <a:off x="5865480" y="3973680"/>
                  <a:ext cx="169920" cy="163440"/>
                </a:xfrm>
                <a:custGeom>
                  <a:avLst/>
                  <a:gdLst/>
                  <a:ahLst/>
                  <a:rect l="l" t="t" r="r" b="b"/>
                  <a:pathLst>
                    <a:path w="793" h="668">
                      <a:moveTo>
                        <a:pt x="359" y="0"/>
                      </a:moveTo>
                      <a:lnTo>
                        <a:pt x="650" y="0"/>
                      </a:lnTo>
                      <a:lnTo>
                        <a:pt x="650" y="65"/>
                      </a:lnTo>
                      <a:lnTo>
                        <a:pt x="722" y="65"/>
                      </a:lnTo>
                      <a:lnTo>
                        <a:pt x="722" y="132"/>
                      </a:lnTo>
                      <a:lnTo>
                        <a:pt x="793" y="132"/>
                      </a:lnTo>
                      <a:lnTo>
                        <a:pt x="793" y="535"/>
                      </a:lnTo>
                      <a:lnTo>
                        <a:pt x="722" y="535"/>
                      </a:lnTo>
                      <a:lnTo>
                        <a:pt x="722" y="602"/>
                      </a:lnTo>
                      <a:lnTo>
                        <a:pt x="650" y="602"/>
                      </a:lnTo>
                      <a:lnTo>
                        <a:pt x="650" y="668"/>
                      </a:lnTo>
                      <a:lnTo>
                        <a:pt x="144" y="668"/>
                      </a:lnTo>
                      <a:lnTo>
                        <a:pt x="144" y="602"/>
                      </a:lnTo>
                      <a:lnTo>
                        <a:pt x="73" y="602"/>
                      </a:lnTo>
                      <a:lnTo>
                        <a:pt x="73" y="535"/>
                      </a:lnTo>
                      <a:lnTo>
                        <a:pt x="0" y="535"/>
                      </a:lnTo>
                      <a:lnTo>
                        <a:pt x="0" y="265"/>
                      </a:lnTo>
                      <a:lnTo>
                        <a:pt x="73" y="265"/>
                      </a:lnTo>
                      <a:lnTo>
                        <a:pt x="73" y="132"/>
                      </a:lnTo>
                      <a:lnTo>
                        <a:pt x="215" y="132"/>
                      </a:lnTo>
                      <a:lnTo>
                        <a:pt x="215" y="65"/>
                      </a:lnTo>
                      <a:lnTo>
                        <a:pt x="359" y="65"/>
                      </a:lnTo>
                      <a:lnTo>
                        <a:pt x="359"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410880" y="3973680"/>
                  <a:ext cx="93600" cy="114480"/>
                </a:xfrm>
                <a:custGeom>
                  <a:avLst/>
                  <a:gdLst/>
                  <a:ahLst/>
                  <a:rect l="l" t="t" r="r" b="b"/>
                  <a:pathLst>
                    <a:path w="438" h="468">
                      <a:moveTo>
                        <a:pt x="0" y="0"/>
                      </a:moveTo>
                      <a:lnTo>
                        <a:pt x="295" y="0"/>
                      </a:lnTo>
                      <a:lnTo>
                        <a:pt x="295" y="65"/>
                      </a:lnTo>
                      <a:lnTo>
                        <a:pt x="365" y="65"/>
                      </a:lnTo>
                      <a:lnTo>
                        <a:pt x="365" y="132"/>
                      </a:lnTo>
                      <a:lnTo>
                        <a:pt x="438" y="132"/>
                      </a:lnTo>
                      <a:lnTo>
                        <a:pt x="438" y="335"/>
                      </a:lnTo>
                      <a:lnTo>
                        <a:pt x="365" y="335"/>
                      </a:lnTo>
                      <a:lnTo>
                        <a:pt x="365" y="268"/>
                      </a:lnTo>
                      <a:lnTo>
                        <a:pt x="295" y="268"/>
                      </a:lnTo>
                      <a:lnTo>
                        <a:pt x="295" y="132"/>
                      </a:lnTo>
                      <a:lnTo>
                        <a:pt x="218" y="132"/>
                      </a:lnTo>
                      <a:lnTo>
                        <a:pt x="218" y="468"/>
                      </a:lnTo>
                      <a:lnTo>
                        <a:pt x="71" y="468"/>
                      </a:lnTo>
                      <a:lnTo>
                        <a:pt x="71"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153840" y="3989520"/>
                  <a:ext cx="153720" cy="131760"/>
                </a:xfrm>
                <a:custGeom>
                  <a:avLst/>
                  <a:gdLst/>
                  <a:ahLst/>
                  <a:rect l="l" t="t" r="r" b="b"/>
                  <a:pathLst>
                    <a:path w="717" h="537">
                      <a:moveTo>
                        <a:pt x="216" y="0"/>
                      </a:moveTo>
                      <a:lnTo>
                        <a:pt x="649" y="0"/>
                      </a:lnTo>
                      <a:lnTo>
                        <a:pt x="649" y="67"/>
                      </a:lnTo>
                      <a:lnTo>
                        <a:pt x="717" y="67"/>
                      </a:lnTo>
                      <a:lnTo>
                        <a:pt x="717" y="399"/>
                      </a:lnTo>
                      <a:lnTo>
                        <a:pt x="649" y="399"/>
                      </a:lnTo>
                      <a:lnTo>
                        <a:pt x="649" y="470"/>
                      </a:lnTo>
                      <a:lnTo>
                        <a:pt x="574" y="470"/>
                      </a:lnTo>
                      <a:lnTo>
                        <a:pt x="574" y="537"/>
                      </a:lnTo>
                      <a:lnTo>
                        <a:pt x="72" y="537"/>
                      </a:lnTo>
                      <a:lnTo>
                        <a:pt x="72" y="399"/>
                      </a:lnTo>
                      <a:lnTo>
                        <a:pt x="0" y="399"/>
                      </a:lnTo>
                      <a:lnTo>
                        <a:pt x="0" y="200"/>
                      </a:lnTo>
                      <a:lnTo>
                        <a:pt x="72" y="200"/>
                      </a:lnTo>
                      <a:lnTo>
                        <a:pt x="72" y="133"/>
                      </a:lnTo>
                      <a:lnTo>
                        <a:pt x="143" y="133"/>
                      </a:lnTo>
                      <a:lnTo>
                        <a:pt x="143" y="67"/>
                      </a:lnTo>
                      <a:lnTo>
                        <a:pt x="216" y="67"/>
                      </a:lnTo>
                      <a:lnTo>
                        <a:pt x="216"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442200" y="3989520"/>
                  <a:ext cx="1692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97" name=""/>
                <p:cNvSpPr/>
                <p:nvPr/>
              </p:nvSpPr>
              <p:spPr>
                <a:xfrm>
                  <a:off x="6047640" y="4037400"/>
                  <a:ext cx="94320" cy="50400"/>
                </a:xfrm>
                <a:custGeom>
                  <a:avLst/>
                  <a:gdLst/>
                  <a:ahLst/>
                  <a:rect l="l" t="t" r="r" b="b"/>
                  <a:pathLst>
                    <a:path w="439" h="206">
                      <a:moveTo>
                        <a:pt x="218" y="0"/>
                      </a:moveTo>
                      <a:lnTo>
                        <a:pt x="439" y="0"/>
                      </a:lnTo>
                      <a:lnTo>
                        <a:pt x="439" y="69"/>
                      </a:lnTo>
                      <a:lnTo>
                        <a:pt x="368" y="69"/>
                      </a:lnTo>
                      <a:lnTo>
                        <a:pt x="368" y="140"/>
                      </a:lnTo>
                      <a:lnTo>
                        <a:pt x="144" y="140"/>
                      </a:lnTo>
                      <a:lnTo>
                        <a:pt x="144" y="206"/>
                      </a:lnTo>
                      <a:lnTo>
                        <a:pt x="0" y="206"/>
                      </a:lnTo>
                      <a:lnTo>
                        <a:pt x="0" y="140"/>
                      </a:lnTo>
                      <a:lnTo>
                        <a:pt x="71" y="140"/>
                      </a:lnTo>
                      <a:lnTo>
                        <a:pt x="71" y="69"/>
                      </a:lnTo>
                      <a:lnTo>
                        <a:pt x="218" y="69"/>
                      </a:lnTo>
                      <a:lnTo>
                        <a:pt x="218" y="0"/>
                      </a:lnTo>
                      <a:close/>
                    </a:path>
                  </a:pathLst>
                </a:custGeom>
                <a:solidFill>
                  <a:srgbClr val="ffa584"/>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6457320" y="4117680"/>
                  <a:ext cx="78480" cy="132840"/>
                </a:xfrm>
                <a:custGeom>
                  <a:avLst/>
                  <a:gdLst/>
                  <a:ahLst/>
                  <a:rect l="l" t="t" r="r" b="b"/>
                  <a:pathLst>
                    <a:path w="367" h="541">
                      <a:moveTo>
                        <a:pt x="76" y="0"/>
                      </a:moveTo>
                      <a:lnTo>
                        <a:pt x="144" y="0"/>
                      </a:lnTo>
                      <a:lnTo>
                        <a:pt x="144" y="67"/>
                      </a:lnTo>
                      <a:lnTo>
                        <a:pt x="76" y="67"/>
                      </a:lnTo>
                      <a:lnTo>
                        <a:pt x="76" y="137"/>
                      </a:lnTo>
                      <a:lnTo>
                        <a:pt x="144" y="137"/>
                      </a:lnTo>
                      <a:lnTo>
                        <a:pt x="144" y="270"/>
                      </a:lnTo>
                      <a:lnTo>
                        <a:pt x="218" y="270"/>
                      </a:lnTo>
                      <a:lnTo>
                        <a:pt x="218" y="337"/>
                      </a:lnTo>
                      <a:lnTo>
                        <a:pt x="291" y="337"/>
                      </a:lnTo>
                      <a:lnTo>
                        <a:pt x="291" y="403"/>
                      </a:lnTo>
                      <a:lnTo>
                        <a:pt x="367" y="403"/>
                      </a:lnTo>
                      <a:lnTo>
                        <a:pt x="367" y="541"/>
                      </a:lnTo>
                      <a:lnTo>
                        <a:pt x="291" y="541"/>
                      </a:lnTo>
                      <a:lnTo>
                        <a:pt x="291" y="403"/>
                      </a:lnTo>
                      <a:lnTo>
                        <a:pt x="218" y="403"/>
                      </a:lnTo>
                      <a:lnTo>
                        <a:pt x="218" y="337"/>
                      </a:lnTo>
                      <a:lnTo>
                        <a:pt x="144" y="337"/>
                      </a:lnTo>
                      <a:lnTo>
                        <a:pt x="144" y="270"/>
                      </a:lnTo>
                      <a:lnTo>
                        <a:pt x="76" y="270"/>
                      </a:lnTo>
                      <a:lnTo>
                        <a:pt x="76" y="137"/>
                      </a:lnTo>
                      <a:lnTo>
                        <a:pt x="0" y="137"/>
                      </a:lnTo>
                      <a:lnTo>
                        <a:pt x="0" y="67"/>
                      </a:lnTo>
                      <a:lnTo>
                        <a:pt x="76" y="67"/>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68560" y="4133520"/>
                  <a:ext cx="48240" cy="51480"/>
                </a:xfrm>
                <a:custGeom>
                  <a:avLst/>
                  <a:gdLst/>
                  <a:ahLst/>
                  <a:rect l="l" t="t" r="r" b="b"/>
                  <a:pathLst>
                    <a:path w="227" h="212">
                      <a:moveTo>
                        <a:pt x="77" y="0"/>
                      </a:moveTo>
                      <a:lnTo>
                        <a:pt x="227" y="0"/>
                      </a:lnTo>
                      <a:lnTo>
                        <a:pt x="227" y="70"/>
                      </a:lnTo>
                      <a:lnTo>
                        <a:pt x="77" y="70"/>
                      </a:lnTo>
                      <a:lnTo>
                        <a:pt x="77" y="212"/>
                      </a:lnTo>
                      <a:lnTo>
                        <a:pt x="0" y="212"/>
                      </a:lnTo>
                      <a:lnTo>
                        <a:pt x="0" y="70"/>
                      </a:lnTo>
                      <a:lnTo>
                        <a:pt x="77" y="70"/>
                      </a:lnTo>
                      <a:lnTo>
                        <a:pt x="77"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0" name=""/>
                <p:cNvSpPr/>
                <p:nvPr/>
              </p:nvSpPr>
              <p:spPr>
                <a:xfrm>
                  <a:off x="5698800" y="4229640"/>
                  <a:ext cx="34200" cy="83520"/>
                </a:xfrm>
                <a:custGeom>
                  <a:avLst/>
                  <a:gdLst/>
                  <a:ahLst/>
                  <a:rect l="l" t="t" r="r" b="b"/>
                  <a:pathLst>
                    <a:path w="160" h="340">
                      <a:moveTo>
                        <a:pt x="80" y="0"/>
                      </a:moveTo>
                      <a:lnTo>
                        <a:pt x="160" y="0"/>
                      </a:lnTo>
                      <a:lnTo>
                        <a:pt x="160" y="137"/>
                      </a:lnTo>
                      <a:lnTo>
                        <a:pt x="80" y="137"/>
                      </a:lnTo>
                      <a:lnTo>
                        <a:pt x="80" y="340"/>
                      </a:lnTo>
                      <a:lnTo>
                        <a:pt x="0" y="340"/>
                      </a:lnTo>
                      <a:lnTo>
                        <a:pt x="0" y="137"/>
                      </a:lnTo>
                      <a:lnTo>
                        <a:pt x="80" y="137"/>
                      </a:lnTo>
                      <a:lnTo>
                        <a:pt x="80" y="69"/>
                      </a:lnTo>
                      <a:lnTo>
                        <a:pt x="8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1" name=""/>
                <p:cNvSpPr/>
                <p:nvPr/>
              </p:nvSpPr>
              <p:spPr>
                <a:xfrm>
                  <a:off x="6547680" y="4262760"/>
                  <a:ext cx="1800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2" name=""/>
                <p:cNvSpPr/>
                <p:nvPr/>
              </p:nvSpPr>
              <p:spPr>
                <a:xfrm>
                  <a:off x="5880600" y="4343040"/>
                  <a:ext cx="458280" cy="132840"/>
                </a:xfrm>
                <a:custGeom>
                  <a:avLst/>
                  <a:gdLst/>
                  <a:ahLst/>
                  <a:rect l="l" t="t" r="r" b="b"/>
                  <a:pathLst>
                    <a:path w="2129" h="539">
                      <a:moveTo>
                        <a:pt x="357" y="0"/>
                      </a:moveTo>
                      <a:lnTo>
                        <a:pt x="430" y="0"/>
                      </a:lnTo>
                      <a:lnTo>
                        <a:pt x="430" y="137"/>
                      </a:lnTo>
                      <a:lnTo>
                        <a:pt x="357" y="137"/>
                      </a:lnTo>
                      <a:lnTo>
                        <a:pt x="357" y="203"/>
                      </a:lnTo>
                      <a:lnTo>
                        <a:pt x="430" y="203"/>
                      </a:lnTo>
                      <a:lnTo>
                        <a:pt x="430" y="270"/>
                      </a:lnTo>
                      <a:lnTo>
                        <a:pt x="496" y="270"/>
                      </a:lnTo>
                      <a:lnTo>
                        <a:pt x="496" y="336"/>
                      </a:lnTo>
                      <a:lnTo>
                        <a:pt x="640" y="336"/>
                      </a:lnTo>
                      <a:lnTo>
                        <a:pt x="640" y="404"/>
                      </a:lnTo>
                      <a:lnTo>
                        <a:pt x="779" y="404"/>
                      </a:lnTo>
                      <a:lnTo>
                        <a:pt x="779" y="473"/>
                      </a:lnTo>
                      <a:lnTo>
                        <a:pt x="1276" y="473"/>
                      </a:lnTo>
                      <a:lnTo>
                        <a:pt x="1276" y="404"/>
                      </a:lnTo>
                      <a:lnTo>
                        <a:pt x="1487" y="404"/>
                      </a:lnTo>
                      <a:lnTo>
                        <a:pt x="1487" y="336"/>
                      </a:lnTo>
                      <a:lnTo>
                        <a:pt x="1559" y="336"/>
                      </a:lnTo>
                      <a:lnTo>
                        <a:pt x="1559" y="270"/>
                      </a:lnTo>
                      <a:lnTo>
                        <a:pt x="1631" y="270"/>
                      </a:lnTo>
                      <a:lnTo>
                        <a:pt x="1631" y="203"/>
                      </a:lnTo>
                      <a:lnTo>
                        <a:pt x="1702" y="203"/>
                      </a:lnTo>
                      <a:lnTo>
                        <a:pt x="1702" y="0"/>
                      </a:lnTo>
                      <a:lnTo>
                        <a:pt x="1770" y="0"/>
                      </a:lnTo>
                      <a:lnTo>
                        <a:pt x="1770" y="203"/>
                      </a:lnTo>
                      <a:lnTo>
                        <a:pt x="1846" y="203"/>
                      </a:lnTo>
                      <a:lnTo>
                        <a:pt x="1846" y="270"/>
                      </a:lnTo>
                      <a:lnTo>
                        <a:pt x="1917" y="270"/>
                      </a:lnTo>
                      <a:lnTo>
                        <a:pt x="1917" y="336"/>
                      </a:lnTo>
                      <a:lnTo>
                        <a:pt x="2129" y="336"/>
                      </a:lnTo>
                      <a:lnTo>
                        <a:pt x="2129" y="404"/>
                      </a:lnTo>
                      <a:lnTo>
                        <a:pt x="1917" y="404"/>
                      </a:lnTo>
                      <a:lnTo>
                        <a:pt x="1917" y="336"/>
                      </a:lnTo>
                      <a:lnTo>
                        <a:pt x="1846" y="336"/>
                      </a:lnTo>
                      <a:lnTo>
                        <a:pt x="1846" y="270"/>
                      </a:lnTo>
                      <a:lnTo>
                        <a:pt x="1770" y="270"/>
                      </a:lnTo>
                      <a:lnTo>
                        <a:pt x="1770" y="203"/>
                      </a:lnTo>
                      <a:lnTo>
                        <a:pt x="1702" y="203"/>
                      </a:lnTo>
                      <a:lnTo>
                        <a:pt x="1702" y="270"/>
                      </a:lnTo>
                      <a:lnTo>
                        <a:pt x="1631" y="270"/>
                      </a:lnTo>
                      <a:lnTo>
                        <a:pt x="1631" y="336"/>
                      </a:lnTo>
                      <a:lnTo>
                        <a:pt x="1559" y="336"/>
                      </a:lnTo>
                      <a:lnTo>
                        <a:pt x="1559" y="404"/>
                      </a:lnTo>
                      <a:lnTo>
                        <a:pt x="1487" y="404"/>
                      </a:lnTo>
                      <a:lnTo>
                        <a:pt x="1487" y="473"/>
                      </a:lnTo>
                      <a:lnTo>
                        <a:pt x="1276" y="473"/>
                      </a:lnTo>
                      <a:lnTo>
                        <a:pt x="1276" y="539"/>
                      </a:lnTo>
                      <a:lnTo>
                        <a:pt x="779" y="539"/>
                      </a:lnTo>
                      <a:lnTo>
                        <a:pt x="779" y="473"/>
                      </a:lnTo>
                      <a:lnTo>
                        <a:pt x="640" y="473"/>
                      </a:lnTo>
                      <a:lnTo>
                        <a:pt x="640" y="404"/>
                      </a:lnTo>
                      <a:lnTo>
                        <a:pt x="496" y="404"/>
                      </a:lnTo>
                      <a:lnTo>
                        <a:pt x="496" y="336"/>
                      </a:lnTo>
                      <a:lnTo>
                        <a:pt x="430" y="336"/>
                      </a:lnTo>
                      <a:lnTo>
                        <a:pt x="430" y="270"/>
                      </a:lnTo>
                      <a:lnTo>
                        <a:pt x="357" y="270"/>
                      </a:lnTo>
                      <a:lnTo>
                        <a:pt x="357" y="203"/>
                      </a:lnTo>
                      <a:lnTo>
                        <a:pt x="286" y="203"/>
                      </a:lnTo>
                      <a:lnTo>
                        <a:pt x="286" y="270"/>
                      </a:lnTo>
                      <a:lnTo>
                        <a:pt x="215" y="270"/>
                      </a:lnTo>
                      <a:lnTo>
                        <a:pt x="215" y="336"/>
                      </a:lnTo>
                      <a:lnTo>
                        <a:pt x="142" y="336"/>
                      </a:lnTo>
                      <a:lnTo>
                        <a:pt x="142" y="404"/>
                      </a:lnTo>
                      <a:lnTo>
                        <a:pt x="0" y="404"/>
                      </a:lnTo>
                      <a:lnTo>
                        <a:pt x="0" y="336"/>
                      </a:lnTo>
                      <a:lnTo>
                        <a:pt x="142" y="336"/>
                      </a:lnTo>
                      <a:lnTo>
                        <a:pt x="142" y="270"/>
                      </a:lnTo>
                      <a:lnTo>
                        <a:pt x="215" y="270"/>
                      </a:lnTo>
                      <a:lnTo>
                        <a:pt x="215" y="203"/>
                      </a:lnTo>
                      <a:lnTo>
                        <a:pt x="286" y="203"/>
                      </a:lnTo>
                      <a:lnTo>
                        <a:pt x="286" y="137"/>
                      </a:lnTo>
                      <a:lnTo>
                        <a:pt x="357" y="137"/>
                      </a:lnTo>
                      <a:lnTo>
                        <a:pt x="357" y="66"/>
                      </a:lnTo>
                      <a:lnTo>
                        <a:pt x="3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380560" y="4439160"/>
                  <a:ext cx="65520" cy="83160"/>
                </a:xfrm>
                <a:custGeom>
                  <a:avLst/>
                  <a:gdLst/>
                  <a:ahLst/>
                  <a:rect l="l" t="t" r="r" b="b"/>
                  <a:pathLst>
                    <a:path w="301" h="340">
                      <a:moveTo>
                        <a:pt x="0" y="0"/>
                      </a:moveTo>
                      <a:lnTo>
                        <a:pt x="77" y="0"/>
                      </a:lnTo>
                      <a:lnTo>
                        <a:pt x="77" y="271"/>
                      </a:lnTo>
                      <a:lnTo>
                        <a:pt x="301" y="271"/>
                      </a:lnTo>
                      <a:lnTo>
                        <a:pt x="301" y="340"/>
                      </a:lnTo>
                      <a:lnTo>
                        <a:pt x="77" y="340"/>
                      </a:lnTo>
                      <a:lnTo>
                        <a:pt x="77" y="271"/>
                      </a:lnTo>
                      <a:lnTo>
                        <a:pt x="0" y="271"/>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4" name=""/>
                <p:cNvSpPr/>
                <p:nvPr/>
              </p:nvSpPr>
              <p:spPr>
                <a:xfrm>
                  <a:off x="5648400" y="3973680"/>
                  <a:ext cx="93240" cy="114480"/>
                </a:xfrm>
                <a:custGeom>
                  <a:avLst/>
                  <a:gdLst/>
                  <a:ahLst/>
                  <a:rect l="l" t="t" r="r" b="b"/>
                  <a:pathLst>
                    <a:path w="437" h="468">
                      <a:moveTo>
                        <a:pt x="437" y="0"/>
                      </a:moveTo>
                      <a:lnTo>
                        <a:pt x="142" y="0"/>
                      </a:lnTo>
                      <a:lnTo>
                        <a:pt x="142" y="65"/>
                      </a:lnTo>
                      <a:lnTo>
                        <a:pt x="71" y="65"/>
                      </a:lnTo>
                      <a:lnTo>
                        <a:pt x="71" y="132"/>
                      </a:lnTo>
                      <a:lnTo>
                        <a:pt x="0" y="132"/>
                      </a:lnTo>
                      <a:lnTo>
                        <a:pt x="0" y="335"/>
                      </a:lnTo>
                      <a:lnTo>
                        <a:pt x="71" y="335"/>
                      </a:lnTo>
                      <a:lnTo>
                        <a:pt x="71" y="268"/>
                      </a:lnTo>
                      <a:lnTo>
                        <a:pt x="142" y="268"/>
                      </a:lnTo>
                      <a:lnTo>
                        <a:pt x="142" y="132"/>
                      </a:lnTo>
                      <a:lnTo>
                        <a:pt x="219" y="132"/>
                      </a:lnTo>
                      <a:lnTo>
                        <a:pt x="219" y="468"/>
                      </a:lnTo>
                      <a:lnTo>
                        <a:pt x="366" y="468"/>
                      </a:lnTo>
                      <a:lnTo>
                        <a:pt x="366" y="65"/>
                      </a:lnTo>
                      <a:lnTo>
                        <a:pt x="437" y="65"/>
                      </a:lnTo>
                      <a:lnTo>
                        <a:pt x="4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5018400" y="4504320"/>
                <a:ext cx="2274480" cy="1836000"/>
                <a:chOff x="5018400" y="4504320"/>
                <a:chExt cx="2274480" cy="1836000"/>
              </a:xfrm>
            </p:grpSpPr>
            <p:sp>
              <p:nvSpPr>
                <p:cNvPr id="406" name=""/>
                <p:cNvSpPr/>
                <p:nvPr/>
              </p:nvSpPr>
              <p:spPr>
                <a:xfrm>
                  <a:off x="5018400" y="4504320"/>
                  <a:ext cx="1092960" cy="1836000"/>
                </a:xfrm>
                <a:custGeom>
                  <a:avLst/>
                  <a:gdLst/>
                  <a:ahLst/>
                  <a:rect l="l" t="t" r="r" b="b"/>
                  <a:pathLst>
                    <a:path w="5081" h="7455">
                      <a:moveTo>
                        <a:pt x="2964" y="0"/>
                      </a:moveTo>
                      <a:lnTo>
                        <a:pt x="3035" y="0"/>
                      </a:lnTo>
                      <a:lnTo>
                        <a:pt x="3035" y="327"/>
                      </a:lnTo>
                      <a:lnTo>
                        <a:pt x="3107" y="327"/>
                      </a:lnTo>
                      <a:lnTo>
                        <a:pt x="3107" y="457"/>
                      </a:lnTo>
                      <a:lnTo>
                        <a:pt x="3175" y="457"/>
                      </a:lnTo>
                      <a:lnTo>
                        <a:pt x="3175" y="1371"/>
                      </a:lnTo>
                      <a:lnTo>
                        <a:pt x="3247" y="1371"/>
                      </a:lnTo>
                      <a:lnTo>
                        <a:pt x="3247" y="1700"/>
                      </a:lnTo>
                      <a:lnTo>
                        <a:pt x="3314" y="1700"/>
                      </a:lnTo>
                      <a:lnTo>
                        <a:pt x="3314" y="2025"/>
                      </a:lnTo>
                      <a:lnTo>
                        <a:pt x="3385" y="2025"/>
                      </a:lnTo>
                      <a:lnTo>
                        <a:pt x="3385" y="2225"/>
                      </a:lnTo>
                      <a:lnTo>
                        <a:pt x="3458" y="2225"/>
                      </a:lnTo>
                      <a:lnTo>
                        <a:pt x="3458" y="2421"/>
                      </a:lnTo>
                      <a:lnTo>
                        <a:pt x="3529" y="2421"/>
                      </a:lnTo>
                      <a:lnTo>
                        <a:pt x="3529" y="2549"/>
                      </a:lnTo>
                      <a:lnTo>
                        <a:pt x="3600" y="2549"/>
                      </a:lnTo>
                      <a:lnTo>
                        <a:pt x="3600" y="2682"/>
                      </a:lnTo>
                      <a:lnTo>
                        <a:pt x="3668" y="2682"/>
                      </a:lnTo>
                      <a:lnTo>
                        <a:pt x="3668" y="2877"/>
                      </a:lnTo>
                      <a:lnTo>
                        <a:pt x="3741" y="2877"/>
                      </a:lnTo>
                      <a:lnTo>
                        <a:pt x="3741" y="3007"/>
                      </a:lnTo>
                      <a:lnTo>
                        <a:pt x="3812" y="3007"/>
                      </a:lnTo>
                      <a:lnTo>
                        <a:pt x="3812" y="3139"/>
                      </a:lnTo>
                      <a:lnTo>
                        <a:pt x="3883" y="3139"/>
                      </a:lnTo>
                      <a:lnTo>
                        <a:pt x="3883" y="3203"/>
                      </a:lnTo>
                      <a:lnTo>
                        <a:pt x="3951" y="3203"/>
                      </a:lnTo>
                      <a:lnTo>
                        <a:pt x="3951" y="3336"/>
                      </a:lnTo>
                      <a:lnTo>
                        <a:pt x="4023" y="3336"/>
                      </a:lnTo>
                      <a:lnTo>
                        <a:pt x="4023" y="3402"/>
                      </a:lnTo>
                      <a:lnTo>
                        <a:pt x="4091" y="3402"/>
                      </a:lnTo>
                      <a:lnTo>
                        <a:pt x="4091" y="3465"/>
                      </a:lnTo>
                      <a:lnTo>
                        <a:pt x="4162" y="3465"/>
                      </a:lnTo>
                      <a:lnTo>
                        <a:pt x="4162" y="3531"/>
                      </a:lnTo>
                      <a:lnTo>
                        <a:pt x="4234" y="3531"/>
                      </a:lnTo>
                      <a:lnTo>
                        <a:pt x="4234" y="3660"/>
                      </a:lnTo>
                      <a:lnTo>
                        <a:pt x="4306" y="3660"/>
                      </a:lnTo>
                      <a:lnTo>
                        <a:pt x="4306" y="3726"/>
                      </a:lnTo>
                      <a:lnTo>
                        <a:pt x="4377" y="3726"/>
                      </a:lnTo>
                      <a:lnTo>
                        <a:pt x="4377" y="3794"/>
                      </a:lnTo>
                      <a:lnTo>
                        <a:pt x="4448" y="3794"/>
                      </a:lnTo>
                      <a:lnTo>
                        <a:pt x="4448" y="3860"/>
                      </a:lnTo>
                      <a:lnTo>
                        <a:pt x="4520" y="3860"/>
                      </a:lnTo>
                      <a:lnTo>
                        <a:pt x="4520" y="3922"/>
                      </a:lnTo>
                      <a:lnTo>
                        <a:pt x="4588" y="3922"/>
                      </a:lnTo>
                      <a:lnTo>
                        <a:pt x="4588" y="4117"/>
                      </a:lnTo>
                      <a:lnTo>
                        <a:pt x="4660" y="4117"/>
                      </a:lnTo>
                      <a:lnTo>
                        <a:pt x="4660" y="4317"/>
                      </a:lnTo>
                      <a:lnTo>
                        <a:pt x="4727" y="4317"/>
                      </a:lnTo>
                      <a:lnTo>
                        <a:pt x="4727" y="4512"/>
                      </a:lnTo>
                      <a:lnTo>
                        <a:pt x="4798" y="4512"/>
                      </a:lnTo>
                      <a:lnTo>
                        <a:pt x="4798" y="4904"/>
                      </a:lnTo>
                      <a:lnTo>
                        <a:pt x="4871" y="4904"/>
                      </a:lnTo>
                      <a:lnTo>
                        <a:pt x="4871" y="5033"/>
                      </a:lnTo>
                      <a:lnTo>
                        <a:pt x="4937" y="5033"/>
                      </a:lnTo>
                      <a:lnTo>
                        <a:pt x="4937" y="5233"/>
                      </a:lnTo>
                      <a:lnTo>
                        <a:pt x="4871" y="5233"/>
                      </a:lnTo>
                      <a:lnTo>
                        <a:pt x="4871" y="5295"/>
                      </a:lnTo>
                      <a:lnTo>
                        <a:pt x="5010" y="5295"/>
                      </a:lnTo>
                      <a:lnTo>
                        <a:pt x="5010" y="5687"/>
                      </a:lnTo>
                      <a:lnTo>
                        <a:pt x="5081" y="5687"/>
                      </a:lnTo>
                      <a:lnTo>
                        <a:pt x="5081" y="6801"/>
                      </a:lnTo>
                      <a:lnTo>
                        <a:pt x="5010" y="6801"/>
                      </a:lnTo>
                      <a:lnTo>
                        <a:pt x="5010" y="7130"/>
                      </a:lnTo>
                      <a:lnTo>
                        <a:pt x="4937" y="7130"/>
                      </a:lnTo>
                      <a:lnTo>
                        <a:pt x="4937" y="7258"/>
                      </a:lnTo>
                      <a:lnTo>
                        <a:pt x="4871" y="7258"/>
                      </a:lnTo>
                      <a:lnTo>
                        <a:pt x="4871" y="7322"/>
                      </a:lnTo>
                      <a:lnTo>
                        <a:pt x="4727" y="7322"/>
                      </a:lnTo>
                      <a:lnTo>
                        <a:pt x="4727" y="7388"/>
                      </a:lnTo>
                      <a:lnTo>
                        <a:pt x="3883" y="7388"/>
                      </a:lnTo>
                      <a:lnTo>
                        <a:pt x="3883" y="7455"/>
                      </a:lnTo>
                      <a:lnTo>
                        <a:pt x="3458" y="7455"/>
                      </a:lnTo>
                      <a:lnTo>
                        <a:pt x="3458" y="7388"/>
                      </a:lnTo>
                      <a:lnTo>
                        <a:pt x="2964" y="7388"/>
                      </a:lnTo>
                      <a:lnTo>
                        <a:pt x="2964" y="7322"/>
                      </a:lnTo>
                      <a:lnTo>
                        <a:pt x="2543" y="7322"/>
                      </a:lnTo>
                      <a:lnTo>
                        <a:pt x="2543" y="7258"/>
                      </a:lnTo>
                      <a:lnTo>
                        <a:pt x="2328" y="7258"/>
                      </a:lnTo>
                      <a:lnTo>
                        <a:pt x="2328" y="7192"/>
                      </a:lnTo>
                      <a:lnTo>
                        <a:pt x="2189" y="7192"/>
                      </a:lnTo>
                      <a:lnTo>
                        <a:pt x="2189" y="7130"/>
                      </a:lnTo>
                      <a:lnTo>
                        <a:pt x="2045" y="7130"/>
                      </a:lnTo>
                      <a:lnTo>
                        <a:pt x="2045" y="7063"/>
                      </a:lnTo>
                      <a:lnTo>
                        <a:pt x="1907" y="7063"/>
                      </a:lnTo>
                      <a:lnTo>
                        <a:pt x="1907" y="6996"/>
                      </a:lnTo>
                      <a:lnTo>
                        <a:pt x="1834" y="6996"/>
                      </a:lnTo>
                      <a:lnTo>
                        <a:pt x="1834" y="6929"/>
                      </a:lnTo>
                      <a:lnTo>
                        <a:pt x="1766" y="6929"/>
                      </a:lnTo>
                      <a:lnTo>
                        <a:pt x="1766" y="6867"/>
                      </a:lnTo>
                      <a:lnTo>
                        <a:pt x="1623" y="6867"/>
                      </a:lnTo>
                      <a:lnTo>
                        <a:pt x="1623" y="6801"/>
                      </a:lnTo>
                      <a:lnTo>
                        <a:pt x="1551" y="6801"/>
                      </a:lnTo>
                      <a:lnTo>
                        <a:pt x="1551" y="6734"/>
                      </a:lnTo>
                      <a:lnTo>
                        <a:pt x="1480" y="6734"/>
                      </a:lnTo>
                      <a:lnTo>
                        <a:pt x="1480" y="6667"/>
                      </a:lnTo>
                      <a:lnTo>
                        <a:pt x="1341" y="6667"/>
                      </a:lnTo>
                      <a:lnTo>
                        <a:pt x="1341" y="6606"/>
                      </a:lnTo>
                      <a:lnTo>
                        <a:pt x="1269" y="6606"/>
                      </a:lnTo>
                      <a:lnTo>
                        <a:pt x="1269" y="6539"/>
                      </a:lnTo>
                      <a:lnTo>
                        <a:pt x="1198" y="6539"/>
                      </a:lnTo>
                      <a:lnTo>
                        <a:pt x="1198" y="6409"/>
                      </a:lnTo>
                      <a:lnTo>
                        <a:pt x="1130" y="6409"/>
                      </a:lnTo>
                      <a:lnTo>
                        <a:pt x="1130" y="6147"/>
                      </a:lnTo>
                      <a:lnTo>
                        <a:pt x="1198" y="6147"/>
                      </a:lnTo>
                      <a:lnTo>
                        <a:pt x="1198" y="5819"/>
                      </a:lnTo>
                      <a:lnTo>
                        <a:pt x="1269" y="5819"/>
                      </a:lnTo>
                      <a:lnTo>
                        <a:pt x="1269" y="5687"/>
                      </a:lnTo>
                      <a:lnTo>
                        <a:pt x="1341" y="5687"/>
                      </a:lnTo>
                      <a:lnTo>
                        <a:pt x="1341" y="5494"/>
                      </a:lnTo>
                      <a:lnTo>
                        <a:pt x="1408" y="5494"/>
                      </a:lnTo>
                      <a:lnTo>
                        <a:pt x="1408" y="5361"/>
                      </a:lnTo>
                      <a:lnTo>
                        <a:pt x="1480" y="5361"/>
                      </a:lnTo>
                      <a:lnTo>
                        <a:pt x="1480" y="5233"/>
                      </a:lnTo>
                      <a:lnTo>
                        <a:pt x="1551" y="5233"/>
                      </a:lnTo>
                      <a:lnTo>
                        <a:pt x="1551" y="5167"/>
                      </a:lnTo>
                      <a:lnTo>
                        <a:pt x="1623" y="5167"/>
                      </a:lnTo>
                      <a:lnTo>
                        <a:pt x="1623" y="5099"/>
                      </a:lnTo>
                      <a:lnTo>
                        <a:pt x="1695" y="5099"/>
                      </a:lnTo>
                      <a:lnTo>
                        <a:pt x="1695" y="5033"/>
                      </a:lnTo>
                      <a:lnTo>
                        <a:pt x="1766" y="5033"/>
                      </a:lnTo>
                      <a:lnTo>
                        <a:pt x="1766" y="4971"/>
                      </a:lnTo>
                      <a:lnTo>
                        <a:pt x="1972" y="4971"/>
                      </a:lnTo>
                      <a:lnTo>
                        <a:pt x="1972" y="5033"/>
                      </a:lnTo>
                      <a:lnTo>
                        <a:pt x="2045" y="5033"/>
                      </a:lnTo>
                      <a:lnTo>
                        <a:pt x="2045" y="4971"/>
                      </a:lnTo>
                      <a:lnTo>
                        <a:pt x="2543" y="4971"/>
                      </a:lnTo>
                      <a:lnTo>
                        <a:pt x="2543" y="4904"/>
                      </a:lnTo>
                      <a:lnTo>
                        <a:pt x="1551" y="4904"/>
                      </a:lnTo>
                      <a:lnTo>
                        <a:pt x="1551" y="4838"/>
                      </a:lnTo>
                      <a:lnTo>
                        <a:pt x="1408" y="4838"/>
                      </a:lnTo>
                      <a:lnTo>
                        <a:pt x="1408" y="4774"/>
                      </a:lnTo>
                      <a:lnTo>
                        <a:pt x="1269" y="4774"/>
                      </a:lnTo>
                      <a:lnTo>
                        <a:pt x="1269" y="4709"/>
                      </a:lnTo>
                      <a:lnTo>
                        <a:pt x="1130" y="4709"/>
                      </a:lnTo>
                      <a:lnTo>
                        <a:pt x="1130" y="4642"/>
                      </a:lnTo>
                      <a:lnTo>
                        <a:pt x="991" y="4642"/>
                      </a:lnTo>
                      <a:lnTo>
                        <a:pt x="991" y="4576"/>
                      </a:lnTo>
                      <a:lnTo>
                        <a:pt x="919" y="4576"/>
                      </a:lnTo>
                      <a:lnTo>
                        <a:pt x="919" y="4512"/>
                      </a:lnTo>
                      <a:lnTo>
                        <a:pt x="776" y="4512"/>
                      </a:lnTo>
                      <a:lnTo>
                        <a:pt x="776" y="4446"/>
                      </a:lnTo>
                      <a:lnTo>
                        <a:pt x="704" y="4446"/>
                      </a:lnTo>
                      <a:lnTo>
                        <a:pt x="704" y="4384"/>
                      </a:lnTo>
                      <a:lnTo>
                        <a:pt x="632" y="4384"/>
                      </a:lnTo>
                      <a:lnTo>
                        <a:pt x="632" y="4317"/>
                      </a:lnTo>
                      <a:lnTo>
                        <a:pt x="561" y="4317"/>
                      </a:lnTo>
                      <a:lnTo>
                        <a:pt x="561" y="4250"/>
                      </a:lnTo>
                      <a:lnTo>
                        <a:pt x="494" y="4250"/>
                      </a:lnTo>
                      <a:lnTo>
                        <a:pt x="494" y="4184"/>
                      </a:lnTo>
                      <a:lnTo>
                        <a:pt x="421" y="4184"/>
                      </a:lnTo>
                      <a:lnTo>
                        <a:pt x="421" y="4117"/>
                      </a:lnTo>
                      <a:lnTo>
                        <a:pt x="353" y="4117"/>
                      </a:lnTo>
                      <a:lnTo>
                        <a:pt x="353" y="3988"/>
                      </a:lnTo>
                      <a:lnTo>
                        <a:pt x="282" y="3988"/>
                      </a:lnTo>
                      <a:lnTo>
                        <a:pt x="282" y="3794"/>
                      </a:lnTo>
                      <a:lnTo>
                        <a:pt x="211" y="3794"/>
                      </a:lnTo>
                      <a:lnTo>
                        <a:pt x="211" y="2682"/>
                      </a:lnTo>
                      <a:lnTo>
                        <a:pt x="138" y="2682"/>
                      </a:lnTo>
                      <a:lnTo>
                        <a:pt x="138" y="2482"/>
                      </a:lnTo>
                      <a:lnTo>
                        <a:pt x="71" y="2482"/>
                      </a:lnTo>
                      <a:lnTo>
                        <a:pt x="71" y="2292"/>
                      </a:lnTo>
                      <a:lnTo>
                        <a:pt x="0" y="2292"/>
                      </a:lnTo>
                      <a:lnTo>
                        <a:pt x="0" y="1830"/>
                      </a:lnTo>
                      <a:lnTo>
                        <a:pt x="494" y="1830"/>
                      </a:lnTo>
                      <a:lnTo>
                        <a:pt x="494" y="1767"/>
                      </a:lnTo>
                      <a:lnTo>
                        <a:pt x="632" y="1767"/>
                      </a:lnTo>
                      <a:lnTo>
                        <a:pt x="632" y="1700"/>
                      </a:lnTo>
                      <a:lnTo>
                        <a:pt x="847" y="1700"/>
                      </a:lnTo>
                      <a:lnTo>
                        <a:pt x="847" y="1635"/>
                      </a:lnTo>
                      <a:lnTo>
                        <a:pt x="1058" y="1635"/>
                      </a:lnTo>
                      <a:lnTo>
                        <a:pt x="1058" y="1568"/>
                      </a:lnTo>
                      <a:lnTo>
                        <a:pt x="1269" y="1568"/>
                      </a:lnTo>
                      <a:lnTo>
                        <a:pt x="1269" y="1505"/>
                      </a:lnTo>
                      <a:lnTo>
                        <a:pt x="1551" y="1505"/>
                      </a:lnTo>
                      <a:lnTo>
                        <a:pt x="1551" y="1438"/>
                      </a:lnTo>
                      <a:lnTo>
                        <a:pt x="1766" y="1438"/>
                      </a:lnTo>
                      <a:lnTo>
                        <a:pt x="1766" y="1371"/>
                      </a:lnTo>
                      <a:lnTo>
                        <a:pt x="1907" y="1371"/>
                      </a:lnTo>
                      <a:lnTo>
                        <a:pt x="1907" y="1306"/>
                      </a:lnTo>
                      <a:lnTo>
                        <a:pt x="2045" y="1306"/>
                      </a:lnTo>
                      <a:lnTo>
                        <a:pt x="2045" y="1242"/>
                      </a:lnTo>
                      <a:lnTo>
                        <a:pt x="2189" y="1242"/>
                      </a:lnTo>
                      <a:lnTo>
                        <a:pt x="2189" y="1181"/>
                      </a:lnTo>
                      <a:lnTo>
                        <a:pt x="2328" y="1181"/>
                      </a:lnTo>
                      <a:lnTo>
                        <a:pt x="2328" y="1114"/>
                      </a:lnTo>
                      <a:lnTo>
                        <a:pt x="2399" y="1114"/>
                      </a:lnTo>
                      <a:lnTo>
                        <a:pt x="2399" y="1048"/>
                      </a:lnTo>
                      <a:lnTo>
                        <a:pt x="2472" y="1048"/>
                      </a:lnTo>
                      <a:lnTo>
                        <a:pt x="2472" y="980"/>
                      </a:lnTo>
                      <a:lnTo>
                        <a:pt x="2543" y="980"/>
                      </a:lnTo>
                      <a:lnTo>
                        <a:pt x="2543" y="847"/>
                      </a:lnTo>
                      <a:lnTo>
                        <a:pt x="2753" y="847"/>
                      </a:lnTo>
                      <a:lnTo>
                        <a:pt x="2753" y="785"/>
                      </a:lnTo>
                      <a:lnTo>
                        <a:pt x="2610" y="785"/>
                      </a:lnTo>
                      <a:lnTo>
                        <a:pt x="2610" y="719"/>
                      </a:lnTo>
                      <a:lnTo>
                        <a:pt x="2543" y="719"/>
                      </a:lnTo>
                      <a:lnTo>
                        <a:pt x="2543" y="524"/>
                      </a:lnTo>
                      <a:lnTo>
                        <a:pt x="2610" y="524"/>
                      </a:lnTo>
                      <a:lnTo>
                        <a:pt x="2610" y="390"/>
                      </a:lnTo>
                      <a:lnTo>
                        <a:pt x="2681" y="390"/>
                      </a:lnTo>
                      <a:lnTo>
                        <a:pt x="2681" y="262"/>
                      </a:lnTo>
                      <a:lnTo>
                        <a:pt x="2753" y="262"/>
                      </a:lnTo>
                      <a:lnTo>
                        <a:pt x="2753" y="195"/>
                      </a:lnTo>
                      <a:lnTo>
                        <a:pt x="2821" y="195"/>
                      </a:lnTo>
                      <a:lnTo>
                        <a:pt x="2821" y="132"/>
                      </a:lnTo>
                      <a:lnTo>
                        <a:pt x="2892" y="132"/>
                      </a:lnTo>
                      <a:lnTo>
                        <a:pt x="2892" y="65"/>
                      </a:lnTo>
                      <a:lnTo>
                        <a:pt x="2964" y="65"/>
                      </a:lnTo>
                      <a:lnTo>
                        <a:pt x="2964"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168880" y="4534920"/>
                  <a:ext cx="64080" cy="83520"/>
                </a:xfrm>
                <a:custGeom>
                  <a:avLst/>
                  <a:gdLst/>
                  <a:ahLst/>
                  <a:rect l="l" t="t" r="r" b="b"/>
                  <a:pathLst>
                    <a:path w="299" h="339">
                      <a:moveTo>
                        <a:pt x="151" y="0"/>
                      </a:moveTo>
                      <a:lnTo>
                        <a:pt x="223" y="0"/>
                      </a:lnTo>
                      <a:lnTo>
                        <a:pt x="223" y="69"/>
                      </a:lnTo>
                      <a:lnTo>
                        <a:pt x="299" y="69"/>
                      </a:lnTo>
                      <a:lnTo>
                        <a:pt x="299" y="136"/>
                      </a:lnTo>
                      <a:lnTo>
                        <a:pt x="223" y="136"/>
                      </a:lnTo>
                      <a:lnTo>
                        <a:pt x="223" y="69"/>
                      </a:lnTo>
                      <a:lnTo>
                        <a:pt x="151" y="69"/>
                      </a:lnTo>
                      <a:lnTo>
                        <a:pt x="151" y="136"/>
                      </a:lnTo>
                      <a:lnTo>
                        <a:pt x="76" y="136"/>
                      </a:lnTo>
                      <a:lnTo>
                        <a:pt x="76" y="270"/>
                      </a:lnTo>
                      <a:lnTo>
                        <a:pt x="223" y="270"/>
                      </a:lnTo>
                      <a:lnTo>
                        <a:pt x="223" y="206"/>
                      </a:lnTo>
                      <a:lnTo>
                        <a:pt x="299" y="206"/>
                      </a:lnTo>
                      <a:lnTo>
                        <a:pt x="299" y="270"/>
                      </a:lnTo>
                      <a:lnTo>
                        <a:pt x="223" y="270"/>
                      </a:lnTo>
                      <a:lnTo>
                        <a:pt x="223" y="339"/>
                      </a:lnTo>
                      <a:lnTo>
                        <a:pt x="0" y="339"/>
                      </a:lnTo>
                      <a:lnTo>
                        <a:pt x="0" y="136"/>
                      </a:lnTo>
                      <a:lnTo>
                        <a:pt x="76" y="136"/>
                      </a:lnTo>
                      <a:lnTo>
                        <a:pt x="76" y="69"/>
                      </a:lnTo>
                      <a:lnTo>
                        <a:pt x="151" y="69"/>
                      </a:lnTo>
                      <a:lnTo>
                        <a:pt x="15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08" name=""/>
                <p:cNvSpPr/>
                <p:nvPr/>
              </p:nvSpPr>
              <p:spPr>
                <a:xfrm>
                  <a:off x="6214320" y="4552200"/>
                  <a:ext cx="1078560" cy="1674360"/>
                </a:xfrm>
                <a:custGeom>
                  <a:avLst/>
                  <a:gdLst/>
                  <a:ahLst/>
                  <a:rect l="l" t="t" r="r" b="b"/>
                  <a:pathLst>
                    <a:path w="5015" h="6801">
                      <a:moveTo>
                        <a:pt x="1696" y="0"/>
                      </a:moveTo>
                      <a:lnTo>
                        <a:pt x="1834" y="0"/>
                      </a:lnTo>
                      <a:lnTo>
                        <a:pt x="1834" y="67"/>
                      </a:lnTo>
                      <a:lnTo>
                        <a:pt x="1907" y="67"/>
                      </a:lnTo>
                      <a:lnTo>
                        <a:pt x="1907" y="324"/>
                      </a:lnTo>
                      <a:lnTo>
                        <a:pt x="1978" y="324"/>
                      </a:lnTo>
                      <a:lnTo>
                        <a:pt x="1978" y="390"/>
                      </a:lnTo>
                      <a:lnTo>
                        <a:pt x="2050" y="390"/>
                      </a:lnTo>
                      <a:lnTo>
                        <a:pt x="2050" y="457"/>
                      </a:lnTo>
                      <a:lnTo>
                        <a:pt x="2122" y="457"/>
                      </a:lnTo>
                      <a:lnTo>
                        <a:pt x="2122" y="520"/>
                      </a:lnTo>
                      <a:lnTo>
                        <a:pt x="2189" y="520"/>
                      </a:lnTo>
                      <a:lnTo>
                        <a:pt x="2189" y="586"/>
                      </a:lnTo>
                      <a:lnTo>
                        <a:pt x="2404" y="586"/>
                      </a:lnTo>
                      <a:lnTo>
                        <a:pt x="2404" y="652"/>
                      </a:lnTo>
                      <a:lnTo>
                        <a:pt x="2543" y="652"/>
                      </a:lnTo>
                      <a:lnTo>
                        <a:pt x="2543" y="1768"/>
                      </a:lnTo>
                      <a:lnTo>
                        <a:pt x="1978" y="1768"/>
                      </a:lnTo>
                      <a:lnTo>
                        <a:pt x="1978" y="1830"/>
                      </a:lnTo>
                      <a:lnTo>
                        <a:pt x="2611" y="1830"/>
                      </a:lnTo>
                      <a:lnTo>
                        <a:pt x="2611" y="849"/>
                      </a:lnTo>
                      <a:lnTo>
                        <a:pt x="2897" y="849"/>
                      </a:lnTo>
                      <a:lnTo>
                        <a:pt x="2897" y="914"/>
                      </a:lnTo>
                      <a:lnTo>
                        <a:pt x="3037" y="914"/>
                      </a:lnTo>
                      <a:lnTo>
                        <a:pt x="3037" y="981"/>
                      </a:lnTo>
                      <a:lnTo>
                        <a:pt x="3109" y="981"/>
                      </a:lnTo>
                      <a:lnTo>
                        <a:pt x="3109" y="1044"/>
                      </a:lnTo>
                      <a:lnTo>
                        <a:pt x="3180" y="1044"/>
                      </a:lnTo>
                      <a:lnTo>
                        <a:pt x="3180" y="1111"/>
                      </a:lnTo>
                      <a:lnTo>
                        <a:pt x="3247" y="1111"/>
                      </a:lnTo>
                      <a:lnTo>
                        <a:pt x="3247" y="1176"/>
                      </a:lnTo>
                      <a:lnTo>
                        <a:pt x="3320" y="1176"/>
                      </a:lnTo>
                      <a:lnTo>
                        <a:pt x="3320" y="1111"/>
                      </a:lnTo>
                      <a:lnTo>
                        <a:pt x="3884" y="1111"/>
                      </a:lnTo>
                      <a:lnTo>
                        <a:pt x="3884" y="1176"/>
                      </a:lnTo>
                      <a:lnTo>
                        <a:pt x="4023" y="1176"/>
                      </a:lnTo>
                      <a:lnTo>
                        <a:pt x="4023" y="1243"/>
                      </a:lnTo>
                      <a:lnTo>
                        <a:pt x="4095" y="1243"/>
                      </a:lnTo>
                      <a:lnTo>
                        <a:pt x="4095" y="1310"/>
                      </a:lnTo>
                      <a:lnTo>
                        <a:pt x="4166" y="1310"/>
                      </a:lnTo>
                      <a:lnTo>
                        <a:pt x="4166" y="1440"/>
                      </a:lnTo>
                      <a:lnTo>
                        <a:pt x="4239" y="1440"/>
                      </a:lnTo>
                      <a:lnTo>
                        <a:pt x="4239" y="1502"/>
                      </a:lnTo>
                      <a:lnTo>
                        <a:pt x="4307" y="1502"/>
                      </a:lnTo>
                      <a:lnTo>
                        <a:pt x="4307" y="1568"/>
                      </a:lnTo>
                      <a:lnTo>
                        <a:pt x="4378" y="1568"/>
                      </a:lnTo>
                      <a:lnTo>
                        <a:pt x="4378" y="1768"/>
                      </a:lnTo>
                      <a:lnTo>
                        <a:pt x="4449" y="1768"/>
                      </a:lnTo>
                      <a:lnTo>
                        <a:pt x="4449" y="1897"/>
                      </a:lnTo>
                      <a:lnTo>
                        <a:pt x="4522" y="1897"/>
                      </a:lnTo>
                      <a:lnTo>
                        <a:pt x="4522" y="2025"/>
                      </a:lnTo>
                      <a:lnTo>
                        <a:pt x="4593" y="2025"/>
                      </a:lnTo>
                      <a:lnTo>
                        <a:pt x="4593" y="2155"/>
                      </a:lnTo>
                      <a:lnTo>
                        <a:pt x="4660" y="2155"/>
                      </a:lnTo>
                      <a:lnTo>
                        <a:pt x="4660" y="2222"/>
                      </a:lnTo>
                      <a:lnTo>
                        <a:pt x="4732" y="2222"/>
                      </a:lnTo>
                      <a:lnTo>
                        <a:pt x="4732" y="2354"/>
                      </a:lnTo>
                      <a:lnTo>
                        <a:pt x="4799" y="2354"/>
                      </a:lnTo>
                      <a:lnTo>
                        <a:pt x="4799" y="2616"/>
                      </a:lnTo>
                      <a:lnTo>
                        <a:pt x="4872" y="2616"/>
                      </a:lnTo>
                      <a:lnTo>
                        <a:pt x="4872" y="2812"/>
                      </a:lnTo>
                      <a:lnTo>
                        <a:pt x="4943" y="2812"/>
                      </a:lnTo>
                      <a:lnTo>
                        <a:pt x="4943" y="3202"/>
                      </a:lnTo>
                      <a:lnTo>
                        <a:pt x="5015" y="3202"/>
                      </a:lnTo>
                      <a:lnTo>
                        <a:pt x="5015" y="4314"/>
                      </a:lnTo>
                      <a:lnTo>
                        <a:pt x="4943" y="4314"/>
                      </a:lnTo>
                      <a:lnTo>
                        <a:pt x="4943" y="4447"/>
                      </a:lnTo>
                      <a:lnTo>
                        <a:pt x="4872" y="4447"/>
                      </a:lnTo>
                      <a:lnTo>
                        <a:pt x="4872" y="4579"/>
                      </a:lnTo>
                      <a:lnTo>
                        <a:pt x="4799" y="4579"/>
                      </a:lnTo>
                      <a:lnTo>
                        <a:pt x="4799" y="4643"/>
                      </a:lnTo>
                      <a:lnTo>
                        <a:pt x="4732" y="4643"/>
                      </a:lnTo>
                      <a:lnTo>
                        <a:pt x="4732" y="4709"/>
                      </a:lnTo>
                      <a:lnTo>
                        <a:pt x="4660" y="4709"/>
                      </a:lnTo>
                      <a:lnTo>
                        <a:pt x="4660" y="4776"/>
                      </a:lnTo>
                      <a:lnTo>
                        <a:pt x="4593" y="4776"/>
                      </a:lnTo>
                      <a:lnTo>
                        <a:pt x="4593" y="4838"/>
                      </a:lnTo>
                      <a:lnTo>
                        <a:pt x="4522" y="4838"/>
                      </a:lnTo>
                      <a:lnTo>
                        <a:pt x="4522" y="4904"/>
                      </a:lnTo>
                      <a:lnTo>
                        <a:pt x="4449" y="4904"/>
                      </a:lnTo>
                      <a:lnTo>
                        <a:pt x="4449" y="4972"/>
                      </a:lnTo>
                      <a:lnTo>
                        <a:pt x="4378" y="4972"/>
                      </a:lnTo>
                      <a:lnTo>
                        <a:pt x="4378" y="5038"/>
                      </a:lnTo>
                      <a:lnTo>
                        <a:pt x="4307" y="5038"/>
                      </a:lnTo>
                      <a:lnTo>
                        <a:pt x="4307" y="5100"/>
                      </a:lnTo>
                      <a:lnTo>
                        <a:pt x="4378" y="5100"/>
                      </a:lnTo>
                      <a:lnTo>
                        <a:pt x="4378" y="5166"/>
                      </a:lnTo>
                      <a:lnTo>
                        <a:pt x="4449" y="5166"/>
                      </a:lnTo>
                      <a:lnTo>
                        <a:pt x="4449" y="5362"/>
                      </a:lnTo>
                      <a:lnTo>
                        <a:pt x="4522" y="5362"/>
                      </a:lnTo>
                      <a:lnTo>
                        <a:pt x="4522" y="5624"/>
                      </a:lnTo>
                      <a:lnTo>
                        <a:pt x="4593" y="5624"/>
                      </a:lnTo>
                      <a:lnTo>
                        <a:pt x="4593" y="5823"/>
                      </a:lnTo>
                      <a:lnTo>
                        <a:pt x="4660" y="5823"/>
                      </a:lnTo>
                      <a:lnTo>
                        <a:pt x="4660" y="6214"/>
                      </a:lnTo>
                      <a:lnTo>
                        <a:pt x="4732" y="6214"/>
                      </a:lnTo>
                      <a:lnTo>
                        <a:pt x="4732" y="6539"/>
                      </a:lnTo>
                      <a:lnTo>
                        <a:pt x="4660" y="6539"/>
                      </a:lnTo>
                      <a:lnTo>
                        <a:pt x="4660" y="6606"/>
                      </a:lnTo>
                      <a:lnTo>
                        <a:pt x="4593" y="6606"/>
                      </a:lnTo>
                      <a:lnTo>
                        <a:pt x="4593" y="6672"/>
                      </a:lnTo>
                      <a:lnTo>
                        <a:pt x="4449" y="6672"/>
                      </a:lnTo>
                      <a:lnTo>
                        <a:pt x="4449" y="6734"/>
                      </a:lnTo>
                      <a:lnTo>
                        <a:pt x="3956" y="6734"/>
                      </a:lnTo>
                      <a:lnTo>
                        <a:pt x="3956" y="6801"/>
                      </a:lnTo>
                      <a:lnTo>
                        <a:pt x="3180" y="6801"/>
                      </a:lnTo>
                      <a:lnTo>
                        <a:pt x="3180" y="6734"/>
                      </a:lnTo>
                      <a:lnTo>
                        <a:pt x="1978" y="6734"/>
                      </a:lnTo>
                      <a:lnTo>
                        <a:pt x="1978" y="6672"/>
                      </a:lnTo>
                      <a:lnTo>
                        <a:pt x="1625" y="6672"/>
                      </a:lnTo>
                      <a:lnTo>
                        <a:pt x="1625" y="6606"/>
                      </a:lnTo>
                      <a:lnTo>
                        <a:pt x="848" y="6606"/>
                      </a:lnTo>
                      <a:lnTo>
                        <a:pt x="848" y="6539"/>
                      </a:lnTo>
                      <a:lnTo>
                        <a:pt x="212" y="6539"/>
                      </a:lnTo>
                      <a:lnTo>
                        <a:pt x="212" y="6477"/>
                      </a:lnTo>
                      <a:lnTo>
                        <a:pt x="73" y="6477"/>
                      </a:lnTo>
                      <a:lnTo>
                        <a:pt x="73" y="6411"/>
                      </a:lnTo>
                      <a:lnTo>
                        <a:pt x="0" y="6411"/>
                      </a:lnTo>
                      <a:lnTo>
                        <a:pt x="0" y="6214"/>
                      </a:lnTo>
                      <a:lnTo>
                        <a:pt x="73" y="6214"/>
                      </a:lnTo>
                      <a:lnTo>
                        <a:pt x="73" y="5492"/>
                      </a:lnTo>
                      <a:lnTo>
                        <a:pt x="144" y="5492"/>
                      </a:lnTo>
                      <a:lnTo>
                        <a:pt x="144" y="5233"/>
                      </a:lnTo>
                      <a:lnTo>
                        <a:pt x="212" y="5233"/>
                      </a:lnTo>
                      <a:lnTo>
                        <a:pt x="212" y="4972"/>
                      </a:lnTo>
                      <a:lnTo>
                        <a:pt x="283" y="4972"/>
                      </a:lnTo>
                      <a:lnTo>
                        <a:pt x="283" y="4838"/>
                      </a:lnTo>
                      <a:lnTo>
                        <a:pt x="355" y="4838"/>
                      </a:lnTo>
                      <a:lnTo>
                        <a:pt x="355" y="4776"/>
                      </a:lnTo>
                      <a:lnTo>
                        <a:pt x="423" y="4776"/>
                      </a:lnTo>
                      <a:lnTo>
                        <a:pt x="423" y="4709"/>
                      </a:lnTo>
                      <a:lnTo>
                        <a:pt x="566" y="4709"/>
                      </a:lnTo>
                      <a:lnTo>
                        <a:pt x="566" y="4643"/>
                      </a:lnTo>
                      <a:lnTo>
                        <a:pt x="638" y="4643"/>
                      </a:lnTo>
                      <a:lnTo>
                        <a:pt x="638" y="4579"/>
                      </a:lnTo>
                      <a:lnTo>
                        <a:pt x="776" y="4579"/>
                      </a:lnTo>
                      <a:lnTo>
                        <a:pt x="776" y="4514"/>
                      </a:lnTo>
                      <a:lnTo>
                        <a:pt x="992" y="4514"/>
                      </a:lnTo>
                      <a:lnTo>
                        <a:pt x="992" y="4579"/>
                      </a:lnTo>
                      <a:lnTo>
                        <a:pt x="1131" y="4579"/>
                      </a:lnTo>
                      <a:lnTo>
                        <a:pt x="1131" y="4643"/>
                      </a:lnTo>
                      <a:lnTo>
                        <a:pt x="1342" y="4643"/>
                      </a:lnTo>
                      <a:lnTo>
                        <a:pt x="1342" y="4709"/>
                      </a:lnTo>
                      <a:lnTo>
                        <a:pt x="1625" y="4709"/>
                      </a:lnTo>
                      <a:lnTo>
                        <a:pt x="1625" y="4776"/>
                      </a:lnTo>
                      <a:lnTo>
                        <a:pt x="1768" y="4776"/>
                      </a:lnTo>
                      <a:lnTo>
                        <a:pt x="1768" y="4838"/>
                      </a:lnTo>
                      <a:lnTo>
                        <a:pt x="2050" y="4838"/>
                      </a:lnTo>
                      <a:lnTo>
                        <a:pt x="2050" y="4904"/>
                      </a:lnTo>
                      <a:lnTo>
                        <a:pt x="2260" y="4904"/>
                      </a:lnTo>
                      <a:lnTo>
                        <a:pt x="2260" y="4972"/>
                      </a:lnTo>
                      <a:lnTo>
                        <a:pt x="2332" y="4972"/>
                      </a:lnTo>
                      <a:lnTo>
                        <a:pt x="2332" y="5038"/>
                      </a:lnTo>
                      <a:lnTo>
                        <a:pt x="2404" y="5038"/>
                      </a:lnTo>
                      <a:lnTo>
                        <a:pt x="2404" y="5100"/>
                      </a:lnTo>
                      <a:lnTo>
                        <a:pt x="2472" y="5100"/>
                      </a:lnTo>
                      <a:lnTo>
                        <a:pt x="2472" y="5233"/>
                      </a:lnTo>
                      <a:lnTo>
                        <a:pt x="2543" y="5233"/>
                      </a:lnTo>
                      <a:lnTo>
                        <a:pt x="2543" y="5299"/>
                      </a:lnTo>
                      <a:lnTo>
                        <a:pt x="2611" y="5299"/>
                      </a:lnTo>
                      <a:lnTo>
                        <a:pt x="2611" y="5362"/>
                      </a:lnTo>
                      <a:lnTo>
                        <a:pt x="2682" y="5362"/>
                      </a:lnTo>
                      <a:lnTo>
                        <a:pt x="2682" y="5492"/>
                      </a:lnTo>
                      <a:lnTo>
                        <a:pt x="2754" y="5492"/>
                      </a:lnTo>
                      <a:lnTo>
                        <a:pt x="2754" y="5558"/>
                      </a:lnTo>
                      <a:lnTo>
                        <a:pt x="3109" y="5558"/>
                      </a:lnTo>
                      <a:lnTo>
                        <a:pt x="3109" y="5492"/>
                      </a:lnTo>
                      <a:lnTo>
                        <a:pt x="2897" y="5492"/>
                      </a:lnTo>
                      <a:lnTo>
                        <a:pt x="2897" y="5299"/>
                      </a:lnTo>
                      <a:lnTo>
                        <a:pt x="2826" y="5299"/>
                      </a:lnTo>
                      <a:lnTo>
                        <a:pt x="2826" y="5166"/>
                      </a:lnTo>
                      <a:lnTo>
                        <a:pt x="2754" y="5166"/>
                      </a:lnTo>
                      <a:lnTo>
                        <a:pt x="2754" y="4972"/>
                      </a:lnTo>
                      <a:lnTo>
                        <a:pt x="2682" y="4972"/>
                      </a:lnTo>
                      <a:lnTo>
                        <a:pt x="2682" y="4904"/>
                      </a:lnTo>
                      <a:lnTo>
                        <a:pt x="2611" y="4904"/>
                      </a:lnTo>
                      <a:lnTo>
                        <a:pt x="2611" y="4838"/>
                      </a:lnTo>
                      <a:lnTo>
                        <a:pt x="2543" y="4838"/>
                      </a:lnTo>
                      <a:lnTo>
                        <a:pt x="2543" y="4709"/>
                      </a:lnTo>
                      <a:lnTo>
                        <a:pt x="2472" y="4709"/>
                      </a:lnTo>
                      <a:lnTo>
                        <a:pt x="2472" y="4579"/>
                      </a:lnTo>
                      <a:lnTo>
                        <a:pt x="2404" y="4579"/>
                      </a:lnTo>
                      <a:lnTo>
                        <a:pt x="2404" y="4447"/>
                      </a:lnTo>
                      <a:lnTo>
                        <a:pt x="2332" y="4447"/>
                      </a:lnTo>
                      <a:lnTo>
                        <a:pt x="2332" y="4381"/>
                      </a:lnTo>
                      <a:lnTo>
                        <a:pt x="2260" y="4381"/>
                      </a:lnTo>
                      <a:lnTo>
                        <a:pt x="2260" y="4251"/>
                      </a:lnTo>
                      <a:lnTo>
                        <a:pt x="2189" y="4251"/>
                      </a:lnTo>
                      <a:lnTo>
                        <a:pt x="2189" y="4122"/>
                      </a:lnTo>
                      <a:lnTo>
                        <a:pt x="2122" y="4122"/>
                      </a:lnTo>
                      <a:lnTo>
                        <a:pt x="2122" y="3989"/>
                      </a:lnTo>
                      <a:lnTo>
                        <a:pt x="2050" y="3989"/>
                      </a:lnTo>
                      <a:lnTo>
                        <a:pt x="2050" y="3857"/>
                      </a:lnTo>
                      <a:lnTo>
                        <a:pt x="1978" y="3857"/>
                      </a:lnTo>
                      <a:lnTo>
                        <a:pt x="1978" y="3727"/>
                      </a:lnTo>
                      <a:lnTo>
                        <a:pt x="1907" y="3727"/>
                      </a:lnTo>
                      <a:lnTo>
                        <a:pt x="1907" y="3531"/>
                      </a:lnTo>
                      <a:lnTo>
                        <a:pt x="1978" y="3531"/>
                      </a:lnTo>
                      <a:lnTo>
                        <a:pt x="1978" y="3465"/>
                      </a:lnTo>
                      <a:lnTo>
                        <a:pt x="2050" y="3465"/>
                      </a:lnTo>
                      <a:lnTo>
                        <a:pt x="2050" y="3403"/>
                      </a:lnTo>
                      <a:lnTo>
                        <a:pt x="2332" y="3403"/>
                      </a:lnTo>
                      <a:lnTo>
                        <a:pt x="2332" y="3336"/>
                      </a:lnTo>
                      <a:lnTo>
                        <a:pt x="2122" y="3336"/>
                      </a:lnTo>
                      <a:lnTo>
                        <a:pt x="2122" y="3270"/>
                      </a:lnTo>
                      <a:lnTo>
                        <a:pt x="2050" y="3270"/>
                      </a:lnTo>
                      <a:lnTo>
                        <a:pt x="2050" y="3336"/>
                      </a:lnTo>
                      <a:lnTo>
                        <a:pt x="1978" y="3336"/>
                      </a:lnTo>
                      <a:lnTo>
                        <a:pt x="1978" y="3403"/>
                      </a:lnTo>
                      <a:lnTo>
                        <a:pt x="1907" y="3403"/>
                      </a:lnTo>
                      <a:lnTo>
                        <a:pt x="1907" y="3465"/>
                      </a:lnTo>
                      <a:lnTo>
                        <a:pt x="1834" y="3465"/>
                      </a:lnTo>
                      <a:lnTo>
                        <a:pt x="1834" y="3531"/>
                      </a:lnTo>
                      <a:lnTo>
                        <a:pt x="1768" y="3531"/>
                      </a:lnTo>
                      <a:lnTo>
                        <a:pt x="1768" y="3599"/>
                      </a:lnTo>
                      <a:lnTo>
                        <a:pt x="1696" y="3599"/>
                      </a:lnTo>
                      <a:lnTo>
                        <a:pt x="1696" y="3660"/>
                      </a:lnTo>
                      <a:lnTo>
                        <a:pt x="1625" y="3660"/>
                      </a:lnTo>
                      <a:lnTo>
                        <a:pt x="1625" y="3727"/>
                      </a:lnTo>
                      <a:lnTo>
                        <a:pt x="1269" y="3727"/>
                      </a:lnTo>
                      <a:lnTo>
                        <a:pt x="1269" y="3660"/>
                      </a:lnTo>
                      <a:lnTo>
                        <a:pt x="709" y="3660"/>
                      </a:lnTo>
                      <a:lnTo>
                        <a:pt x="709" y="3727"/>
                      </a:lnTo>
                      <a:lnTo>
                        <a:pt x="566" y="3727"/>
                      </a:lnTo>
                      <a:lnTo>
                        <a:pt x="566" y="3599"/>
                      </a:lnTo>
                      <a:lnTo>
                        <a:pt x="638" y="3599"/>
                      </a:lnTo>
                      <a:lnTo>
                        <a:pt x="638" y="3403"/>
                      </a:lnTo>
                      <a:lnTo>
                        <a:pt x="709" y="3403"/>
                      </a:lnTo>
                      <a:lnTo>
                        <a:pt x="709" y="3270"/>
                      </a:lnTo>
                      <a:lnTo>
                        <a:pt x="776" y="3270"/>
                      </a:lnTo>
                      <a:lnTo>
                        <a:pt x="776" y="2944"/>
                      </a:lnTo>
                      <a:lnTo>
                        <a:pt x="848" y="2944"/>
                      </a:lnTo>
                      <a:lnTo>
                        <a:pt x="848" y="2679"/>
                      </a:lnTo>
                      <a:lnTo>
                        <a:pt x="919" y="2679"/>
                      </a:lnTo>
                      <a:lnTo>
                        <a:pt x="919" y="2487"/>
                      </a:lnTo>
                      <a:lnTo>
                        <a:pt x="992" y="2487"/>
                      </a:lnTo>
                      <a:lnTo>
                        <a:pt x="992" y="2287"/>
                      </a:lnTo>
                      <a:lnTo>
                        <a:pt x="1060" y="2287"/>
                      </a:lnTo>
                      <a:lnTo>
                        <a:pt x="1060" y="2025"/>
                      </a:lnTo>
                      <a:lnTo>
                        <a:pt x="1131" y="2025"/>
                      </a:lnTo>
                      <a:lnTo>
                        <a:pt x="1131" y="1702"/>
                      </a:lnTo>
                      <a:lnTo>
                        <a:pt x="1202" y="1702"/>
                      </a:lnTo>
                      <a:lnTo>
                        <a:pt x="1202" y="1310"/>
                      </a:lnTo>
                      <a:lnTo>
                        <a:pt x="1269" y="1310"/>
                      </a:lnTo>
                      <a:lnTo>
                        <a:pt x="1269" y="914"/>
                      </a:lnTo>
                      <a:lnTo>
                        <a:pt x="1342" y="914"/>
                      </a:lnTo>
                      <a:lnTo>
                        <a:pt x="1342" y="652"/>
                      </a:lnTo>
                      <a:lnTo>
                        <a:pt x="1413" y="652"/>
                      </a:lnTo>
                      <a:lnTo>
                        <a:pt x="1413" y="520"/>
                      </a:lnTo>
                      <a:lnTo>
                        <a:pt x="1485" y="520"/>
                      </a:lnTo>
                      <a:lnTo>
                        <a:pt x="1485" y="457"/>
                      </a:lnTo>
                      <a:lnTo>
                        <a:pt x="1557" y="457"/>
                      </a:lnTo>
                      <a:lnTo>
                        <a:pt x="1557" y="324"/>
                      </a:lnTo>
                      <a:lnTo>
                        <a:pt x="1625" y="324"/>
                      </a:lnTo>
                      <a:lnTo>
                        <a:pt x="1625" y="195"/>
                      </a:lnTo>
                      <a:lnTo>
                        <a:pt x="1696" y="195"/>
                      </a:lnTo>
                      <a:lnTo>
                        <a:pt x="1696" y="132"/>
                      </a:lnTo>
                      <a:lnTo>
                        <a:pt x="1696"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08760" y="4631040"/>
                  <a:ext cx="34200" cy="37080"/>
                </a:xfrm>
                <a:prstGeom prst="rect">
                  <a:avLst/>
                </a:prstGeom>
                <a:solidFill>
                  <a:srgbClr val="ffa584"/>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6214320" y="4648320"/>
                  <a:ext cx="48240" cy="147600"/>
                </a:xfrm>
                <a:custGeom>
                  <a:avLst/>
                  <a:gdLst/>
                  <a:ahLst/>
                  <a:rect l="l" t="t" r="r" b="b"/>
                  <a:pathLst>
                    <a:path w="228" h="603">
                      <a:moveTo>
                        <a:pt x="0" y="0"/>
                      </a:moveTo>
                      <a:lnTo>
                        <a:pt x="76" y="0"/>
                      </a:lnTo>
                      <a:lnTo>
                        <a:pt x="76" y="67"/>
                      </a:lnTo>
                      <a:lnTo>
                        <a:pt x="156" y="67"/>
                      </a:lnTo>
                      <a:lnTo>
                        <a:pt x="156" y="200"/>
                      </a:lnTo>
                      <a:lnTo>
                        <a:pt x="228" y="200"/>
                      </a:lnTo>
                      <a:lnTo>
                        <a:pt x="228" y="399"/>
                      </a:lnTo>
                      <a:lnTo>
                        <a:pt x="156" y="399"/>
                      </a:lnTo>
                      <a:lnTo>
                        <a:pt x="156" y="538"/>
                      </a:lnTo>
                      <a:lnTo>
                        <a:pt x="76" y="538"/>
                      </a:lnTo>
                      <a:lnTo>
                        <a:pt x="76" y="603"/>
                      </a:lnTo>
                      <a:lnTo>
                        <a:pt x="0" y="603"/>
                      </a:lnTo>
                      <a:lnTo>
                        <a:pt x="0" y="538"/>
                      </a:lnTo>
                      <a:lnTo>
                        <a:pt x="76" y="538"/>
                      </a:lnTo>
                      <a:lnTo>
                        <a:pt x="76" y="399"/>
                      </a:lnTo>
                      <a:lnTo>
                        <a:pt x="156" y="399"/>
                      </a:lnTo>
                      <a:lnTo>
                        <a:pt x="156" y="200"/>
                      </a:lnTo>
                      <a:lnTo>
                        <a:pt x="76" y="200"/>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713920" y="4664160"/>
                  <a:ext cx="775440" cy="1562400"/>
                </a:xfrm>
                <a:custGeom>
                  <a:avLst/>
                  <a:gdLst/>
                  <a:ahLst/>
                  <a:rect l="l" t="t" r="r" b="b"/>
                  <a:pathLst>
                    <a:path w="3604" h="6344">
                      <a:moveTo>
                        <a:pt x="0" y="0"/>
                      </a:moveTo>
                      <a:lnTo>
                        <a:pt x="72" y="0"/>
                      </a:lnTo>
                      <a:lnTo>
                        <a:pt x="72" y="63"/>
                      </a:lnTo>
                      <a:lnTo>
                        <a:pt x="144" y="63"/>
                      </a:lnTo>
                      <a:lnTo>
                        <a:pt x="144" y="129"/>
                      </a:lnTo>
                      <a:lnTo>
                        <a:pt x="215" y="129"/>
                      </a:lnTo>
                      <a:lnTo>
                        <a:pt x="215" y="325"/>
                      </a:lnTo>
                      <a:lnTo>
                        <a:pt x="286" y="325"/>
                      </a:lnTo>
                      <a:lnTo>
                        <a:pt x="286" y="457"/>
                      </a:lnTo>
                      <a:lnTo>
                        <a:pt x="354" y="457"/>
                      </a:lnTo>
                      <a:lnTo>
                        <a:pt x="354" y="587"/>
                      </a:lnTo>
                      <a:lnTo>
                        <a:pt x="426" y="587"/>
                      </a:lnTo>
                      <a:lnTo>
                        <a:pt x="426" y="654"/>
                      </a:lnTo>
                      <a:lnTo>
                        <a:pt x="494" y="654"/>
                      </a:lnTo>
                      <a:lnTo>
                        <a:pt x="494" y="719"/>
                      </a:lnTo>
                      <a:lnTo>
                        <a:pt x="565" y="719"/>
                      </a:lnTo>
                      <a:lnTo>
                        <a:pt x="565" y="786"/>
                      </a:lnTo>
                      <a:lnTo>
                        <a:pt x="636" y="786"/>
                      </a:lnTo>
                      <a:lnTo>
                        <a:pt x="636" y="849"/>
                      </a:lnTo>
                      <a:lnTo>
                        <a:pt x="709" y="849"/>
                      </a:lnTo>
                      <a:lnTo>
                        <a:pt x="709" y="977"/>
                      </a:lnTo>
                      <a:lnTo>
                        <a:pt x="777" y="977"/>
                      </a:lnTo>
                      <a:lnTo>
                        <a:pt x="777" y="1045"/>
                      </a:lnTo>
                      <a:lnTo>
                        <a:pt x="848" y="1045"/>
                      </a:lnTo>
                      <a:lnTo>
                        <a:pt x="848" y="1111"/>
                      </a:lnTo>
                      <a:lnTo>
                        <a:pt x="919" y="1111"/>
                      </a:lnTo>
                      <a:lnTo>
                        <a:pt x="919" y="1178"/>
                      </a:lnTo>
                      <a:lnTo>
                        <a:pt x="992" y="1178"/>
                      </a:lnTo>
                      <a:lnTo>
                        <a:pt x="992" y="1245"/>
                      </a:lnTo>
                      <a:lnTo>
                        <a:pt x="1063" y="1245"/>
                      </a:lnTo>
                      <a:lnTo>
                        <a:pt x="1063" y="1311"/>
                      </a:lnTo>
                      <a:lnTo>
                        <a:pt x="1134" y="1311"/>
                      </a:lnTo>
                      <a:lnTo>
                        <a:pt x="1134" y="1373"/>
                      </a:lnTo>
                      <a:lnTo>
                        <a:pt x="1202" y="1373"/>
                      </a:lnTo>
                      <a:lnTo>
                        <a:pt x="1202" y="1440"/>
                      </a:lnTo>
                      <a:lnTo>
                        <a:pt x="1273" y="1440"/>
                      </a:lnTo>
                      <a:lnTo>
                        <a:pt x="1273" y="1568"/>
                      </a:lnTo>
                      <a:lnTo>
                        <a:pt x="1345" y="1568"/>
                      </a:lnTo>
                      <a:lnTo>
                        <a:pt x="1345" y="1698"/>
                      </a:lnTo>
                      <a:lnTo>
                        <a:pt x="1413" y="1698"/>
                      </a:lnTo>
                      <a:lnTo>
                        <a:pt x="1413" y="1830"/>
                      </a:lnTo>
                      <a:lnTo>
                        <a:pt x="1485" y="1830"/>
                      </a:lnTo>
                      <a:lnTo>
                        <a:pt x="1485" y="1963"/>
                      </a:lnTo>
                      <a:lnTo>
                        <a:pt x="1556" y="1963"/>
                      </a:lnTo>
                      <a:lnTo>
                        <a:pt x="1556" y="2159"/>
                      </a:lnTo>
                      <a:lnTo>
                        <a:pt x="1628" y="2159"/>
                      </a:lnTo>
                      <a:lnTo>
                        <a:pt x="1628" y="2355"/>
                      </a:lnTo>
                      <a:lnTo>
                        <a:pt x="1696" y="2355"/>
                      </a:lnTo>
                      <a:lnTo>
                        <a:pt x="1696" y="2551"/>
                      </a:lnTo>
                      <a:lnTo>
                        <a:pt x="1838" y="2551"/>
                      </a:lnTo>
                      <a:lnTo>
                        <a:pt x="1838" y="2487"/>
                      </a:lnTo>
                      <a:lnTo>
                        <a:pt x="1911" y="2487"/>
                      </a:lnTo>
                      <a:lnTo>
                        <a:pt x="1911" y="2421"/>
                      </a:lnTo>
                      <a:lnTo>
                        <a:pt x="1982" y="2421"/>
                      </a:lnTo>
                      <a:lnTo>
                        <a:pt x="1982" y="2289"/>
                      </a:lnTo>
                      <a:lnTo>
                        <a:pt x="2053" y="2289"/>
                      </a:lnTo>
                      <a:lnTo>
                        <a:pt x="2053" y="2159"/>
                      </a:lnTo>
                      <a:lnTo>
                        <a:pt x="2121" y="2159"/>
                      </a:lnTo>
                      <a:lnTo>
                        <a:pt x="2121" y="2027"/>
                      </a:lnTo>
                      <a:lnTo>
                        <a:pt x="2193" y="2027"/>
                      </a:lnTo>
                      <a:lnTo>
                        <a:pt x="2193" y="1963"/>
                      </a:lnTo>
                      <a:lnTo>
                        <a:pt x="2261" y="1963"/>
                      </a:lnTo>
                      <a:lnTo>
                        <a:pt x="2261" y="1830"/>
                      </a:lnTo>
                      <a:lnTo>
                        <a:pt x="2332" y="1830"/>
                      </a:lnTo>
                      <a:lnTo>
                        <a:pt x="2332" y="1765"/>
                      </a:lnTo>
                      <a:lnTo>
                        <a:pt x="2404" y="1765"/>
                      </a:lnTo>
                      <a:lnTo>
                        <a:pt x="2404" y="1635"/>
                      </a:lnTo>
                      <a:lnTo>
                        <a:pt x="2476" y="1635"/>
                      </a:lnTo>
                      <a:lnTo>
                        <a:pt x="2476" y="1568"/>
                      </a:lnTo>
                      <a:lnTo>
                        <a:pt x="2543" y="1568"/>
                      </a:lnTo>
                      <a:lnTo>
                        <a:pt x="2543" y="1502"/>
                      </a:lnTo>
                      <a:lnTo>
                        <a:pt x="2619" y="1502"/>
                      </a:lnTo>
                      <a:lnTo>
                        <a:pt x="2619" y="1440"/>
                      </a:lnTo>
                      <a:lnTo>
                        <a:pt x="2691" y="1440"/>
                      </a:lnTo>
                      <a:lnTo>
                        <a:pt x="2691" y="1311"/>
                      </a:lnTo>
                      <a:lnTo>
                        <a:pt x="2758" y="1311"/>
                      </a:lnTo>
                      <a:lnTo>
                        <a:pt x="2758" y="1245"/>
                      </a:lnTo>
                      <a:lnTo>
                        <a:pt x="2830" y="1245"/>
                      </a:lnTo>
                      <a:lnTo>
                        <a:pt x="2830" y="1178"/>
                      </a:lnTo>
                      <a:lnTo>
                        <a:pt x="2901" y="1178"/>
                      </a:lnTo>
                      <a:lnTo>
                        <a:pt x="2901" y="1111"/>
                      </a:lnTo>
                      <a:lnTo>
                        <a:pt x="2973" y="1111"/>
                      </a:lnTo>
                      <a:lnTo>
                        <a:pt x="2973" y="1045"/>
                      </a:lnTo>
                      <a:lnTo>
                        <a:pt x="3041" y="1045"/>
                      </a:lnTo>
                      <a:lnTo>
                        <a:pt x="3041" y="977"/>
                      </a:lnTo>
                      <a:lnTo>
                        <a:pt x="3113" y="977"/>
                      </a:lnTo>
                      <a:lnTo>
                        <a:pt x="3113" y="916"/>
                      </a:lnTo>
                      <a:lnTo>
                        <a:pt x="3180" y="916"/>
                      </a:lnTo>
                      <a:lnTo>
                        <a:pt x="3180" y="849"/>
                      </a:lnTo>
                      <a:lnTo>
                        <a:pt x="3251" y="849"/>
                      </a:lnTo>
                      <a:lnTo>
                        <a:pt x="3251" y="719"/>
                      </a:lnTo>
                      <a:lnTo>
                        <a:pt x="3323" y="719"/>
                      </a:lnTo>
                      <a:lnTo>
                        <a:pt x="3323" y="654"/>
                      </a:lnTo>
                      <a:lnTo>
                        <a:pt x="3395" y="654"/>
                      </a:lnTo>
                      <a:lnTo>
                        <a:pt x="3395" y="524"/>
                      </a:lnTo>
                      <a:lnTo>
                        <a:pt x="3466" y="524"/>
                      </a:lnTo>
                      <a:lnTo>
                        <a:pt x="3466" y="325"/>
                      </a:lnTo>
                      <a:lnTo>
                        <a:pt x="3539" y="325"/>
                      </a:lnTo>
                      <a:lnTo>
                        <a:pt x="3539" y="262"/>
                      </a:lnTo>
                      <a:lnTo>
                        <a:pt x="3604" y="262"/>
                      </a:lnTo>
                      <a:lnTo>
                        <a:pt x="3604" y="457"/>
                      </a:lnTo>
                      <a:lnTo>
                        <a:pt x="3539" y="457"/>
                      </a:lnTo>
                      <a:lnTo>
                        <a:pt x="3539" y="849"/>
                      </a:lnTo>
                      <a:lnTo>
                        <a:pt x="3466" y="849"/>
                      </a:lnTo>
                      <a:lnTo>
                        <a:pt x="3466" y="1245"/>
                      </a:lnTo>
                      <a:lnTo>
                        <a:pt x="3395" y="1245"/>
                      </a:lnTo>
                      <a:lnTo>
                        <a:pt x="3395" y="1568"/>
                      </a:lnTo>
                      <a:lnTo>
                        <a:pt x="3323" y="1568"/>
                      </a:lnTo>
                      <a:lnTo>
                        <a:pt x="3323" y="1830"/>
                      </a:lnTo>
                      <a:lnTo>
                        <a:pt x="3251" y="1830"/>
                      </a:lnTo>
                      <a:lnTo>
                        <a:pt x="3251" y="2027"/>
                      </a:lnTo>
                      <a:lnTo>
                        <a:pt x="3180" y="2027"/>
                      </a:lnTo>
                      <a:lnTo>
                        <a:pt x="3180" y="2222"/>
                      </a:lnTo>
                      <a:lnTo>
                        <a:pt x="3113" y="2222"/>
                      </a:lnTo>
                      <a:lnTo>
                        <a:pt x="3113" y="2487"/>
                      </a:lnTo>
                      <a:lnTo>
                        <a:pt x="3041" y="2487"/>
                      </a:lnTo>
                      <a:lnTo>
                        <a:pt x="3041" y="2813"/>
                      </a:lnTo>
                      <a:lnTo>
                        <a:pt x="2973" y="2813"/>
                      </a:lnTo>
                      <a:lnTo>
                        <a:pt x="2973" y="2946"/>
                      </a:lnTo>
                      <a:lnTo>
                        <a:pt x="2901" y="2946"/>
                      </a:lnTo>
                      <a:lnTo>
                        <a:pt x="2901" y="3142"/>
                      </a:lnTo>
                      <a:lnTo>
                        <a:pt x="2830" y="3142"/>
                      </a:lnTo>
                      <a:lnTo>
                        <a:pt x="2830" y="3333"/>
                      </a:lnTo>
                      <a:lnTo>
                        <a:pt x="2758" y="3333"/>
                      </a:lnTo>
                      <a:lnTo>
                        <a:pt x="2758" y="3400"/>
                      </a:lnTo>
                      <a:lnTo>
                        <a:pt x="2691" y="3400"/>
                      </a:lnTo>
                      <a:lnTo>
                        <a:pt x="2691" y="3465"/>
                      </a:lnTo>
                      <a:lnTo>
                        <a:pt x="2619" y="3465"/>
                      </a:lnTo>
                      <a:lnTo>
                        <a:pt x="2619" y="3532"/>
                      </a:lnTo>
                      <a:lnTo>
                        <a:pt x="2543" y="3532"/>
                      </a:lnTo>
                      <a:lnTo>
                        <a:pt x="2543" y="3598"/>
                      </a:lnTo>
                      <a:lnTo>
                        <a:pt x="2476" y="3598"/>
                      </a:lnTo>
                      <a:lnTo>
                        <a:pt x="2476" y="3728"/>
                      </a:lnTo>
                      <a:lnTo>
                        <a:pt x="2404" y="3728"/>
                      </a:lnTo>
                      <a:lnTo>
                        <a:pt x="2404" y="3794"/>
                      </a:lnTo>
                      <a:lnTo>
                        <a:pt x="2332" y="3794"/>
                      </a:lnTo>
                      <a:lnTo>
                        <a:pt x="2332" y="3857"/>
                      </a:lnTo>
                      <a:lnTo>
                        <a:pt x="2261" y="3857"/>
                      </a:lnTo>
                      <a:lnTo>
                        <a:pt x="2261" y="3924"/>
                      </a:lnTo>
                      <a:lnTo>
                        <a:pt x="2193" y="3924"/>
                      </a:lnTo>
                      <a:lnTo>
                        <a:pt x="2193" y="3990"/>
                      </a:lnTo>
                      <a:lnTo>
                        <a:pt x="2121" y="3990"/>
                      </a:lnTo>
                      <a:lnTo>
                        <a:pt x="2121" y="4252"/>
                      </a:lnTo>
                      <a:lnTo>
                        <a:pt x="2193" y="4252"/>
                      </a:lnTo>
                      <a:lnTo>
                        <a:pt x="2193" y="4319"/>
                      </a:lnTo>
                      <a:lnTo>
                        <a:pt x="2261" y="4319"/>
                      </a:lnTo>
                      <a:lnTo>
                        <a:pt x="2261" y="4381"/>
                      </a:lnTo>
                      <a:lnTo>
                        <a:pt x="2543" y="4381"/>
                      </a:lnTo>
                      <a:lnTo>
                        <a:pt x="2543" y="4515"/>
                      </a:lnTo>
                      <a:lnTo>
                        <a:pt x="2476" y="4515"/>
                      </a:lnTo>
                      <a:lnTo>
                        <a:pt x="2476" y="4776"/>
                      </a:lnTo>
                      <a:lnTo>
                        <a:pt x="2404" y="4776"/>
                      </a:lnTo>
                      <a:lnTo>
                        <a:pt x="2404" y="5035"/>
                      </a:lnTo>
                      <a:lnTo>
                        <a:pt x="2332" y="5035"/>
                      </a:lnTo>
                      <a:lnTo>
                        <a:pt x="2332" y="5757"/>
                      </a:lnTo>
                      <a:lnTo>
                        <a:pt x="2261" y="5757"/>
                      </a:lnTo>
                      <a:lnTo>
                        <a:pt x="2261" y="5954"/>
                      </a:lnTo>
                      <a:lnTo>
                        <a:pt x="2332" y="5954"/>
                      </a:lnTo>
                      <a:lnTo>
                        <a:pt x="2332" y="6020"/>
                      </a:lnTo>
                      <a:lnTo>
                        <a:pt x="2404" y="6020"/>
                      </a:lnTo>
                      <a:lnTo>
                        <a:pt x="2404" y="6082"/>
                      </a:lnTo>
                      <a:lnTo>
                        <a:pt x="2543" y="6082"/>
                      </a:lnTo>
                      <a:lnTo>
                        <a:pt x="2543" y="6215"/>
                      </a:lnTo>
                      <a:lnTo>
                        <a:pt x="2476" y="6215"/>
                      </a:lnTo>
                      <a:lnTo>
                        <a:pt x="2476" y="6277"/>
                      </a:lnTo>
                      <a:lnTo>
                        <a:pt x="2404" y="6277"/>
                      </a:lnTo>
                      <a:lnTo>
                        <a:pt x="2404" y="6344"/>
                      </a:lnTo>
                      <a:lnTo>
                        <a:pt x="2261" y="6344"/>
                      </a:lnTo>
                      <a:lnTo>
                        <a:pt x="2261" y="6215"/>
                      </a:lnTo>
                      <a:lnTo>
                        <a:pt x="2193" y="6215"/>
                      </a:lnTo>
                      <a:lnTo>
                        <a:pt x="2193" y="6149"/>
                      </a:lnTo>
                      <a:lnTo>
                        <a:pt x="2053" y="6149"/>
                      </a:lnTo>
                      <a:lnTo>
                        <a:pt x="2053" y="6082"/>
                      </a:lnTo>
                      <a:lnTo>
                        <a:pt x="1911" y="6082"/>
                      </a:lnTo>
                      <a:lnTo>
                        <a:pt x="1911" y="5625"/>
                      </a:lnTo>
                      <a:lnTo>
                        <a:pt x="1982" y="5625"/>
                      </a:lnTo>
                      <a:lnTo>
                        <a:pt x="1982" y="5559"/>
                      </a:lnTo>
                      <a:lnTo>
                        <a:pt x="1911" y="5559"/>
                      </a:lnTo>
                      <a:lnTo>
                        <a:pt x="1911" y="5430"/>
                      </a:lnTo>
                      <a:lnTo>
                        <a:pt x="1982" y="5430"/>
                      </a:lnTo>
                      <a:lnTo>
                        <a:pt x="1982" y="5366"/>
                      </a:lnTo>
                      <a:lnTo>
                        <a:pt x="1911" y="5366"/>
                      </a:lnTo>
                      <a:lnTo>
                        <a:pt x="1911" y="5035"/>
                      </a:lnTo>
                      <a:lnTo>
                        <a:pt x="1838" y="5035"/>
                      </a:lnTo>
                      <a:lnTo>
                        <a:pt x="1838" y="4905"/>
                      </a:lnTo>
                      <a:lnTo>
                        <a:pt x="1911" y="4905"/>
                      </a:lnTo>
                      <a:lnTo>
                        <a:pt x="1911" y="4776"/>
                      </a:lnTo>
                      <a:lnTo>
                        <a:pt x="1838" y="4776"/>
                      </a:lnTo>
                      <a:lnTo>
                        <a:pt x="1838" y="4643"/>
                      </a:lnTo>
                      <a:lnTo>
                        <a:pt x="1767" y="4643"/>
                      </a:lnTo>
                      <a:lnTo>
                        <a:pt x="1767" y="4381"/>
                      </a:lnTo>
                      <a:lnTo>
                        <a:pt x="1696" y="4381"/>
                      </a:lnTo>
                      <a:lnTo>
                        <a:pt x="1696" y="4252"/>
                      </a:lnTo>
                      <a:lnTo>
                        <a:pt x="1628" y="4252"/>
                      </a:lnTo>
                      <a:lnTo>
                        <a:pt x="1628" y="3857"/>
                      </a:lnTo>
                      <a:lnTo>
                        <a:pt x="1556" y="3857"/>
                      </a:lnTo>
                      <a:lnTo>
                        <a:pt x="1556" y="3665"/>
                      </a:lnTo>
                      <a:lnTo>
                        <a:pt x="1485" y="3665"/>
                      </a:lnTo>
                      <a:lnTo>
                        <a:pt x="1485" y="3465"/>
                      </a:lnTo>
                      <a:lnTo>
                        <a:pt x="1413" y="3465"/>
                      </a:lnTo>
                      <a:lnTo>
                        <a:pt x="1413" y="3270"/>
                      </a:lnTo>
                      <a:lnTo>
                        <a:pt x="1345" y="3270"/>
                      </a:lnTo>
                      <a:lnTo>
                        <a:pt x="1345" y="3203"/>
                      </a:lnTo>
                      <a:lnTo>
                        <a:pt x="1273" y="3203"/>
                      </a:lnTo>
                      <a:lnTo>
                        <a:pt x="1273" y="3142"/>
                      </a:lnTo>
                      <a:lnTo>
                        <a:pt x="1202" y="3142"/>
                      </a:lnTo>
                      <a:lnTo>
                        <a:pt x="1202" y="3074"/>
                      </a:lnTo>
                      <a:lnTo>
                        <a:pt x="1134" y="3074"/>
                      </a:lnTo>
                      <a:lnTo>
                        <a:pt x="1134" y="3008"/>
                      </a:lnTo>
                      <a:lnTo>
                        <a:pt x="1063" y="3008"/>
                      </a:lnTo>
                      <a:lnTo>
                        <a:pt x="1063" y="2879"/>
                      </a:lnTo>
                      <a:lnTo>
                        <a:pt x="992" y="2879"/>
                      </a:lnTo>
                      <a:lnTo>
                        <a:pt x="992" y="2813"/>
                      </a:lnTo>
                      <a:lnTo>
                        <a:pt x="919" y="2813"/>
                      </a:lnTo>
                      <a:lnTo>
                        <a:pt x="919" y="2745"/>
                      </a:lnTo>
                      <a:lnTo>
                        <a:pt x="848" y="2745"/>
                      </a:lnTo>
                      <a:lnTo>
                        <a:pt x="848" y="2679"/>
                      </a:lnTo>
                      <a:lnTo>
                        <a:pt x="777" y="2679"/>
                      </a:lnTo>
                      <a:lnTo>
                        <a:pt x="777" y="2551"/>
                      </a:lnTo>
                      <a:lnTo>
                        <a:pt x="709" y="2551"/>
                      </a:lnTo>
                      <a:lnTo>
                        <a:pt x="709" y="2487"/>
                      </a:lnTo>
                      <a:lnTo>
                        <a:pt x="636" y="2487"/>
                      </a:lnTo>
                      <a:lnTo>
                        <a:pt x="636" y="2355"/>
                      </a:lnTo>
                      <a:lnTo>
                        <a:pt x="565" y="2355"/>
                      </a:lnTo>
                      <a:lnTo>
                        <a:pt x="565" y="2222"/>
                      </a:lnTo>
                      <a:lnTo>
                        <a:pt x="494" y="2222"/>
                      </a:lnTo>
                      <a:lnTo>
                        <a:pt x="494" y="2027"/>
                      </a:lnTo>
                      <a:lnTo>
                        <a:pt x="426" y="2027"/>
                      </a:lnTo>
                      <a:lnTo>
                        <a:pt x="426" y="1897"/>
                      </a:lnTo>
                      <a:lnTo>
                        <a:pt x="354" y="1897"/>
                      </a:lnTo>
                      <a:lnTo>
                        <a:pt x="354" y="1765"/>
                      </a:lnTo>
                      <a:lnTo>
                        <a:pt x="286" y="1765"/>
                      </a:lnTo>
                      <a:lnTo>
                        <a:pt x="286" y="1568"/>
                      </a:lnTo>
                      <a:lnTo>
                        <a:pt x="215" y="1568"/>
                      </a:lnTo>
                      <a:lnTo>
                        <a:pt x="215" y="1373"/>
                      </a:lnTo>
                      <a:lnTo>
                        <a:pt x="144" y="1373"/>
                      </a:lnTo>
                      <a:lnTo>
                        <a:pt x="144" y="1045"/>
                      </a:lnTo>
                      <a:lnTo>
                        <a:pt x="72" y="1045"/>
                      </a:lnTo>
                      <a:lnTo>
                        <a:pt x="72" y="719"/>
                      </a:lnTo>
                      <a:lnTo>
                        <a:pt x="0" y="719"/>
                      </a:lnTo>
                      <a:lnTo>
                        <a:pt x="0" y="0"/>
                      </a:lnTo>
                      <a:close/>
                    </a:path>
                  </a:pathLst>
                </a:custGeom>
                <a:solidFill>
                  <a:srgbClr val="e800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397120" y="4712040"/>
                  <a:ext cx="517320" cy="1418400"/>
                </a:xfrm>
                <a:custGeom>
                  <a:avLst/>
                  <a:gdLst/>
                  <a:ahLst/>
                  <a:rect l="l" t="t" r="r" b="b"/>
                  <a:pathLst>
                    <a:path w="2409" h="5759">
                      <a:moveTo>
                        <a:pt x="992" y="0"/>
                      </a:moveTo>
                      <a:lnTo>
                        <a:pt x="1064" y="0"/>
                      </a:lnTo>
                      <a:lnTo>
                        <a:pt x="1064" y="67"/>
                      </a:lnTo>
                      <a:lnTo>
                        <a:pt x="1135" y="67"/>
                      </a:lnTo>
                      <a:lnTo>
                        <a:pt x="1135" y="201"/>
                      </a:lnTo>
                      <a:lnTo>
                        <a:pt x="1207" y="201"/>
                      </a:lnTo>
                      <a:lnTo>
                        <a:pt x="1207" y="329"/>
                      </a:lnTo>
                      <a:lnTo>
                        <a:pt x="1275" y="329"/>
                      </a:lnTo>
                      <a:lnTo>
                        <a:pt x="1275" y="524"/>
                      </a:lnTo>
                      <a:lnTo>
                        <a:pt x="1346" y="524"/>
                      </a:lnTo>
                      <a:lnTo>
                        <a:pt x="1346" y="658"/>
                      </a:lnTo>
                      <a:lnTo>
                        <a:pt x="1418" y="658"/>
                      </a:lnTo>
                      <a:lnTo>
                        <a:pt x="1418" y="1050"/>
                      </a:lnTo>
                      <a:lnTo>
                        <a:pt x="1486" y="1050"/>
                      </a:lnTo>
                      <a:lnTo>
                        <a:pt x="1486" y="1311"/>
                      </a:lnTo>
                      <a:lnTo>
                        <a:pt x="1557" y="1311"/>
                      </a:lnTo>
                      <a:lnTo>
                        <a:pt x="1557" y="1570"/>
                      </a:lnTo>
                      <a:lnTo>
                        <a:pt x="1628" y="1570"/>
                      </a:lnTo>
                      <a:lnTo>
                        <a:pt x="1628" y="1835"/>
                      </a:lnTo>
                      <a:lnTo>
                        <a:pt x="1701" y="1835"/>
                      </a:lnTo>
                      <a:lnTo>
                        <a:pt x="1701" y="2160"/>
                      </a:lnTo>
                      <a:lnTo>
                        <a:pt x="1772" y="2160"/>
                      </a:lnTo>
                      <a:lnTo>
                        <a:pt x="1772" y="3141"/>
                      </a:lnTo>
                      <a:lnTo>
                        <a:pt x="1843" y="3141"/>
                      </a:lnTo>
                      <a:lnTo>
                        <a:pt x="1843" y="3205"/>
                      </a:lnTo>
                      <a:lnTo>
                        <a:pt x="1911" y="3205"/>
                      </a:lnTo>
                      <a:lnTo>
                        <a:pt x="1911" y="3270"/>
                      </a:lnTo>
                      <a:lnTo>
                        <a:pt x="1984" y="3270"/>
                      </a:lnTo>
                      <a:lnTo>
                        <a:pt x="1984" y="3337"/>
                      </a:lnTo>
                      <a:lnTo>
                        <a:pt x="1911" y="3337"/>
                      </a:lnTo>
                      <a:lnTo>
                        <a:pt x="1911" y="3270"/>
                      </a:lnTo>
                      <a:lnTo>
                        <a:pt x="1843" y="3270"/>
                      </a:lnTo>
                      <a:lnTo>
                        <a:pt x="1843" y="3205"/>
                      </a:lnTo>
                      <a:lnTo>
                        <a:pt x="1772" y="3205"/>
                      </a:lnTo>
                      <a:lnTo>
                        <a:pt x="1772" y="3337"/>
                      </a:lnTo>
                      <a:lnTo>
                        <a:pt x="1701" y="3337"/>
                      </a:lnTo>
                      <a:lnTo>
                        <a:pt x="1701" y="3403"/>
                      </a:lnTo>
                      <a:lnTo>
                        <a:pt x="1628" y="3403"/>
                      </a:lnTo>
                      <a:lnTo>
                        <a:pt x="1628" y="3537"/>
                      </a:lnTo>
                      <a:lnTo>
                        <a:pt x="1557" y="3537"/>
                      </a:lnTo>
                      <a:lnTo>
                        <a:pt x="1557" y="3603"/>
                      </a:lnTo>
                      <a:lnTo>
                        <a:pt x="1486" y="3603"/>
                      </a:lnTo>
                      <a:lnTo>
                        <a:pt x="1486" y="3665"/>
                      </a:lnTo>
                      <a:lnTo>
                        <a:pt x="1418" y="3665"/>
                      </a:lnTo>
                      <a:lnTo>
                        <a:pt x="1418" y="3732"/>
                      </a:lnTo>
                      <a:lnTo>
                        <a:pt x="1486" y="3732"/>
                      </a:lnTo>
                      <a:lnTo>
                        <a:pt x="1486" y="3795"/>
                      </a:lnTo>
                      <a:lnTo>
                        <a:pt x="1701" y="3795"/>
                      </a:lnTo>
                      <a:lnTo>
                        <a:pt x="1701" y="3862"/>
                      </a:lnTo>
                      <a:lnTo>
                        <a:pt x="1984" y="3862"/>
                      </a:lnTo>
                      <a:lnTo>
                        <a:pt x="1984" y="3927"/>
                      </a:lnTo>
                      <a:lnTo>
                        <a:pt x="2337" y="3927"/>
                      </a:lnTo>
                      <a:lnTo>
                        <a:pt x="2337" y="3991"/>
                      </a:lnTo>
                      <a:lnTo>
                        <a:pt x="2409" y="3991"/>
                      </a:lnTo>
                      <a:lnTo>
                        <a:pt x="2409" y="5300"/>
                      </a:lnTo>
                      <a:lnTo>
                        <a:pt x="2337" y="5300"/>
                      </a:lnTo>
                      <a:lnTo>
                        <a:pt x="2337" y="5433"/>
                      </a:lnTo>
                      <a:lnTo>
                        <a:pt x="2266" y="5433"/>
                      </a:lnTo>
                      <a:lnTo>
                        <a:pt x="2266" y="5497"/>
                      </a:lnTo>
                      <a:lnTo>
                        <a:pt x="2199" y="5497"/>
                      </a:lnTo>
                      <a:lnTo>
                        <a:pt x="2199" y="5562"/>
                      </a:lnTo>
                      <a:lnTo>
                        <a:pt x="2126" y="5562"/>
                      </a:lnTo>
                      <a:lnTo>
                        <a:pt x="2126" y="5625"/>
                      </a:lnTo>
                      <a:lnTo>
                        <a:pt x="1984" y="5625"/>
                      </a:lnTo>
                      <a:lnTo>
                        <a:pt x="1984" y="5692"/>
                      </a:lnTo>
                      <a:lnTo>
                        <a:pt x="1628" y="5692"/>
                      </a:lnTo>
                      <a:lnTo>
                        <a:pt x="1628" y="5759"/>
                      </a:lnTo>
                      <a:lnTo>
                        <a:pt x="924" y="5759"/>
                      </a:lnTo>
                      <a:lnTo>
                        <a:pt x="924" y="5692"/>
                      </a:lnTo>
                      <a:lnTo>
                        <a:pt x="781" y="5692"/>
                      </a:lnTo>
                      <a:lnTo>
                        <a:pt x="781" y="5625"/>
                      </a:lnTo>
                      <a:lnTo>
                        <a:pt x="638" y="5625"/>
                      </a:lnTo>
                      <a:lnTo>
                        <a:pt x="638" y="5562"/>
                      </a:lnTo>
                      <a:lnTo>
                        <a:pt x="494" y="5562"/>
                      </a:lnTo>
                      <a:lnTo>
                        <a:pt x="494" y="5497"/>
                      </a:lnTo>
                      <a:lnTo>
                        <a:pt x="356" y="5497"/>
                      </a:lnTo>
                      <a:lnTo>
                        <a:pt x="356" y="5433"/>
                      </a:lnTo>
                      <a:lnTo>
                        <a:pt x="283" y="5433"/>
                      </a:lnTo>
                      <a:lnTo>
                        <a:pt x="283" y="5367"/>
                      </a:lnTo>
                      <a:lnTo>
                        <a:pt x="212" y="5367"/>
                      </a:lnTo>
                      <a:lnTo>
                        <a:pt x="212" y="5300"/>
                      </a:lnTo>
                      <a:lnTo>
                        <a:pt x="141" y="5300"/>
                      </a:lnTo>
                      <a:lnTo>
                        <a:pt x="141" y="5238"/>
                      </a:lnTo>
                      <a:lnTo>
                        <a:pt x="73" y="5238"/>
                      </a:lnTo>
                      <a:lnTo>
                        <a:pt x="73" y="5105"/>
                      </a:lnTo>
                      <a:lnTo>
                        <a:pt x="0" y="5105"/>
                      </a:lnTo>
                      <a:lnTo>
                        <a:pt x="0" y="4386"/>
                      </a:lnTo>
                      <a:lnTo>
                        <a:pt x="73" y="4386"/>
                      </a:lnTo>
                      <a:lnTo>
                        <a:pt x="73" y="4256"/>
                      </a:lnTo>
                      <a:lnTo>
                        <a:pt x="141" y="4256"/>
                      </a:lnTo>
                      <a:lnTo>
                        <a:pt x="141" y="4191"/>
                      </a:lnTo>
                      <a:lnTo>
                        <a:pt x="212" y="4191"/>
                      </a:lnTo>
                      <a:lnTo>
                        <a:pt x="212" y="4256"/>
                      </a:lnTo>
                      <a:lnTo>
                        <a:pt x="141" y="4256"/>
                      </a:lnTo>
                      <a:lnTo>
                        <a:pt x="141" y="4386"/>
                      </a:lnTo>
                      <a:lnTo>
                        <a:pt x="73" y="4386"/>
                      </a:lnTo>
                      <a:lnTo>
                        <a:pt x="73" y="5105"/>
                      </a:lnTo>
                      <a:lnTo>
                        <a:pt x="141" y="5105"/>
                      </a:lnTo>
                      <a:lnTo>
                        <a:pt x="141" y="5238"/>
                      </a:lnTo>
                      <a:lnTo>
                        <a:pt x="212" y="5238"/>
                      </a:lnTo>
                      <a:lnTo>
                        <a:pt x="212" y="5300"/>
                      </a:lnTo>
                      <a:lnTo>
                        <a:pt x="283" y="5300"/>
                      </a:lnTo>
                      <a:lnTo>
                        <a:pt x="283" y="5367"/>
                      </a:lnTo>
                      <a:lnTo>
                        <a:pt x="356" y="5367"/>
                      </a:lnTo>
                      <a:lnTo>
                        <a:pt x="356" y="5433"/>
                      </a:lnTo>
                      <a:lnTo>
                        <a:pt x="494" y="5433"/>
                      </a:lnTo>
                      <a:lnTo>
                        <a:pt x="494" y="5497"/>
                      </a:lnTo>
                      <a:lnTo>
                        <a:pt x="638" y="5497"/>
                      </a:lnTo>
                      <a:lnTo>
                        <a:pt x="638" y="5562"/>
                      </a:lnTo>
                      <a:lnTo>
                        <a:pt x="781" y="5562"/>
                      </a:lnTo>
                      <a:lnTo>
                        <a:pt x="781" y="5625"/>
                      </a:lnTo>
                      <a:lnTo>
                        <a:pt x="924" y="5625"/>
                      </a:lnTo>
                      <a:lnTo>
                        <a:pt x="924" y="5692"/>
                      </a:lnTo>
                      <a:lnTo>
                        <a:pt x="1628" y="5692"/>
                      </a:lnTo>
                      <a:lnTo>
                        <a:pt x="1628" y="5625"/>
                      </a:lnTo>
                      <a:lnTo>
                        <a:pt x="1984" y="5625"/>
                      </a:lnTo>
                      <a:lnTo>
                        <a:pt x="1984" y="5562"/>
                      </a:lnTo>
                      <a:lnTo>
                        <a:pt x="2126" y="5562"/>
                      </a:lnTo>
                      <a:lnTo>
                        <a:pt x="2126" y="5497"/>
                      </a:lnTo>
                      <a:lnTo>
                        <a:pt x="2199" y="5497"/>
                      </a:lnTo>
                      <a:lnTo>
                        <a:pt x="2199" y="5433"/>
                      </a:lnTo>
                      <a:lnTo>
                        <a:pt x="2266" y="5433"/>
                      </a:lnTo>
                      <a:lnTo>
                        <a:pt x="2266" y="5300"/>
                      </a:lnTo>
                      <a:lnTo>
                        <a:pt x="2337" y="5300"/>
                      </a:lnTo>
                      <a:lnTo>
                        <a:pt x="2337" y="3991"/>
                      </a:lnTo>
                      <a:lnTo>
                        <a:pt x="1984" y="3991"/>
                      </a:lnTo>
                      <a:lnTo>
                        <a:pt x="1984" y="3927"/>
                      </a:lnTo>
                      <a:lnTo>
                        <a:pt x="1701" y="3927"/>
                      </a:lnTo>
                      <a:lnTo>
                        <a:pt x="1701" y="3862"/>
                      </a:lnTo>
                      <a:lnTo>
                        <a:pt x="1486" y="3862"/>
                      </a:lnTo>
                      <a:lnTo>
                        <a:pt x="1486" y="3795"/>
                      </a:lnTo>
                      <a:lnTo>
                        <a:pt x="1346" y="3795"/>
                      </a:lnTo>
                      <a:lnTo>
                        <a:pt x="1346" y="3862"/>
                      </a:lnTo>
                      <a:lnTo>
                        <a:pt x="1207" y="3862"/>
                      </a:lnTo>
                      <a:lnTo>
                        <a:pt x="1207" y="3927"/>
                      </a:lnTo>
                      <a:lnTo>
                        <a:pt x="1135" y="3927"/>
                      </a:lnTo>
                      <a:lnTo>
                        <a:pt x="1135" y="3991"/>
                      </a:lnTo>
                      <a:lnTo>
                        <a:pt x="992" y="3991"/>
                      </a:lnTo>
                      <a:lnTo>
                        <a:pt x="992" y="4057"/>
                      </a:lnTo>
                      <a:lnTo>
                        <a:pt x="781" y="4057"/>
                      </a:lnTo>
                      <a:lnTo>
                        <a:pt x="781" y="3991"/>
                      </a:lnTo>
                      <a:lnTo>
                        <a:pt x="992" y="3991"/>
                      </a:lnTo>
                      <a:lnTo>
                        <a:pt x="992" y="3927"/>
                      </a:lnTo>
                      <a:lnTo>
                        <a:pt x="1135" y="3927"/>
                      </a:lnTo>
                      <a:lnTo>
                        <a:pt x="1135" y="3862"/>
                      </a:lnTo>
                      <a:lnTo>
                        <a:pt x="1207" y="3862"/>
                      </a:lnTo>
                      <a:lnTo>
                        <a:pt x="1207" y="3795"/>
                      </a:lnTo>
                      <a:lnTo>
                        <a:pt x="1275" y="3795"/>
                      </a:lnTo>
                      <a:lnTo>
                        <a:pt x="1275" y="3732"/>
                      </a:lnTo>
                      <a:lnTo>
                        <a:pt x="1346" y="3732"/>
                      </a:lnTo>
                      <a:lnTo>
                        <a:pt x="1346" y="3665"/>
                      </a:lnTo>
                      <a:lnTo>
                        <a:pt x="1418" y="3665"/>
                      </a:lnTo>
                      <a:lnTo>
                        <a:pt x="1418" y="3603"/>
                      </a:lnTo>
                      <a:lnTo>
                        <a:pt x="1486" y="3603"/>
                      </a:lnTo>
                      <a:lnTo>
                        <a:pt x="1486" y="3537"/>
                      </a:lnTo>
                      <a:lnTo>
                        <a:pt x="1557" y="3537"/>
                      </a:lnTo>
                      <a:lnTo>
                        <a:pt x="1557" y="3403"/>
                      </a:lnTo>
                      <a:lnTo>
                        <a:pt x="1628" y="3403"/>
                      </a:lnTo>
                      <a:lnTo>
                        <a:pt x="1628" y="3337"/>
                      </a:lnTo>
                      <a:lnTo>
                        <a:pt x="1701" y="3337"/>
                      </a:lnTo>
                      <a:lnTo>
                        <a:pt x="1701" y="2160"/>
                      </a:lnTo>
                      <a:lnTo>
                        <a:pt x="1628" y="2160"/>
                      </a:lnTo>
                      <a:lnTo>
                        <a:pt x="1628" y="1835"/>
                      </a:lnTo>
                      <a:lnTo>
                        <a:pt x="1557" y="1835"/>
                      </a:lnTo>
                      <a:lnTo>
                        <a:pt x="1557" y="1570"/>
                      </a:lnTo>
                      <a:lnTo>
                        <a:pt x="1486" y="1570"/>
                      </a:lnTo>
                      <a:lnTo>
                        <a:pt x="1486" y="1311"/>
                      </a:lnTo>
                      <a:lnTo>
                        <a:pt x="1418" y="1311"/>
                      </a:lnTo>
                      <a:lnTo>
                        <a:pt x="1418" y="1050"/>
                      </a:lnTo>
                      <a:lnTo>
                        <a:pt x="1346" y="1050"/>
                      </a:lnTo>
                      <a:lnTo>
                        <a:pt x="1346" y="658"/>
                      </a:lnTo>
                      <a:lnTo>
                        <a:pt x="1275" y="658"/>
                      </a:lnTo>
                      <a:lnTo>
                        <a:pt x="1275" y="524"/>
                      </a:lnTo>
                      <a:lnTo>
                        <a:pt x="1207" y="524"/>
                      </a:lnTo>
                      <a:lnTo>
                        <a:pt x="1207" y="329"/>
                      </a:lnTo>
                      <a:lnTo>
                        <a:pt x="1135" y="329"/>
                      </a:lnTo>
                      <a:lnTo>
                        <a:pt x="1135" y="201"/>
                      </a:lnTo>
                      <a:lnTo>
                        <a:pt x="1064" y="201"/>
                      </a:lnTo>
                      <a:lnTo>
                        <a:pt x="1064" y="67"/>
                      </a:lnTo>
                      <a:lnTo>
                        <a:pt x="992" y="67"/>
                      </a:lnTo>
                      <a:lnTo>
                        <a:pt x="9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457680" y="4712040"/>
                  <a:ext cx="18000" cy="19800"/>
                </a:xfrm>
                <a:prstGeom prst="rect">
                  <a:avLst/>
                </a:prstGeom>
                <a:solidFill>
                  <a:srgbClr val="ff8442"/>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4" name=""/>
                <p:cNvSpPr/>
                <p:nvPr/>
              </p:nvSpPr>
              <p:spPr>
                <a:xfrm>
                  <a:off x="5775480" y="4728240"/>
                  <a:ext cx="290160" cy="308880"/>
                </a:xfrm>
                <a:custGeom>
                  <a:avLst/>
                  <a:gdLst/>
                  <a:ahLst/>
                  <a:rect l="l" t="t" r="r" b="b"/>
                  <a:pathLst>
                    <a:path w="1354" h="1256">
                      <a:moveTo>
                        <a:pt x="0" y="0"/>
                      </a:moveTo>
                      <a:lnTo>
                        <a:pt x="71" y="0"/>
                      </a:lnTo>
                      <a:lnTo>
                        <a:pt x="71" y="66"/>
                      </a:lnTo>
                      <a:lnTo>
                        <a:pt x="211" y="66"/>
                      </a:lnTo>
                      <a:lnTo>
                        <a:pt x="211" y="133"/>
                      </a:lnTo>
                      <a:lnTo>
                        <a:pt x="353" y="133"/>
                      </a:lnTo>
                      <a:lnTo>
                        <a:pt x="353" y="198"/>
                      </a:lnTo>
                      <a:lnTo>
                        <a:pt x="497" y="198"/>
                      </a:lnTo>
                      <a:lnTo>
                        <a:pt x="497" y="265"/>
                      </a:lnTo>
                      <a:lnTo>
                        <a:pt x="641" y="265"/>
                      </a:lnTo>
                      <a:lnTo>
                        <a:pt x="641" y="328"/>
                      </a:lnTo>
                      <a:lnTo>
                        <a:pt x="784" y="328"/>
                      </a:lnTo>
                      <a:lnTo>
                        <a:pt x="784" y="395"/>
                      </a:lnTo>
                      <a:lnTo>
                        <a:pt x="928" y="395"/>
                      </a:lnTo>
                      <a:lnTo>
                        <a:pt x="928" y="460"/>
                      </a:lnTo>
                      <a:lnTo>
                        <a:pt x="1139" y="460"/>
                      </a:lnTo>
                      <a:lnTo>
                        <a:pt x="1139" y="660"/>
                      </a:lnTo>
                      <a:lnTo>
                        <a:pt x="1210" y="660"/>
                      </a:lnTo>
                      <a:lnTo>
                        <a:pt x="1210" y="727"/>
                      </a:lnTo>
                      <a:lnTo>
                        <a:pt x="1281" y="727"/>
                      </a:lnTo>
                      <a:lnTo>
                        <a:pt x="1281" y="793"/>
                      </a:lnTo>
                      <a:lnTo>
                        <a:pt x="1354" y="793"/>
                      </a:lnTo>
                      <a:lnTo>
                        <a:pt x="1354" y="927"/>
                      </a:lnTo>
                      <a:lnTo>
                        <a:pt x="1281" y="927"/>
                      </a:lnTo>
                      <a:lnTo>
                        <a:pt x="1281" y="993"/>
                      </a:lnTo>
                      <a:lnTo>
                        <a:pt x="1210" y="993"/>
                      </a:lnTo>
                      <a:lnTo>
                        <a:pt x="1210" y="1122"/>
                      </a:lnTo>
                      <a:lnTo>
                        <a:pt x="1139" y="1122"/>
                      </a:lnTo>
                      <a:lnTo>
                        <a:pt x="1139" y="1256"/>
                      </a:lnTo>
                      <a:lnTo>
                        <a:pt x="1067" y="1256"/>
                      </a:lnTo>
                      <a:lnTo>
                        <a:pt x="1067" y="927"/>
                      </a:lnTo>
                      <a:lnTo>
                        <a:pt x="999" y="927"/>
                      </a:lnTo>
                      <a:lnTo>
                        <a:pt x="999" y="1122"/>
                      </a:lnTo>
                      <a:lnTo>
                        <a:pt x="928" y="1122"/>
                      </a:lnTo>
                      <a:lnTo>
                        <a:pt x="928" y="1059"/>
                      </a:lnTo>
                      <a:lnTo>
                        <a:pt x="856" y="1059"/>
                      </a:lnTo>
                      <a:lnTo>
                        <a:pt x="856" y="993"/>
                      </a:lnTo>
                      <a:lnTo>
                        <a:pt x="784" y="993"/>
                      </a:lnTo>
                      <a:lnTo>
                        <a:pt x="784" y="927"/>
                      </a:lnTo>
                      <a:lnTo>
                        <a:pt x="712" y="927"/>
                      </a:lnTo>
                      <a:lnTo>
                        <a:pt x="712" y="861"/>
                      </a:lnTo>
                      <a:lnTo>
                        <a:pt x="641" y="861"/>
                      </a:lnTo>
                      <a:lnTo>
                        <a:pt x="641" y="793"/>
                      </a:lnTo>
                      <a:lnTo>
                        <a:pt x="568" y="793"/>
                      </a:lnTo>
                      <a:lnTo>
                        <a:pt x="568" y="727"/>
                      </a:lnTo>
                      <a:lnTo>
                        <a:pt x="497" y="727"/>
                      </a:lnTo>
                      <a:lnTo>
                        <a:pt x="497" y="594"/>
                      </a:lnTo>
                      <a:lnTo>
                        <a:pt x="426" y="594"/>
                      </a:lnTo>
                      <a:lnTo>
                        <a:pt x="426" y="527"/>
                      </a:lnTo>
                      <a:lnTo>
                        <a:pt x="353" y="527"/>
                      </a:lnTo>
                      <a:lnTo>
                        <a:pt x="353" y="460"/>
                      </a:lnTo>
                      <a:lnTo>
                        <a:pt x="282" y="460"/>
                      </a:lnTo>
                      <a:lnTo>
                        <a:pt x="282" y="395"/>
                      </a:lnTo>
                      <a:lnTo>
                        <a:pt x="211" y="395"/>
                      </a:lnTo>
                      <a:lnTo>
                        <a:pt x="211" y="328"/>
                      </a:lnTo>
                      <a:lnTo>
                        <a:pt x="139" y="328"/>
                      </a:lnTo>
                      <a:lnTo>
                        <a:pt x="139" y="198"/>
                      </a:lnTo>
                      <a:lnTo>
                        <a:pt x="71" y="198"/>
                      </a:lnTo>
                      <a:lnTo>
                        <a:pt x="71" y="66"/>
                      </a:lnTo>
                      <a:lnTo>
                        <a:pt x="0" y="6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54200" y="4760280"/>
                  <a:ext cx="291240" cy="277200"/>
                </a:xfrm>
                <a:custGeom>
                  <a:avLst/>
                  <a:gdLst/>
                  <a:ahLst/>
                  <a:rect l="l" t="t" r="r" b="b"/>
                  <a:pathLst>
                    <a:path w="1353" h="1123">
                      <a:moveTo>
                        <a:pt x="1282" y="0"/>
                      </a:moveTo>
                      <a:lnTo>
                        <a:pt x="1353" y="0"/>
                      </a:lnTo>
                      <a:lnTo>
                        <a:pt x="1353" y="132"/>
                      </a:lnTo>
                      <a:lnTo>
                        <a:pt x="1282" y="132"/>
                      </a:lnTo>
                      <a:lnTo>
                        <a:pt x="1282" y="262"/>
                      </a:lnTo>
                      <a:lnTo>
                        <a:pt x="1211" y="262"/>
                      </a:lnTo>
                      <a:lnTo>
                        <a:pt x="1211" y="327"/>
                      </a:lnTo>
                      <a:lnTo>
                        <a:pt x="1139" y="327"/>
                      </a:lnTo>
                      <a:lnTo>
                        <a:pt x="1139" y="461"/>
                      </a:lnTo>
                      <a:lnTo>
                        <a:pt x="1068" y="461"/>
                      </a:lnTo>
                      <a:lnTo>
                        <a:pt x="1068" y="527"/>
                      </a:lnTo>
                      <a:lnTo>
                        <a:pt x="1000" y="527"/>
                      </a:lnTo>
                      <a:lnTo>
                        <a:pt x="1000" y="594"/>
                      </a:lnTo>
                      <a:lnTo>
                        <a:pt x="928" y="594"/>
                      </a:lnTo>
                      <a:lnTo>
                        <a:pt x="928" y="660"/>
                      </a:lnTo>
                      <a:lnTo>
                        <a:pt x="856" y="660"/>
                      </a:lnTo>
                      <a:lnTo>
                        <a:pt x="856" y="728"/>
                      </a:lnTo>
                      <a:lnTo>
                        <a:pt x="785" y="728"/>
                      </a:lnTo>
                      <a:lnTo>
                        <a:pt x="785" y="794"/>
                      </a:lnTo>
                      <a:lnTo>
                        <a:pt x="713" y="794"/>
                      </a:lnTo>
                      <a:lnTo>
                        <a:pt x="713" y="860"/>
                      </a:lnTo>
                      <a:lnTo>
                        <a:pt x="641" y="860"/>
                      </a:lnTo>
                      <a:lnTo>
                        <a:pt x="641" y="926"/>
                      </a:lnTo>
                      <a:lnTo>
                        <a:pt x="569" y="926"/>
                      </a:lnTo>
                      <a:lnTo>
                        <a:pt x="569" y="1055"/>
                      </a:lnTo>
                      <a:lnTo>
                        <a:pt x="498" y="1055"/>
                      </a:lnTo>
                      <a:lnTo>
                        <a:pt x="498" y="1123"/>
                      </a:lnTo>
                      <a:lnTo>
                        <a:pt x="354" y="1123"/>
                      </a:lnTo>
                      <a:lnTo>
                        <a:pt x="354" y="1055"/>
                      </a:lnTo>
                      <a:lnTo>
                        <a:pt x="284" y="1055"/>
                      </a:lnTo>
                      <a:lnTo>
                        <a:pt x="284" y="926"/>
                      </a:lnTo>
                      <a:lnTo>
                        <a:pt x="211" y="926"/>
                      </a:lnTo>
                      <a:lnTo>
                        <a:pt x="211" y="860"/>
                      </a:lnTo>
                      <a:lnTo>
                        <a:pt x="140" y="860"/>
                      </a:lnTo>
                      <a:lnTo>
                        <a:pt x="140" y="794"/>
                      </a:lnTo>
                      <a:lnTo>
                        <a:pt x="0" y="794"/>
                      </a:lnTo>
                      <a:lnTo>
                        <a:pt x="0" y="660"/>
                      </a:lnTo>
                      <a:lnTo>
                        <a:pt x="72" y="660"/>
                      </a:lnTo>
                      <a:lnTo>
                        <a:pt x="72" y="594"/>
                      </a:lnTo>
                      <a:lnTo>
                        <a:pt x="140" y="594"/>
                      </a:lnTo>
                      <a:lnTo>
                        <a:pt x="140" y="527"/>
                      </a:lnTo>
                      <a:lnTo>
                        <a:pt x="211" y="527"/>
                      </a:lnTo>
                      <a:lnTo>
                        <a:pt x="211" y="461"/>
                      </a:lnTo>
                      <a:lnTo>
                        <a:pt x="284" y="461"/>
                      </a:lnTo>
                      <a:lnTo>
                        <a:pt x="284" y="527"/>
                      </a:lnTo>
                      <a:lnTo>
                        <a:pt x="354" y="527"/>
                      </a:lnTo>
                      <a:lnTo>
                        <a:pt x="354" y="660"/>
                      </a:lnTo>
                      <a:lnTo>
                        <a:pt x="425" y="660"/>
                      </a:lnTo>
                      <a:lnTo>
                        <a:pt x="425" y="461"/>
                      </a:lnTo>
                      <a:lnTo>
                        <a:pt x="354" y="461"/>
                      </a:lnTo>
                      <a:lnTo>
                        <a:pt x="354" y="262"/>
                      </a:lnTo>
                      <a:lnTo>
                        <a:pt x="928" y="262"/>
                      </a:lnTo>
                      <a:lnTo>
                        <a:pt x="928" y="195"/>
                      </a:lnTo>
                      <a:lnTo>
                        <a:pt x="1068" y="195"/>
                      </a:lnTo>
                      <a:lnTo>
                        <a:pt x="1068" y="132"/>
                      </a:lnTo>
                      <a:lnTo>
                        <a:pt x="1211" y="132"/>
                      </a:lnTo>
                      <a:lnTo>
                        <a:pt x="1211" y="65"/>
                      </a:lnTo>
                      <a:lnTo>
                        <a:pt x="1282" y="65"/>
                      </a:lnTo>
                      <a:lnTo>
                        <a:pt x="1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714720" y="4840200"/>
                  <a:ext cx="365400" cy="583560"/>
                </a:xfrm>
                <a:custGeom>
                  <a:avLst/>
                  <a:gdLst/>
                  <a:ahLst/>
                  <a:rect l="l" t="t" r="r" b="b"/>
                  <a:pathLst>
                    <a:path w="1703" h="2367">
                      <a:moveTo>
                        <a:pt x="851" y="0"/>
                      </a:moveTo>
                      <a:lnTo>
                        <a:pt x="922" y="0"/>
                      </a:lnTo>
                      <a:lnTo>
                        <a:pt x="922" y="66"/>
                      </a:lnTo>
                      <a:lnTo>
                        <a:pt x="851" y="66"/>
                      </a:lnTo>
                      <a:lnTo>
                        <a:pt x="851" y="133"/>
                      </a:lnTo>
                      <a:lnTo>
                        <a:pt x="780" y="133"/>
                      </a:lnTo>
                      <a:lnTo>
                        <a:pt x="780" y="195"/>
                      </a:lnTo>
                      <a:lnTo>
                        <a:pt x="707" y="195"/>
                      </a:lnTo>
                      <a:lnTo>
                        <a:pt x="707" y="462"/>
                      </a:lnTo>
                      <a:lnTo>
                        <a:pt x="780" y="462"/>
                      </a:lnTo>
                      <a:lnTo>
                        <a:pt x="780" y="657"/>
                      </a:lnTo>
                      <a:lnTo>
                        <a:pt x="851" y="657"/>
                      </a:lnTo>
                      <a:lnTo>
                        <a:pt x="851" y="790"/>
                      </a:lnTo>
                      <a:lnTo>
                        <a:pt x="922" y="790"/>
                      </a:lnTo>
                      <a:lnTo>
                        <a:pt x="922" y="924"/>
                      </a:lnTo>
                      <a:lnTo>
                        <a:pt x="995" y="924"/>
                      </a:lnTo>
                      <a:lnTo>
                        <a:pt x="995" y="1053"/>
                      </a:lnTo>
                      <a:lnTo>
                        <a:pt x="1063" y="1053"/>
                      </a:lnTo>
                      <a:lnTo>
                        <a:pt x="1063" y="1186"/>
                      </a:lnTo>
                      <a:lnTo>
                        <a:pt x="1134" y="1186"/>
                      </a:lnTo>
                      <a:lnTo>
                        <a:pt x="1134" y="1314"/>
                      </a:lnTo>
                      <a:lnTo>
                        <a:pt x="1205" y="1314"/>
                      </a:lnTo>
                      <a:lnTo>
                        <a:pt x="1205" y="1448"/>
                      </a:lnTo>
                      <a:lnTo>
                        <a:pt x="1278" y="1448"/>
                      </a:lnTo>
                      <a:lnTo>
                        <a:pt x="1278" y="1509"/>
                      </a:lnTo>
                      <a:lnTo>
                        <a:pt x="1349" y="1509"/>
                      </a:lnTo>
                      <a:lnTo>
                        <a:pt x="1349" y="1576"/>
                      </a:lnTo>
                      <a:lnTo>
                        <a:pt x="1563" y="1576"/>
                      </a:lnTo>
                      <a:lnTo>
                        <a:pt x="1563" y="1642"/>
                      </a:lnTo>
                      <a:lnTo>
                        <a:pt x="1420" y="1642"/>
                      </a:lnTo>
                      <a:lnTo>
                        <a:pt x="1420" y="1709"/>
                      </a:lnTo>
                      <a:lnTo>
                        <a:pt x="1205" y="1709"/>
                      </a:lnTo>
                      <a:lnTo>
                        <a:pt x="1205" y="1777"/>
                      </a:lnTo>
                      <a:lnTo>
                        <a:pt x="1063" y="1777"/>
                      </a:lnTo>
                      <a:lnTo>
                        <a:pt x="1063" y="1838"/>
                      </a:lnTo>
                      <a:lnTo>
                        <a:pt x="922" y="1838"/>
                      </a:lnTo>
                      <a:lnTo>
                        <a:pt x="922" y="1905"/>
                      </a:lnTo>
                      <a:lnTo>
                        <a:pt x="1134" y="1905"/>
                      </a:lnTo>
                      <a:lnTo>
                        <a:pt x="1134" y="1971"/>
                      </a:lnTo>
                      <a:lnTo>
                        <a:pt x="1278" y="1971"/>
                      </a:lnTo>
                      <a:lnTo>
                        <a:pt x="1278" y="2038"/>
                      </a:lnTo>
                      <a:lnTo>
                        <a:pt x="1349" y="2038"/>
                      </a:lnTo>
                      <a:lnTo>
                        <a:pt x="1349" y="2104"/>
                      </a:lnTo>
                      <a:lnTo>
                        <a:pt x="1420" y="2104"/>
                      </a:lnTo>
                      <a:lnTo>
                        <a:pt x="1420" y="2172"/>
                      </a:lnTo>
                      <a:lnTo>
                        <a:pt x="1563" y="2172"/>
                      </a:lnTo>
                      <a:lnTo>
                        <a:pt x="1563" y="2237"/>
                      </a:lnTo>
                      <a:lnTo>
                        <a:pt x="1631" y="2237"/>
                      </a:lnTo>
                      <a:lnTo>
                        <a:pt x="1631" y="2300"/>
                      </a:lnTo>
                      <a:lnTo>
                        <a:pt x="1703" y="2300"/>
                      </a:lnTo>
                      <a:lnTo>
                        <a:pt x="1703" y="2367"/>
                      </a:lnTo>
                      <a:lnTo>
                        <a:pt x="1631" y="2367"/>
                      </a:lnTo>
                      <a:lnTo>
                        <a:pt x="1631" y="2300"/>
                      </a:lnTo>
                      <a:lnTo>
                        <a:pt x="1563" y="2300"/>
                      </a:lnTo>
                      <a:lnTo>
                        <a:pt x="1563" y="2237"/>
                      </a:lnTo>
                      <a:lnTo>
                        <a:pt x="1420" y="2237"/>
                      </a:lnTo>
                      <a:lnTo>
                        <a:pt x="1420" y="2172"/>
                      </a:lnTo>
                      <a:lnTo>
                        <a:pt x="1349" y="2172"/>
                      </a:lnTo>
                      <a:lnTo>
                        <a:pt x="1349" y="2104"/>
                      </a:lnTo>
                      <a:lnTo>
                        <a:pt x="1278" y="2104"/>
                      </a:lnTo>
                      <a:lnTo>
                        <a:pt x="1278" y="2038"/>
                      </a:lnTo>
                      <a:lnTo>
                        <a:pt x="1134" y="2038"/>
                      </a:lnTo>
                      <a:lnTo>
                        <a:pt x="1134" y="1971"/>
                      </a:lnTo>
                      <a:lnTo>
                        <a:pt x="922" y="1971"/>
                      </a:lnTo>
                      <a:lnTo>
                        <a:pt x="922" y="1905"/>
                      </a:lnTo>
                      <a:lnTo>
                        <a:pt x="851" y="1905"/>
                      </a:lnTo>
                      <a:lnTo>
                        <a:pt x="851" y="1838"/>
                      </a:lnTo>
                      <a:lnTo>
                        <a:pt x="640" y="1838"/>
                      </a:lnTo>
                      <a:lnTo>
                        <a:pt x="640" y="1905"/>
                      </a:lnTo>
                      <a:lnTo>
                        <a:pt x="497" y="1905"/>
                      </a:lnTo>
                      <a:lnTo>
                        <a:pt x="497" y="1971"/>
                      </a:lnTo>
                      <a:lnTo>
                        <a:pt x="425" y="1971"/>
                      </a:lnTo>
                      <a:lnTo>
                        <a:pt x="425" y="2038"/>
                      </a:lnTo>
                      <a:lnTo>
                        <a:pt x="354" y="2038"/>
                      </a:lnTo>
                      <a:lnTo>
                        <a:pt x="354" y="2104"/>
                      </a:lnTo>
                      <a:lnTo>
                        <a:pt x="210" y="2104"/>
                      </a:lnTo>
                      <a:lnTo>
                        <a:pt x="210" y="2172"/>
                      </a:lnTo>
                      <a:lnTo>
                        <a:pt x="0" y="2172"/>
                      </a:lnTo>
                      <a:lnTo>
                        <a:pt x="0" y="2104"/>
                      </a:lnTo>
                      <a:lnTo>
                        <a:pt x="210" y="2104"/>
                      </a:lnTo>
                      <a:lnTo>
                        <a:pt x="210" y="2038"/>
                      </a:lnTo>
                      <a:lnTo>
                        <a:pt x="354" y="2038"/>
                      </a:lnTo>
                      <a:lnTo>
                        <a:pt x="354" y="1971"/>
                      </a:lnTo>
                      <a:lnTo>
                        <a:pt x="425" y="1971"/>
                      </a:lnTo>
                      <a:lnTo>
                        <a:pt x="425" y="1905"/>
                      </a:lnTo>
                      <a:lnTo>
                        <a:pt x="497" y="1905"/>
                      </a:lnTo>
                      <a:lnTo>
                        <a:pt x="497" y="1838"/>
                      </a:lnTo>
                      <a:lnTo>
                        <a:pt x="640" y="1838"/>
                      </a:lnTo>
                      <a:lnTo>
                        <a:pt x="640" y="1777"/>
                      </a:lnTo>
                      <a:lnTo>
                        <a:pt x="1063" y="1777"/>
                      </a:lnTo>
                      <a:lnTo>
                        <a:pt x="1063" y="1709"/>
                      </a:lnTo>
                      <a:lnTo>
                        <a:pt x="1205" y="1709"/>
                      </a:lnTo>
                      <a:lnTo>
                        <a:pt x="1205" y="1642"/>
                      </a:lnTo>
                      <a:lnTo>
                        <a:pt x="1349" y="1642"/>
                      </a:lnTo>
                      <a:lnTo>
                        <a:pt x="1349" y="1576"/>
                      </a:lnTo>
                      <a:lnTo>
                        <a:pt x="1278" y="1576"/>
                      </a:lnTo>
                      <a:lnTo>
                        <a:pt x="1278" y="1509"/>
                      </a:lnTo>
                      <a:lnTo>
                        <a:pt x="1205" y="1509"/>
                      </a:lnTo>
                      <a:lnTo>
                        <a:pt x="1205" y="1448"/>
                      </a:lnTo>
                      <a:lnTo>
                        <a:pt x="1134" y="1448"/>
                      </a:lnTo>
                      <a:lnTo>
                        <a:pt x="1134" y="1314"/>
                      </a:lnTo>
                      <a:lnTo>
                        <a:pt x="1063" y="1314"/>
                      </a:lnTo>
                      <a:lnTo>
                        <a:pt x="1063" y="1186"/>
                      </a:lnTo>
                      <a:lnTo>
                        <a:pt x="995" y="1186"/>
                      </a:lnTo>
                      <a:lnTo>
                        <a:pt x="995" y="1053"/>
                      </a:lnTo>
                      <a:lnTo>
                        <a:pt x="922" y="1053"/>
                      </a:lnTo>
                      <a:lnTo>
                        <a:pt x="922" y="924"/>
                      </a:lnTo>
                      <a:lnTo>
                        <a:pt x="851" y="924"/>
                      </a:lnTo>
                      <a:lnTo>
                        <a:pt x="851" y="790"/>
                      </a:lnTo>
                      <a:lnTo>
                        <a:pt x="780" y="790"/>
                      </a:lnTo>
                      <a:lnTo>
                        <a:pt x="780" y="657"/>
                      </a:lnTo>
                      <a:lnTo>
                        <a:pt x="707" y="657"/>
                      </a:lnTo>
                      <a:lnTo>
                        <a:pt x="707" y="462"/>
                      </a:lnTo>
                      <a:lnTo>
                        <a:pt x="640" y="462"/>
                      </a:lnTo>
                      <a:lnTo>
                        <a:pt x="640" y="195"/>
                      </a:lnTo>
                      <a:lnTo>
                        <a:pt x="707" y="195"/>
                      </a:lnTo>
                      <a:lnTo>
                        <a:pt x="707" y="133"/>
                      </a:lnTo>
                      <a:lnTo>
                        <a:pt x="780" y="133"/>
                      </a:lnTo>
                      <a:lnTo>
                        <a:pt x="780" y="66"/>
                      </a:lnTo>
                      <a:lnTo>
                        <a:pt x="851" y="66"/>
                      </a:lnTo>
                      <a:lnTo>
                        <a:pt x="8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001560" y="4888440"/>
                  <a:ext cx="1908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18" name=""/>
                <p:cNvSpPr/>
                <p:nvPr/>
              </p:nvSpPr>
              <p:spPr>
                <a:xfrm>
                  <a:off x="6244200" y="4921560"/>
                  <a:ext cx="34560" cy="67680"/>
                </a:xfrm>
                <a:custGeom>
                  <a:avLst/>
                  <a:gdLst/>
                  <a:ahLst/>
                  <a:rect l="l" t="t" r="r" b="b"/>
                  <a:pathLst>
                    <a:path w="156" h="277">
                      <a:moveTo>
                        <a:pt x="0" y="0"/>
                      </a:moveTo>
                      <a:lnTo>
                        <a:pt x="76" y="0"/>
                      </a:lnTo>
                      <a:lnTo>
                        <a:pt x="76" y="141"/>
                      </a:lnTo>
                      <a:lnTo>
                        <a:pt x="156" y="141"/>
                      </a:lnTo>
                      <a:lnTo>
                        <a:pt x="156" y="277"/>
                      </a:lnTo>
                      <a:lnTo>
                        <a:pt x="76" y="277"/>
                      </a:lnTo>
                      <a:lnTo>
                        <a:pt x="76" y="141"/>
                      </a:lnTo>
                      <a:lnTo>
                        <a:pt x="0" y="141"/>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19" name=""/>
                <p:cNvSpPr/>
                <p:nvPr/>
              </p:nvSpPr>
              <p:spPr>
                <a:xfrm>
                  <a:off x="6532560" y="5001840"/>
                  <a:ext cx="306360" cy="357120"/>
                </a:xfrm>
                <a:custGeom>
                  <a:avLst/>
                  <a:gdLst/>
                  <a:ahLst/>
                  <a:rect l="l" t="t" r="r" b="b"/>
                  <a:pathLst>
                    <a:path w="1425" h="1450">
                      <a:moveTo>
                        <a:pt x="71" y="0"/>
                      </a:moveTo>
                      <a:lnTo>
                        <a:pt x="497" y="0"/>
                      </a:lnTo>
                      <a:lnTo>
                        <a:pt x="497" y="66"/>
                      </a:lnTo>
                      <a:lnTo>
                        <a:pt x="211" y="66"/>
                      </a:lnTo>
                      <a:lnTo>
                        <a:pt x="211" y="132"/>
                      </a:lnTo>
                      <a:lnTo>
                        <a:pt x="426" y="132"/>
                      </a:lnTo>
                      <a:lnTo>
                        <a:pt x="426" y="198"/>
                      </a:lnTo>
                      <a:lnTo>
                        <a:pt x="713" y="198"/>
                      </a:lnTo>
                      <a:lnTo>
                        <a:pt x="713" y="265"/>
                      </a:lnTo>
                      <a:lnTo>
                        <a:pt x="856" y="265"/>
                      </a:lnTo>
                      <a:lnTo>
                        <a:pt x="856" y="328"/>
                      </a:lnTo>
                      <a:lnTo>
                        <a:pt x="999" y="328"/>
                      </a:lnTo>
                      <a:lnTo>
                        <a:pt x="999" y="395"/>
                      </a:lnTo>
                      <a:lnTo>
                        <a:pt x="1139" y="395"/>
                      </a:lnTo>
                      <a:lnTo>
                        <a:pt x="1139" y="460"/>
                      </a:lnTo>
                      <a:lnTo>
                        <a:pt x="1281" y="460"/>
                      </a:lnTo>
                      <a:lnTo>
                        <a:pt x="1281" y="527"/>
                      </a:lnTo>
                      <a:lnTo>
                        <a:pt x="1354" y="527"/>
                      </a:lnTo>
                      <a:lnTo>
                        <a:pt x="1354" y="593"/>
                      </a:lnTo>
                      <a:lnTo>
                        <a:pt x="1425" y="593"/>
                      </a:lnTo>
                      <a:lnTo>
                        <a:pt x="1425" y="726"/>
                      </a:lnTo>
                      <a:lnTo>
                        <a:pt x="1354" y="726"/>
                      </a:lnTo>
                      <a:lnTo>
                        <a:pt x="1354" y="794"/>
                      </a:lnTo>
                      <a:lnTo>
                        <a:pt x="1281" y="794"/>
                      </a:lnTo>
                      <a:lnTo>
                        <a:pt x="1281" y="855"/>
                      </a:lnTo>
                      <a:lnTo>
                        <a:pt x="1210" y="855"/>
                      </a:lnTo>
                      <a:lnTo>
                        <a:pt x="1210" y="922"/>
                      </a:lnTo>
                      <a:lnTo>
                        <a:pt x="1139" y="922"/>
                      </a:lnTo>
                      <a:lnTo>
                        <a:pt x="1139" y="1055"/>
                      </a:lnTo>
                      <a:lnTo>
                        <a:pt x="1066" y="1055"/>
                      </a:lnTo>
                      <a:lnTo>
                        <a:pt x="1066" y="1123"/>
                      </a:lnTo>
                      <a:lnTo>
                        <a:pt x="999" y="1123"/>
                      </a:lnTo>
                      <a:lnTo>
                        <a:pt x="999" y="1184"/>
                      </a:lnTo>
                      <a:lnTo>
                        <a:pt x="928" y="1184"/>
                      </a:lnTo>
                      <a:lnTo>
                        <a:pt x="928" y="1251"/>
                      </a:lnTo>
                      <a:lnTo>
                        <a:pt x="856" y="1251"/>
                      </a:lnTo>
                      <a:lnTo>
                        <a:pt x="856" y="1317"/>
                      </a:lnTo>
                      <a:lnTo>
                        <a:pt x="784" y="1317"/>
                      </a:lnTo>
                      <a:lnTo>
                        <a:pt x="784" y="1384"/>
                      </a:lnTo>
                      <a:lnTo>
                        <a:pt x="713" y="1384"/>
                      </a:lnTo>
                      <a:lnTo>
                        <a:pt x="713" y="1450"/>
                      </a:lnTo>
                      <a:lnTo>
                        <a:pt x="641" y="1450"/>
                      </a:lnTo>
                      <a:lnTo>
                        <a:pt x="641" y="1384"/>
                      </a:lnTo>
                      <a:lnTo>
                        <a:pt x="713" y="1384"/>
                      </a:lnTo>
                      <a:lnTo>
                        <a:pt x="713" y="1317"/>
                      </a:lnTo>
                      <a:lnTo>
                        <a:pt x="784" y="1317"/>
                      </a:lnTo>
                      <a:lnTo>
                        <a:pt x="784" y="1251"/>
                      </a:lnTo>
                      <a:lnTo>
                        <a:pt x="856" y="1251"/>
                      </a:lnTo>
                      <a:lnTo>
                        <a:pt x="856" y="1184"/>
                      </a:lnTo>
                      <a:lnTo>
                        <a:pt x="928" y="1184"/>
                      </a:lnTo>
                      <a:lnTo>
                        <a:pt x="928" y="1123"/>
                      </a:lnTo>
                      <a:lnTo>
                        <a:pt x="999" y="1123"/>
                      </a:lnTo>
                      <a:lnTo>
                        <a:pt x="999" y="1055"/>
                      </a:lnTo>
                      <a:lnTo>
                        <a:pt x="1066" y="1055"/>
                      </a:lnTo>
                      <a:lnTo>
                        <a:pt x="1066" y="922"/>
                      </a:lnTo>
                      <a:lnTo>
                        <a:pt x="1139" y="922"/>
                      </a:lnTo>
                      <a:lnTo>
                        <a:pt x="1139" y="855"/>
                      </a:lnTo>
                      <a:lnTo>
                        <a:pt x="1210" y="855"/>
                      </a:lnTo>
                      <a:lnTo>
                        <a:pt x="1210" y="794"/>
                      </a:lnTo>
                      <a:lnTo>
                        <a:pt x="1281" y="794"/>
                      </a:lnTo>
                      <a:lnTo>
                        <a:pt x="1281" y="726"/>
                      </a:lnTo>
                      <a:lnTo>
                        <a:pt x="1354" y="726"/>
                      </a:lnTo>
                      <a:lnTo>
                        <a:pt x="1354" y="593"/>
                      </a:lnTo>
                      <a:lnTo>
                        <a:pt x="1281" y="593"/>
                      </a:lnTo>
                      <a:lnTo>
                        <a:pt x="1281" y="527"/>
                      </a:lnTo>
                      <a:lnTo>
                        <a:pt x="1139" y="527"/>
                      </a:lnTo>
                      <a:lnTo>
                        <a:pt x="1139" y="460"/>
                      </a:lnTo>
                      <a:lnTo>
                        <a:pt x="999" y="460"/>
                      </a:lnTo>
                      <a:lnTo>
                        <a:pt x="999" y="395"/>
                      </a:lnTo>
                      <a:lnTo>
                        <a:pt x="856" y="395"/>
                      </a:lnTo>
                      <a:lnTo>
                        <a:pt x="856" y="328"/>
                      </a:lnTo>
                      <a:lnTo>
                        <a:pt x="713" y="328"/>
                      </a:lnTo>
                      <a:lnTo>
                        <a:pt x="713" y="265"/>
                      </a:lnTo>
                      <a:lnTo>
                        <a:pt x="426" y="265"/>
                      </a:lnTo>
                      <a:lnTo>
                        <a:pt x="426" y="198"/>
                      </a:lnTo>
                      <a:lnTo>
                        <a:pt x="211" y="198"/>
                      </a:lnTo>
                      <a:lnTo>
                        <a:pt x="211" y="132"/>
                      </a:lnTo>
                      <a:lnTo>
                        <a:pt x="0" y="132"/>
                      </a:lnTo>
                      <a:lnTo>
                        <a:pt x="0" y="66"/>
                      </a:lnTo>
                      <a:lnTo>
                        <a:pt x="71" y="66"/>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77880" y="5388120"/>
                  <a:ext cx="49320" cy="66600"/>
                </a:xfrm>
                <a:custGeom>
                  <a:avLst/>
                  <a:gdLst/>
                  <a:ahLst/>
                  <a:rect l="l" t="t" r="r" b="b"/>
                  <a:pathLst>
                    <a:path w="229" h="273">
                      <a:moveTo>
                        <a:pt x="76" y="0"/>
                      </a:moveTo>
                      <a:lnTo>
                        <a:pt x="152" y="0"/>
                      </a:lnTo>
                      <a:lnTo>
                        <a:pt x="152" y="66"/>
                      </a:lnTo>
                      <a:lnTo>
                        <a:pt x="229" y="66"/>
                      </a:lnTo>
                      <a:lnTo>
                        <a:pt x="229" y="204"/>
                      </a:lnTo>
                      <a:lnTo>
                        <a:pt x="152" y="204"/>
                      </a:lnTo>
                      <a:lnTo>
                        <a:pt x="152" y="273"/>
                      </a:lnTo>
                      <a:lnTo>
                        <a:pt x="76" y="273"/>
                      </a:lnTo>
                      <a:lnTo>
                        <a:pt x="76" y="204"/>
                      </a:lnTo>
                      <a:lnTo>
                        <a:pt x="0" y="204"/>
                      </a:lnTo>
                      <a:lnTo>
                        <a:pt x="0" y="66"/>
                      </a:lnTo>
                      <a:lnTo>
                        <a:pt x="76" y="66"/>
                      </a:lnTo>
                      <a:lnTo>
                        <a:pt x="7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21" name=""/>
                <p:cNvSpPr/>
                <p:nvPr/>
              </p:nvSpPr>
              <p:spPr>
                <a:xfrm>
                  <a:off x="6093000" y="5402880"/>
                  <a:ext cx="18000" cy="37080"/>
                </a:xfrm>
                <a:prstGeom prst="rect">
                  <a:avLst/>
                </a:prstGeom>
                <a:solidFill>
                  <a:srgbClr val="ff0084"/>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2" name=""/>
                <p:cNvSpPr/>
                <p:nvPr/>
              </p:nvSpPr>
              <p:spPr>
                <a:xfrm>
                  <a:off x="6184440" y="5467320"/>
                  <a:ext cx="639720" cy="438120"/>
                </a:xfrm>
                <a:custGeom>
                  <a:avLst/>
                  <a:gdLst/>
                  <a:ahLst/>
                  <a:rect l="l" t="t" r="r" b="b"/>
                  <a:pathLst>
                    <a:path w="2973" h="1777">
                      <a:moveTo>
                        <a:pt x="851" y="0"/>
                      </a:moveTo>
                      <a:lnTo>
                        <a:pt x="1416" y="0"/>
                      </a:lnTo>
                      <a:lnTo>
                        <a:pt x="1416" y="64"/>
                      </a:lnTo>
                      <a:lnTo>
                        <a:pt x="1555" y="64"/>
                      </a:lnTo>
                      <a:lnTo>
                        <a:pt x="1555" y="197"/>
                      </a:lnTo>
                      <a:lnTo>
                        <a:pt x="1628" y="197"/>
                      </a:lnTo>
                      <a:lnTo>
                        <a:pt x="1628" y="64"/>
                      </a:lnTo>
                      <a:lnTo>
                        <a:pt x="2053" y="64"/>
                      </a:lnTo>
                      <a:lnTo>
                        <a:pt x="2053" y="130"/>
                      </a:lnTo>
                      <a:lnTo>
                        <a:pt x="2125" y="130"/>
                      </a:lnTo>
                      <a:lnTo>
                        <a:pt x="2125" y="264"/>
                      </a:lnTo>
                      <a:lnTo>
                        <a:pt x="2196" y="264"/>
                      </a:lnTo>
                      <a:lnTo>
                        <a:pt x="2196" y="396"/>
                      </a:lnTo>
                      <a:lnTo>
                        <a:pt x="2268" y="396"/>
                      </a:lnTo>
                      <a:lnTo>
                        <a:pt x="2268" y="530"/>
                      </a:lnTo>
                      <a:lnTo>
                        <a:pt x="2335" y="530"/>
                      </a:lnTo>
                      <a:lnTo>
                        <a:pt x="2335" y="658"/>
                      </a:lnTo>
                      <a:lnTo>
                        <a:pt x="2407" y="658"/>
                      </a:lnTo>
                      <a:lnTo>
                        <a:pt x="2407" y="724"/>
                      </a:lnTo>
                      <a:lnTo>
                        <a:pt x="2479" y="724"/>
                      </a:lnTo>
                      <a:lnTo>
                        <a:pt x="2479" y="857"/>
                      </a:lnTo>
                      <a:lnTo>
                        <a:pt x="2547" y="857"/>
                      </a:lnTo>
                      <a:lnTo>
                        <a:pt x="2547" y="986"/>
                      </a:lnTo>
                      <a:lnTo>
                        <a:pt x="2618" y="986"/>
                      </a:lnTo>
                      <a:lnTo>
                        <a:pt x="2618" y="1120"/>
                      </a:lnTo>
                      <a:lnTo>
                        <a:pt x="2685" y="1120"/>
                      </a:lnTo>
                      <a:lnTo>
                        <a:pt x="2685" y="1186"/>
                      </a:lnTo>
                      <a:lnTo>
                        <a:pt x="2758" y="1186"/>
                      </a:lnTo>
                      <a:lnTo>
                        <a:pt x="2758" y="1254"/>
                      </a:lnTo>
                      <a:lnTo>
                        <a:pt x="2829" y="1254"/>
                      </a:lnTo>
                      <a:lnTo>
                        <a:pt x="2829" y="1448"/>
                      </a:lnTo>
                      <a:lnTo>
                        <a:pt x="2900" y="1448"/>
                      </a:lnTo>
                      <a:lnTo>
                        <a:pt x="2900" y="1581"/>
                      </a:lnTo>
                      <a:lnTo>
                        <a:pt x="2973" y="1581"/>
                      </a:lnTo>
                      <a:lnTo>
                        <a:pt x="2973" y="1777"/>
                      </a:lnTo>
                      <a:lnTo>
                        <a:pt x="2900" y="1777"/>
                      </a:lnTo>
                      <a:lnTo>
                        <a:pt x="2900" y="1649"/>
                      </a:lnTo>
                      <a:lnTo>
                        <a:pt x="2829" y="1649"/>
                      </a:lnTo>
                      <a:lnTo>
                        <a:pt x="2829" y="1581"/>
                      </a:lnTo>
                      <a:lnTo>
                        <a:pt x="2758" y="1581"/>
                      </a:lnTo>
                      <a:lnTo>
                        <a:pt x="2758" y="1515"/>
                      </a:lnTo>
                      <a:lnTo>
                        <a:pt x="2685" y="1515"/>
                      </a:lnTo>
                      <a:lnTo>
                        <a:pt x="2685" y="1382"/>
                      </a:lnTo>
                      <a:lnTo>
                        <a:pt x="2618" y="1382"/>
                      </a:lnTo>
                      <a:lnTo>
                        <a:pt x="2618" y="1320"/>
                      </a:lnTo>
                      <a:lnTo>
                        <a:pt x="2547" y="1320"/>
                      </a:lnTo>
                      <a:lnTo>
                        <a:pt x="2547" y="1254"/>
                      </a:lnTo>
                      <a:lnTo>
                        <a:pt x="2479" y="1254"/>
                      </a:lnTo>
                      <a:lnTo>
                        <a:pt x="2479" y="1186"/>
                      </a:lnTo>
                      <a:lnTo>
                        <a:pt x="2407" y="1186"/>
                      </a:lnTo>
                      <a:lnTo>
                        <a:pt x="2407" y="1120"/>
                      </a:lnTo>
                      <a:lnTo>
                        <a:pt x="2196" y="1120"/>
                      </a:lnTo>
                      <a:lnTo>
                        <a:pt x="2196" y="1053"/>
                      </a:lnTo>
                      <a:lnTo>
                        <a:pt x="1910" y="1053"/>
                      </a:lnTo>
                      <a:lnTo>
                        <a:pt x="1910" y="986"/>
                      </a:lnTo>
                      <a:lnTo>
                        <a:pt x="1766" y="986"/>
                      </a:lnTo>
                      <a:lnTo>
                        <a:pt x="1766" y="921"/>
                      </a:lnTo>
                      <a:lnTo>
                        <a:pt x="1487" y="921"/>
                      </a:lnTo>
                      <a:lnTo>
                        <a:pt x="1487" y="857"/>
                      </a:lnTo>
                      <a:lnTo>
                        <a:pt x="1278" y="857"/>
                      </a:lnTo>
                      <a:lnTo>
                        <a:pt x="1278" y="791"/>
                      </a:lnTo>
                      <a:lnTo>
                        <a:pt x="1134" y="791"/>
                      </a:lnTo>
                      <a:lnTo>
                        <a:pt x="1134" y="724"/>
                      </a:lnTo>
                      <a:lnTo>
                        <a:pt x="919" y="724"/>
                      </a:lnTo>
                      <a:lnTo>
                        <a:pt x="919" y="791"/>
                      </a:lnTo>
                      <a:lnTo>
                        <a:pt x="779" y="791"/>
                      </a:lnTo>
                      <a:lnTo>
                        <a:pt x="779" y="857"/>
                      </a:lnTo>
                      <a:lnTo>
                        <a:pt x="708" y="857"/>
                      </a:lnTo>
                      <a:lnTo>
                        <a:pt x="708" y="921"/>
                      </a:lnTo>
                      <a:lnTo>
                        <a:pt x="564" y="921"/>
                      </a:lnTo>
                      <a:lnTo>
                        <a:pt x="564" y="986"/>
                      </a:lnTo>
                      <a:lnTo>
                        <a:pt x="497" y="986"/>
                      </a:lnTo>
                      <a:lnTo>
                        <a:pt x="497" y="1053"/>
                      </a:lnTo>
                      <a:lnTo>
                        <a:pt x="71" y="1053"/>
                      </a:lnTo>
                      <a:lnTo>
                        <a:pt x="71" y="986"/>
                      </a:lnTo>
                      <a:lnTo>
                        <a:pt x="0" y="986"/>
                      </a:lnTo>
                      <a:lnTo>
                        <a:pt x="0" y="724"/>
                      </a:lnTo>
                      <a:lnTo>
                        <a:pt x="71" y="724"/>
                      </a:lnTo>
                      <a:lnTo>
                        <a:pt x="71" y="658"/>
                      </a:lnTo>
                      <a:lnTo>
                        <a:pt x="144" y="658"/>
                      </a:lnTo>
                      <a:lnTo>
                        <a:pt x="144" y="592"/>
                      </a:lnTo>
                      <a:lnTo>
                        <a:pt x="214" y="592"/>
                      </a:lnTo>
                      <a:lnTo>
                        <a:pt x="214" y="530"/>
                      </a:lnTo>
                      <a:lnTo>
                        <a:pt x="285" y="530"/>
                      </a:lnTo>
                      <a:lnTo>
                        <a:pt x="285" y="462"/>
                      </a:lnTo>
                      <a:lnTo>
                        <a:pt x="353" y="462"/>
                      </a:lnTo>
                      <a:lnTo>
                        <a:pt x="353" y="329"/>
                      </a:lnTo>
                      <a:lnTo>
                        <a:pt x="426" y="329"/>
                      </a:lnTo>
                      <a:lnTo>
                        <a:pt x="426" y="264"/>
                      </a:lnTo>
                      <a:lnTo>
                        <a:pt x="497" y="264"/>
                      </a:lnTo>
                      <a:lnTo>
                        <a:pt x="497" y="197"/>
                      </a:lnTo>
                      <a:lnTo>
                        <a:pt x="564" y="197"/>
                      </a:lnTo>
                      <a:lnTo>
                        <a:pt x="564" y="130"/>
                      </a:lnTo>
                      <a:lnTo>
                        <a:pt x="708" y="130"/>
                      </a:lnTo>
                      <a:lnTo>
                        <a:pt x="708" y="64"/>
                      </a:lnTo>
                      <a:lnTo>
                        <a:pt x="851" y="64"/>
                      </a:lnTo>
                      <a:lnTo>
                        <a:pt x="851"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516720" y="5467320"/>
                  <a:ext cx="19440" cy="19440"/>
                </a:xfrm>
                <a:prstGeom prst="rect">
                  <a:avLst/>
                </a:prstGeom>
                <a:solidFill>
                  <a:srgbClr val="ffa58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24" name=""/>
                <p:cNvSpPr/>
                <p:nvPr/>
              </p:nvSpPr>
              <p:spPr>
                <a:xfrm>
                  <a:off x="6077880" y="5516280"/>
                  <a:ext cx="49320" cy="67680"/>
                </a:xfrm>
                <a:custGeom>
                  <a:avLst/>
                  <a:gdLst/>
                  <a:ahLst/>
                  <a:rect l="l" t="t" r="r" b="b"/>
                  <a:pathLst>
                    <a:path w="229" h="277">
                      <a:moveTo>
                        <a:pt x="76" y="0"/>
                      </a:moveTo>
                      <a:lnTo>
                        <a:pt x="152" y="0"/>
                      </a:lnTo>
                      <a:lnTo>
                        <a:pt x="152" y="70"/>
                      </a:lnTo>
                      <a:lnTo>
                        <a:pt x="229" y="70"/>
                      </a:lnTo>
                      <a:lnTo>
                        <a:pt x="229" y="207"/>
                      </a:lnTo>
                      <a:lnTo>
                        <a:pt x="152" y="207"/>
                      </a:lnTo>
                      <a:lnTo>
                        <a:pt x="152" y="277"/>
                      </a:lnTo>
                      <a:lnTo>
                        <a:pt x="76" y="277"/>
                      </a:lnTo>
                      <a:lnTo>
                        <a:pt x="76" y="207"/>
                      </a:lnTo>
                      <a:lnTo>
                        <a:pt x="0" y="207"/>
                      </a:lnTo>
                      <a:lnTo>
                        <a:pt x="0" y="70"/>
                      </a:lnTo>
                      <a:lnTo>
                        <a:pt x="76" y="70"/>
                      </a:lnTo>
                      <a:lnTo>
                        <a:pt x="7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25" name=""/>
                <p:cNvSpPr/>
                <p:nvPr/>
              </p:nvSpPr>
              <p:spPr>
                <a:xfrm>
                  <a:off x="6532560" y="5516280"/>
                  <a:ext cx="78480" cy="99360"/>
                </a:xfrm>
                <a:custGeom>
                  <a:avLst/>
                  <a:gdLst/>
                  <a:ahLst/>
                  <a:rect l="l" t="t" r="r" b="b"/>
                  <a:pathLst>
                    <a:path w="366" h="406">
                      <a:moveTo>
                        <a:pt x="0" y="0"/>
                      </a:moveTo>
                      <a:lnTo>
                        <a:pt x="76" y="0"/>
                      </a:lnTo>
                      <a:lnTo>
                        <a:pt x="76" y="67"/>
                      </a:lnTo>
                      <a:lnTo>
                        <a:pt x="144" y="67"/>
                      </a:lnTo>
                      <a:lnTo>
                        <a:pt x="144" y="137"/>
                      </a:lnTo>
                      <a:lnTo>
                        <a:pt x="219" y="137"/>
                      </a:lnTo>
                      <a:lnTo>
                        <a:pt x="219" y="204"/>
                      </a:lnTo>
                      <a:lnTo>
                        <a:pt x="291" y="204"/>
                      </a:lnTo>
                      <a:lnTo>
                        <a:pt x="291" y="274"/>
                      </a:lnTo>
                      <a:lnTo>
                        <a:pt x="366" y="274"/>
                      </a:lnTo>
                      <a:lnTo>
                        <a:pt x="366" y="406"/>
                      </a:lnTo>
                      <a:lnTo>
                        <a:pt x="291" y="406"/>
                      </a:lnTo>
                      <a:lnTo>
                        <a:pt x="291" y="274"/>
                      </a:lnTo>
                      <a:lnTo>
                        <a:pt x="219" y="274"/>
                      </a:lnTo>
                      <a:lnTo>
                        <a:pt x="219" y="204"/>
                      </a:lnTo>
                      <a:lnTo>
                        <a:pt x="144" y="204"/>
                      </a:lnTo>
                      <a:lnTo>
                        <a:pt x="144" y="137"/>
                      </a:lnTo>
                      <a:lnTo>
                        <a:pt x="76" y="137"/>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093000" y="5532480"/>
                  <a:ext cx="18000" cy="35640"/>
                </a:xfrm>
                <a:prstGeom prst="rect">
                  <a:avLst/>
                </a:prstGeom>
                <a:solidFill>
                  <a:srgbClr val="ff0084"/>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7" name=""/>
                <p:cNvSpPr/>
                <p:nvPr/>
              </p:nvSpPr>
              <p:spPr>
                <a:xfrm>
                  <a:off x="6198120" y="5628240"/>
                  <a:ext cx="80640" cy="83520"/>
                </a:xfrm>
                <a:custGeom>
                  <a:avLst/>
                  <a:gdLst/>
                  <a:ahLst/>
                  <a:rect l="l" t="t" r="r" b="b"/>
                  <a:pathLst>
                    <a:path w="371" h="340">
                      <a:moveTo>
                        <a:pt x="77" y="0"/>
                      </a:moveTo>
                      <a:lnTo>
                        <a:pt x="295" y="0"/>
                      </a:lnTo>
                      <a:lnTo>
                        <a:pt x="295" y="69"/>
                      </a:lnTo>
                      <a:lnTo>
                        <a:pt x="371" y="69"/>
                      </a:lnTo>
                      <a:lnTo>
                        <a:pt x="371" y="270"/>
                      </a:lnTo>
                      <a:lnTo>
                        <a:pt x="295" y="270"/>
                      </a:lnTo>
                      <a:lnTo>
                        <a:pt x="295" y="340"/>
                      </a:lnTo>
                      <a:lnTo>
                        <a:pt x="0" y="340"/>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6214320" y="5644440"/>
                  <a:ext cx="48240" cy="51480"/>
                </a:xfrm>
                <a:prstGeom prst="rect">
                  <a:avLst/>
                </a:prstGeom>
                <a:solidFill>
                  <a:srgbClr val="ffa584"/>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9" name=""/>
                <p:cNvSpPr/>
                <p:nvPr/>
              </p:nvSpPr>
              <p:spPr>
                <a:xfrm>
                  <a:off x="6093000" y="5661720"/>
                  <a:ext cx="49320" cy="66240"/>
                </a:xfrm>
                <a:custGeom>
                  <a:avLst/>
                  <a:gdLst/>
                  <a:ahLst/>
                  <a:rect l="l" t="t" r="r" b="b"/>
                  <a:pathLst>
                    <a:path w="233" h="273">
                      <a:moveTo>
                        <a:pt x="77" y="0"/>
                      </a:moveTo>
                      <a:lnTo>
                        <a:pt x="156" y="0"/>
                      </a:lnTo>
                      <a:lnTo>
                        <a:pt x="156" y="69"/>
                      </a:lnTo>
                      <a:lnTo>
                        <a:pt x="233" y="69"/>
                      </a:lnTo>
                      <a:lnTo>
                        <a:pt x="233" y="203"/>
                      </a:lnTo>
                      <a:lnTo>
                        <a:pt x="156" y="203"/>
                      </a:lnTo>
                      <a:lnTo>
                        <a:pt x="156" y="273"/>
                      </a:lnTo>
                      <a:lnTo>
                        <a:pt x="77" y="273"/>
                      </a:lnTo>
                      <a:lnTo>
                        <a:pt x="77" y="203"/>
                      </a:lnTo>
                      <a:lnTo>
                        <a:pt x="0" y="203"/>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0" name=""/>
                <p:cNvSpPr/>
                <p:nvPr/>
              </p:nvSpPr>
              <p:spPr>
                <a:xfrm>
                  <a:off x="6107760" y="5676480"/>
                  <a:ext cx="19440" cy="35640"/>
                </a:xfrm>
                <a:prstGeom prst="rect">
                  <a:avLst/>
                </a:prstGeom>
                <a:solidFill>
                  <a:srgbClr val="ff0084"/>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6001560" y="5724360"/>
                  <a:ext cx="64080" cy="68760"/>
                </a:xfrm>
                <a:custGeom>
                  <a:avLst/>
                  <a:gdLst/>
                  <a:ahLst/>
                  <a:rect l="l" t="t" r="r" b="b"/>
                  <a:pathLst>
                    <a:path w="301" h="277">
                      <a:moveTo>
                        <a:pt x="0" y="0"/>
                      </a:moveTo>
                      <a:lnTo>
                        <a:pt x="77" y="0"/>
                      </a:lnTo>
                      <a:lnTo>
                        <a:pt x="77" y="70"/>
                      </a:lnTo>
                      <a:lnTo>
                        <a:pt x="152" y="70"/>
                      </a:lnTo>
                      <a:lnTo>
                        <a:pt x="152" y="140"/>
                      </a:lnTo>
                      <a:lnTo>
                        <a:pt x="224" y="140"/>
                      </a:lnTo>
                      <a:lnTo>
                        <a:pt x="224" y="208"/>
                      </a:lnTo>
                      <a:lnTo>
                        <a:pt x="301" y="208"/>
                      </a:lnTo>
                      <a:lnTo>
                        <a:pt x="301" y="277"/>
                      </a:lnTo>
                      <a:lnTo>
                        <a:pt x="224" y="277"/>
                      </a:lnTo>
                      <a:lnTo>
                        <a:pt x="224" y="208"/>
                      </a:lnTo>
                      <a:lnTo>
                        <a:pt x="152" y="208"/>
                      </a:lnTo>
                      <a:lnTo>
                        <a:pt x="152" y="140"/>
                      </a:lnTo>
                      <a:lnTo>
                        <a:pt x="77" y="140"/>
                      </a:lnTo>
                      <a:lnTo>
                        <a:pt x="77" y="70"/>
                      </a:lnTo>
                      <a:lnTo>
                        <a:pt x="0" y="7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2" name=""/>
                <p:cNvSpPr/>
                <p:nvPr/>
              </p:nvSpPr>
              <p:spPr>
                <a:xfrm>
                  <a:off x="6881040" y="5804640"/>
                  <a:ext cx="259920" cy="100800"/>
                </a:xfrm>
                <a:custGeom>
                  <a:avLst/>
                  <a:gdLst/>
                  <a:ahLst/>
                  <a:rect l="l" t="t" r="r" b="b"/>
                  <a:pathLst>
                    <a:path w="1210" h="407">
                      <a:moveTo>
                        <a:pt x="1143" y="0"/>
                      </a:moveTo>
                      <a:lnTo>
                        <a:pt x="1210" y="0"/>
                      </a:lnTo>
                      <a:lnTo>
                        <a:pt x="1210" y="67"/>
                      </a:lnTo>
                      <a:lnTo>
                        <a:pt x="1143" y="67"/>
                      </a:lnTo>
                      <a:lnTo>
                        <a:pt x="1143" y="136"/>
                      </a:lnTo>
                      <a:lnTo>
                        <a:pt x="999" y="136"/>
                      </a:lnTo>
                      <a:lnTo>
                        <a:pt x="999" y="204"/>
                      </a:lnTo>
                      <a:lnTo>
                        <a:pt x="784" y="204"/>
                      </a:lnTo>
                      <a:lnTo>
                        <a:pt x="784" y="274"/>
                      </a:lnTo>
                      <a:lnTo>
                        <a:pt x="641" y="274"/>
                      </a:lnTo>
                      <a:lnTo>
                        <a:pt x="641" y="340"/>
                      </a:lnTo>
                      <a:lnTo>
                        <a:pt x="354" y="340"/>
                      </a:lnTo>
                      <a:lnTo>
                        <a:pt x="354" y="407"/>
                      </a:lnTo>
                      <a:lnTo>
                        <a:pt x="0" y="407"/>
                      </a:lnTo>
                      <a:lnTo>
                        <a:pt x="0" y="340"/>
                      </a:lnTo>
                      <a:lnTo>
                        <a:pt x="354" y="340"/>
                      </a:lnTo>
                      <a:lnTo>
                        <a:pt x="354" y="274"/>
                      </a:lnTo>
                      <a:lnTo>
                        <a:pt x="641" y="274"/>
                      </a:lnTo>
                      <a:lnTo>
                        <a:pt x="641" y="204"/>
                      </a:lnTo>
                      <a:lnTo>
                        <a:pt x="784" y="204"/>
                      </a:lnTo>
                      <a:lnTo>
                        <a:pt x="784" y="136"/>
                      </a:lnTo>
                      <a:lnTo>
                        <a:pt x="999" y="136"/>
                      </a:lnTo>
                      <a:lnTo>
                        <a:pt x="999" y="67"/>
                      </a:lnTo>
                      <a:lnTo>
                        <a:pt x="1143" y="67"/>
                      </a:lnTo>
                      <a:lnTo>
                        <a:pt x="1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122880" y="5821920"/>
                  <a:ext cx="34200" cy="67320"/>
                </a:xfrm>
                <a:custGeom>
                  <a:avLst/>
                  <a:gdLst/>
                  <a:ahLst/>
                  <a:rect l="l" t="t" r="r" b="b"/>
                  <a:pathLst>
                    <a:path w="156" h="278">
                      <a:moveTo>
                        <a:pt x="0" y="0"/>
                      </a:moveTo>
                      <a:lnTo>
                        <a:pt x="80" y="0"/>
                      </a:lnTo>
                      <a:lnTo>
                        <a:pt x="80" y="69"/>
                      </a:lnTo>
                      <a:lnTo>
                        <a:pt x="156" y="69"/>
                      </a:lnTo>
                      <a:lnTo>
                        <a:pt x="156" y="212"/>
                      </a:lnTo>
                      <a:lnTo>
                        <a:pt x="80" y="212"/>
                      </a:lnTo>
                      <a:lnTo>
                        <a:pt x="80" y="278"/>
                      </a:lnTo>
                      <a:lnTo>
                        <a:pt x="0" y="278"/>
                      </a:lnTo>
                      <a:lnTo>
                        <a:pt x="0" y="212"/>
                      </a:lnTo>
                      <a:lnTo>
                        <a:pt x="80" y="212"/>
                      </a:lnTo>
                      <a:lnTo>
                        <a:pt x="80" y="69"/>
                      </a:lnTo>
                      <a:lnTo>
                        <a:pt x="0" y="69"/>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4" name=""/>
                <p:cNvSpPr/>
                <p:nvPr/>
              </p:nvSpPr>
              <p:spPr>
                <a:xfrm>
                  <a:off x="6139080" y="5997960"/>
                  <a:ext cx="1800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5" name=""/>
                <p:cNvSpPr/>
                <p:nvPr/>
              </p:nvSpPr>
              <p:spPr>
                <a:xfrm>
                  <a:off x="5038560" y="4690080"/>
                  <a:ext cx="519480" cy="254880"/>
                </a:xfrm>
                <a:custGeom>
                  <a:avLst/>
                  <a:gdLst/>
                  <a:ahLst/>
                  <a:rect l="l" t="t" r="r" b="b"/>
                  <a:pathLst>
                    <a:path w="2417" h="1037">
                      <a:moveTo>
                        <a:pt x="85" y="1037"/>
                      </a:moveTo>
                      <a:lnTo>
                        <a:pt x="26" y="1021"/>
                      </a:lnTo>
                      <a:lnTo>
                        <a:pt x="43" y="998"/>
                      </a:lnTo>
                      <a:lnTo>
                        <a:pt x="60" y="998"/>
                      </a:lnTo>
                      <a:lnTo>
                        <a:pt x="76" y="998"/>
                      </a:lnTo>
                      <a:lnTo>
                        <a:pt x="76" y="1015"/>
                      </a:lnTo>
                      <a:lnTo>
                        <a:pt x="94" y="1015"/>
                      </a:lnTo>
                      <a:lnTo>
                        <a:pt x="114" y="1015"/>
                      </a:lnTo>
                      <a:lnTo>
                        <a:pt x="131" y="1015"/>
                      </a:lnTo>
                      <a:lnTo>
                        <a:pt x="148" y="1015"/>
                      </a:lnTo>
                      <a:lnTo>
                        <a:pt x="165" y="1015"/>
                      </a:lnTo>
                      <a:lnTo>
                        <a:pt x="181" y="1015"/>
                      </a:lnTo>
                      <a:lnTo>
                        <a:pt x="202" y="1015"/>
                      </a:lnTo>
                      <a:lnTo>
                        <a:pt x="202" y="1033"/>
                      </a:lnTo>
                      <a:lnTo>
                        <a:pt x="220" y="1033"/>
                      </a:lnTo>
                      <a:lnTo>
                        <a:pt x="237" y="1033"/>
                      </a:lnTo>
                      <a:lnTo>
                        <a:pt x="253" y="1033"/>
                      </a:lnTo>
                      <a:lnTo>
                        <a:pt x="270" y="1033"/>
                      </a:lnTo>
                      <a:lnTo>
                        <a:pt x="292" y="1033"/>
                      </a:lnTo>
                      <a:lnTo>
                        <a:pt x="309" y="1033"/>
                      </a:lnTo>
                      <a:lnTo>
                        <a:pt x="325" y="1033"/>
                      </a:lnTo>
                      <a:lnTo>
                        <a:pt x="343" y="1033"/>
                      </a:lnTo>
                      <a:lnTo>
                        <a:pt x="359" y="1033"/>
                      </a:lnTo>
                      <a:lnTo>
                        <a:pt x="380" y="1021"/>
                      </a:lnTo>
                      <a:lnTo>
                        <a:pt x="380" y="998"/>
                      </a:lnTo>
                      <a:lnTo>
                        <a:pt x="380" y="983"/>
                      </a:lnTo>
                      <a:lnTo>
                        <a:pt x="380" y="959"/>
                      </a:lnTo>
                      <a:lnTo>
                        <a:pt x="396" y="959"/>
                      </a:lnTo>
                      <a:lnTo>
                        <a:pt x="414" y="959"/>
                      </a:lnTo>
                      <a:lnTo>
                        <a:pt x="431" y="943"/>
                      </a:lnTo>
                      <a:lnTo>
                        <a:pt x="448" y="943"/>
                      </a:lnTo>
                      <a:lnTo>
                        <a:pt x="469" y="943"/>
                      </a:lnTo>
                      <a:lnTo>
                        <a:pt x="485" y="954"/>
                      </a:lnTo>
                      <a:lnTo>
                        <a:pt x="502" y="954"/>
                      </a:lnTo>
                      <a:lnTo>
                        <a:pt x="519" y="954"/>
                      </a:lnTo>
                      <a:lnTo>
                        <a:pt x="537" y="943"/>
                      </a:lnTo>
                      <a:lnTo>
                        <a:pt x="537" y="925"/>
                      </a:lnTo>
                      <a:lnTo>
                        <a:pt x="558" y="904"/>
                      </a:lnTo>
                      <a:lnTo>
                        <a:pt x="574" y="904"/>
                      </a:lnTo>
                      <a:lnTo>
                        <a:pt x="590" y="885"/>
                      </a:lnTo>
                      <a:lnTo>
                        <a:pt x="608" y="885"/>
                      </a:lnTo>
                      <a:lnTo>
                        <a:pt x="629" y="885"/>
                      </a:lnTo>
                      <a:lnTo>
                        <a:pt x="645" y="869"/>
                      </a:lnTo>
                      <a:lnTo>
                        <a:pt x="663" y="869"/>
                      </a:lnTo>
                      <a:lnTo>
                        <a:pt x="680" y="869"/>
                      </a:lnTo>
                      <a:lnTo>
                        <a:pt x="696" y="846"/>
                      </a:lnTo>
                      <a:lnTo>
                        <a:pt x="718" y="846"/>
                      </a:lnTo>
                      <a:lnTo>
                        <a:pt x="734" y="846"/>
                      </a:lnTo>
                      <a:lnTo>
                        <a:pt x="752" y="846"/>
                      </a:lnTo>
                      <a:lnTo>
                        <a:pt x="752" y="829"/>
                      </a:lnTo>
                      <a:lnTo>
                        <a:pt x="768" y="806"/>
                      </a:lnTo>
                      <a:lnTo>
                        <a:pt x="785" y="806"/>
                      </a:lnTo>
                      <a:lnTo>
                        <a:pt x="805" y="806"/>
                      </a:lnTo>
                      <a:lnTo>
                        <a:pt x="823" y="806"/>
                      </a:lnTo>
                      <a:lnTo>
                        <a:pt x="839" y="806"/>
                      </a:lnTo>
                      <a:lnTo>
                        <a:pt x="857" y="806"/>
                      </a:lnTo>
                      <a:lnTo>
                        <a:pt x="857" y="822"/>
                      </a:lnTo>
                      <a:lnTo>
                        <a:pt x="873" y="822"/>
                      </a:lnTo>
                      <a:lnTo>
                        <a:pt x="895" y="822"/>
                      </a:lnTo>
                      <a:lnTo>
                        <a:pt x="911" y="822"/>
                      </a:lnTo>
                      <a:lnTo>
                        <a:pt x="928" y="806"/>
                      </a:lnTo>
                      <a:lnTo>
                        <a:pt x="945" y="806"/>
                      </a:lnTo>
                      <a:lnTo>
                        <a:pt x="962" y="806"/>
                      </a:lnTo>
                      <a:lnTo>
                        <a:pt x="983" y="791"/>
                      </a:lnTo>
                      <a:lnTo>
                        <a:pt x="1001" y="791"/>
                      </a:lnTo>
                      <a:lnTo>
                        <a:pt x="1016" y="791"/>
                      </a:lnTo>
                      <a:lnTo>
                        <a:pt x="1034" y="767"/>
                      </a:lnTo>
                      <a:lnTo>
                        <a:pt x="1051" y="767"/>
                      </a:lnTo>
                      <a:lnTo>
                        <a:pt x="1072" y="767"/>
                      </a:lnTo>
                      <a:lnTo>
                        <a:pt x="1088" y="767"/>
                      </a:lnTo>
                      <a:lnTo>
                        <a:pt x="1106" y="752"/>
                      </a:lnTo>
                      <a:lnTo>
                        <a:pt x="1122" y="752"/>
                      </a:lnTo>
                      <a:lnTo>
                        <a:pt x="1139" y="752"/>
                      </a:lnTo>
                      <a:lnTo>
                        <a:pt x="1160" y="729"/>
                      </a:lnTo>
                      <a:lnTo>
                        <a:pt x="1177" y="729"/>
                      </a:lnTo>
                      <a:lnTo>
                        <a:pt x="1194" y="713"/>
                      </a:lnTo>
                      <a:lnTo>
                        <a:pt x="1210" y="713"/>
                      </a:lnTo>
                      <a:lnTo>
                        <a:pt x="1228" y="713"/>
                      </a:lnTo>
                      <a:lnTo>
                        <a:pt x="1249" y="692"/>
                      </a:lnTo>
                      <a:lnTo>
                        <a:pt x="1266" y="692"/>
                      </a:lnTo>
                      <a:lnTo>
                        <a:pt x="1283" y="692"/>
                      </a:lnTo>
                      <a:lnTo>
                        <a:pt x="1299" y="692"/>
                      </a:lnTo>
                      <a:lnTo>
                        <a:pt x="1316" y="692"/>
                      </a:lnTo>
                      <a:lnTo>
                        <a:pt x="1336" y="692"/>
                      </a:lnTo>
                      <a:lnTo>
                        <a:pt x="1354" y="692"/>
                      </a:lnTo>
                      <a:lnTo>
                        <a:pt x="1371" y="674"/>
                      </a:lnTo>
                      <a:lnTo>
                        <a:pt x="1388" y="674"/>
                      </a:lnTo>
                      <a:lnTo>
                        <a:pt x="1404" y="674"/>
                      </a:lnTo>
                      <a:lnTo>
                        <a:pt x="1426" y="654"/>
                      </a:lnTo>
                      <a:lnTo>
                        <a:pt x="1443" y="654"/>
                      </a:lnTo>
                      <a:lnTo>
                        <a:pt x="1459" y="654"/>
                      </a:lnTo>
                      <a:lnTo>
                        <a:pt x="1477" y="639"/>
                      </a:lnTo>
                      <a:lnTo>
                        <a:pt x="1493" y="639"/>
                      </a:lnTo>
                      <a:lnTo>
                        <a:pt x="1514" y="639"/>
                      </a:lnTo>
                      <a:lnTo>
                        <a:pt x="1531" y="614"/>
                      </a:lnTo>
                      <a:lnTo>
                        <a:pt x="1548" y="614"/>
                      </a:lnTo>
                      <a:lnTo>
                        <a:pt x="1566" y="614"/>
                      </a:lnTo>
                      <a:lnTo>
                        <a:pt x="1582" y="614"/>
                      </a:lnTo>
                      <a:lnTo>
                        <a:pt x="1603" y="599"/>
                      </a:lnTo>
                      <a:lnTo>
                        <a:pt x="1619" y="599"/>
                      </a:lnTo>
                      <a:lnTo>
                        <a:pt x="1637" y="599"/>
                      </a:lnTo>
                      <a:lnTo>
                        <a:pt x="1637" y="576"/>
                      </a:lnTo>
                      <a:lnTo>
                        <a:pt x="1653" y="576"/>
                      </a:lnTo>
                      <a:lnTo>
                        <a:pt x="1671" y="576"/>
                      </a:lnTo>
                      <a:lnTo>
                        <a:pt x="1692" y="560"/>
                      </a:lnTo>
                      <a:lnTo>
                        <a:pt x="1709" y="560"/>
                      </a:lnTo>
                      <a:lnTo>
                        <a:pt x="1725" y="560"/>
                      </a:lnTo>
                      <a:lnTo>
                        <a:pt x="1742" y="537"/>
                      </a:lnTo>
                      <a:lnTo>
                        <a:pt x="1759" y="537"/>
                      </a:lnTo>
                      <a:lnTo>
                        <a:pt x="1780" y="537"/>
                      </a:lnTo>
                      <a:lnTo>
                        <a:pt x="1797" y="521"/>
                      </a:lnTo>
                      <a:lnTo>
                        <a:pt x="1815" y="521"/>
                      </a:lnTo>
                      <a:lnTo>
                        <a:pt x="1830" y="521"/>
                      </a:lnTo>
                      <a:lnTo>
                        <a:pt x="1852" y="521"/>
                      </a:lnTo>
                      <a:lnTo>
                        <a:pt x="1868" y="501"/>
                      </a:lnTo>
                      <a:lnTo>
                        <a:pt x="1886" y="501"/>
                      </a:lnTo>
                      <a:lnTo>
                        <a:pt x="1902" y="501"/>
                      </a:lnTo>
                      <a:lnTo>
                        <a:pt x="1919" y="482"/>
                      </a:lnTo>
                      <a:lnTo>
                        <a:pt x="1940" y="482"/>
                      </a:lnTo>
                      <a:lnTo>
                        <a:pt x="1957" y="482"/>
                      </a:lnTo>
                      <a:lnTo>
                        <a:pt x="1974" y="462"/>
                      </a:lnTo>
                      <a:lnTo>
                        <a:pt x="1991" y="462"/>
                      </a:lnTo>
                      <a:lnTo>
                        <a:pt x="2008" y="447"/>
                      </a:lnTo>
                      <a:lnTo>
                        <a:pt x="2030" y="447"/>
                      </a:lnTo>
                      <a:lnTo>
                        <a:pt x="2045" y="447"/>
                      </a:lnTo>
                      <a:lnTo>
                        <a:pt x="2063" y="447"/>
                      </a:lnTo>
                      <a:lnTo>
                        <a:pt x="2063" y="424"/>
                      </a:lnTo>
                      <a:lnTo>
                        <a:pt x="2080" y="408"/>
                      </a:lnTo>
                      <a:lnTo>
                        <a:pt x="2080" y="384"/>
                      </a:lnTo>
                      <a:lnTo>
                        <a:pt x="2097" y="384"/>
                      </a:lnTo>
                      <a:lnTo>
                        <a:pt x="2097" y="369"/>
                      </a:lnTo>
                      <a:lnTo>
                        <a:pt x="2117" y="345"/>
                      </a:lnTo>
                      <a:lnTo>
                        <a:pt x="2117" y="329"/>
                      </a:lnTo>
                      <a:lnTo>
                        <a:pt x="2135" y="329"/>
                      </a:lnTo>
                      <a:lnTo>
                        <a:pt x="2150" y="329"/>
                      </a:lnTo>
                      <a:lnTo>
                        <a:pt x="2168" y="329"/>
                      </a:lnTo>
                      <a:lnTo>
                        <a:pt x="2185" y="310"/>
                      </a:lnTo>
                      <a:lnTo>
                        <a:pt x="2206" y="310"/>
                      </a:lnTo>
                      <a:lnTo>
                        <a:pt x="2223" y="310"/>
                      </a:lnTo>
                      <a:lnTo>
                        <a:pt x="2240" y="291"/>
                      </a:lnTo>
                      <a:lnTo>
                        <a:pt x="2257" y="291"/>
                      </a:lnTo>
                      <a:lnTo>
                        <a:pt x="2273" y="270"/>
                      </a:lnTo>
                      <a:lnTo>
                        <a:pt x="2294" y="270"/>
                      </a:lnTo>
                      <a:lnTo>
                        <a:pt x="2312" y="270"/>
                      </a:lnTo>
                      <a:lnTo>
                        <a:pt x="2328" y="270"/>
                      </a:lnTo>
                      <a:lnTo>
                        <a:pt x="2344" y="270"/>
                      </a:lnTo>
                      <a:lnTo>
                        <a:pt x="2344" y="251"/>
                      </a:lnTo>
                      <a:lnTo>
                        <a:pt x="2362" y="251"/>
                      </a:lnTo>
                      <a:lnTo>
                        <a:pt x="2362" y="232"/>
                      </a:lnTo>
                      <a:lnTo>
                        <a:pt x="2362" y="216"/>
                      </a:lnTo>
                      <a:lnTo>
                        <a:pt x="2362" y="192"/>
                      </a:lnTo>
                      <a:lnTo>
                        <a:pt x="2362" y="177"/>
                      </a:lnTo>
                      <a:lnTo>
                        <a:pt x="2383" y="154"/>
                      </a:lnTo>
                      <a:lnTo>
                        <a:pt x="2383" y="137"/>
                      </a:lnTo>
                      <a:lnTo>
                        <a:pt x="2383" y="114"/>
                      </a:lnTo>
                      <a:lnTo>
                        <a:pt x="2383" y="98"/>
                      </a:lnTo>
                      <a:lnTo>
                        <a:pt x="2400" y="98"/>
                      </a:lnTo>
                      <a:lnTo>
                        <a:pt x="2400" y="79"/>
                      </a:lnTo>
                      <a:lnTo>
                        <a:pt x="2400" y="60"/>
                      </a:lnTo>
                      <a:lnTo>
                        <a:pt x="2400" y="40"/>
                      </a:lnTo>
                      <a:lnTo>
                        <a:pt x="2417" y="24"/>
                      </a:lnTo>
                      <a:lnTo>
                        <a:pt x="2417" y="0"/>
                      </a:lnTo>
                      <a:lnTo>
                        <a:pt x="2400" y="0"/>
                      </a:lnTo>
                      <a:lnTo>
                        <a:pt x="2383" y="0"/>
                      </a:lnTo>
                      <a:lnTo>
                        <a:pt x="2362" y="0"/>
                      </a:lnTo>
                      <a:lnTo>
                        <a:pt x="2344" y="0"/>
                      </a:lnTo>
                      <a:lnTo>
                        <a:pt x="2328" y="0"/>
                      </a:lnTo>
                      <a:lnTo>
                        <a:pt x="2312" y="0"/>
                      </a:lnTo>
                      <a:lnTo>
                        <a:pt x="2294" y="0"/>
                      </a:lnTo>
                      <a:lnTo>
                        <a:pt x="2273" y="0"/>
                      </a:lnTo>
                      <a:lnTo>
                        <a:pt x="2257" y="0"/>
                      </a:lnTo>
                      <a:lnTo>
                        <a:pt x="2240" y="17"/>
                      </a:lnTo>
                      <a:lnTo>
                        <a:pt x="2223" y="17"/>
                      </a:lnTo>
                      <a:lnTo>
                        <a:pt x="2206" y="17"/>
                      </a:lnTo>
                      <a:lnTo>
                        <a:pt x="2185" y="32"/>
                      </a:lnTo>
                      <a:lnTo>
                        <a:pt x="2168" y="32"/>
                      </a:lnTo>
                      <a:lnTo>
                        <a:pt x="2150" y="55"/>
                      </a:lnTo>
                      <a:lnTo>
                        <a:pt x="2135" y="55"/>
                      </a:lnTo>
                      <a:lnTo>
                        <a:pt x="2117" y="55"/>
                      </a:lnTo>
                      <a:lnTo>
                        <a:pt x="2117" y="72"/>
                      </a:lnTo>
                      <a:lnTo>
                        <a:pt x="2097" y="72"/>
                      </a:lnTo>
                      <a:lnTo>
                        <a:pt x="2080" y="95"/>
                      </a:lnTo>
                      <a:lnTo>
                        <a:pt x="2063" y="95"/>
                      </a:lnTo>
                      <a:lnTo>
                        <a:pt x="2045" y="95"/>
                      </a:lnTo>
                      <a:lnTo>
                        <a:pt x="2045" y="111"/>
                      </a:lnTo>
                      <a:lnTo>
                        <a:pt x="2045" y="133"/>
                      </a:lnTo>
                      <a:lnTo>
                        <a:pt x="2030" y="133"/>
                      </a:lnTo>
                      <a:lnTo>
                        <a:pt x="2008" y="133"/>
                      </a:lnTo>
                      <a:lnTo>
                        <a:pt x="1991" y="149"/>
                      </a:lnTo>
                      <a:lnTo>
                        <a:pt x="1974" y="149"/>
                      </a:lnTo>
                      <a:lnTo>
                        <a:pt x="1957" y="149"/>
                      </a:lnTo>
                      <a:lnTo>
                        <a:pt x="1940" y="149"/>
                      </a:lnTo>
                      <a:lnTo>
                        <a:pt x="1919" y="169"/>
                      </a:lnTo>
                      <a:lnTo>
                        <a:pt x="1902" y="169"/>
                      </a:lnTo>
                      <a:lnTo>
                        <a:pt x="1886" y="169"/>
                      </a:lnTo>
                      <a:lnTo>
                        <a:pt x="1868" y="189"/>
                      </a:lnTo>
                      <a:lnTo>
                        <a:pt x="1852" y="189"/>
                      </a:lnTo>
                      <a:lnTo>
                        <a:pt x="1830" y="189"/>
                      </a:lnTo>
                      <a:lnTo>
                        <a:pt x="1815" y="189"/>
                      </a:lnTo>
                      <a:lnTo>
                        <a:pt x="1797" y="189"/>
                      </a:lnTo>
                      <a:lnTo>
                        <a:pt x="1780" y="189"/>
                      </a:lnTo>
                      <a:lnTo>
                        <a:pt x="1780" y="208"/>
                      </a:lnTo>
                      <a:lnTo>
                        <a:pt x="1780" y="223"/>
                      </a:lnTo>
                      <a:lnTo>
                        <a:pt x="1780" y="247"/>
                      </a:lnTo>
                      <a:lnTo>
                        <a:pt x="1759" y="262"/>
                      </a:lnTo>
                      <a:lnTo>
                        <a:pt x="1742" y="262"/>
                      </a:lnTo>
                      <a:lnTo>
                        <a:pt x="1742" y="287"/>
                      </a:lnTo>
                      <a:lnTo>
                        <a:pt x="1725" y="287"/>
                      </a:lnTo>
                      <a:lnTo>
                        <a:pt x="1709" y="302"/>
                      </a:lnTo>
                      <a:lnTo>
                        <a:pt x="1692" y="302"/>
                      </a:lnTo>
                      <a:lnTo>
                        <a:pt x="1671" y="326"/>
                      </a:lnTo>
                      <a:lnTo>
                        <a:pt x="1653" y="326"/>
                      </a:lnTo>
                      <a:lnTo>
                        <a:pt x="1637" y="326"/>
                      </a:lnTo>
                      <a:lnTo>
                        <a:pt x="1619" y="341"/>
                      </a:lnTo>
                      <a:lnTo>
                        <a:pt x="1603" y="341"/>
                      </a:lnTo>
                      <a:lnTo>
                        <a:pt x="1582" y="341"/>
                      </a:lnTo>
                      <a:lnTo>
                        <a:pt x="1566" y="341"/>
                      </a:lnTo>
                      <a:lnTo>
                        <a:pt x="1548" y="366"/>
                      </a:lnTo>
                      <a:lnTo>
                        <a:pt x="1531" y="366"/>
                      </a:lnTo>
                      <a:lnTo>
                        <a:pt x="1514" y="366"/>
                      </a:lnTo>
                      <a:lnTo>
                        <a:pt x="1493" y="366"/>
                      </a:lnTo>
                      <a:lnTo>
                        <a:pt x="1477" y="366"/>
                      </a:lnTo>
                      <a:lnTo>
                        <a:pt x="1459" y="366"/>
                      </a:lnTo>
                      <a:lnTo>
                        <a:pt x="1443" y="380"/>
                      </a:lnTo>
                      <a:lnTo>
                        <a:pt x="1426" y="380"/>
                      </a:lnTo>
                      <a:lnTo>
                        <a:pt x="1426" y="400"/>
                      </a:lnTo>
                      <a:lnTo>
                        <a:pt x="1404" y="400"/>
                      </a:lnTo>
                      <a:lnTo>
                        <a:pt x="1388" y="419"/>
                      </a:lnTo>
                      <a:lnTo>
                        <a:pt x="1371" y="419"/>
                      </a:lnTo>
                      <a:lnTo>
                        <a:pt x="1354" y="419"/>
                      </a:lnTo>
                      <a:lnTo>
                        <a:pt x="1336" y="419"/>
                      </a:lnTo>
                      <a:lnTo>
                        <a:pt x="1336" y="438"/>
                      </a:lnTo>
                      <a:lnTo>
                        <a:pt x="1316" y="438"/>
                      </a:lnTo>
                      <a:lnTo>
                        <a:pt x="1299" y="438"/>
                      </a:lnTo>
                      <a:lnTo>
                        <a:pt x="1283" y="454"/>
                      </a:lnTo>
                      <a:lnTo>
                        <a:pt x="1266" y="454"/>
                      </a:lnTo>
                      <a:lnTo>
                        <a:pt x="1249" y="454"/>
                      </a:lnTo>
                      <a:lnTo>
                        <a:pt x="1207" y="454"/>
                      </a:lnTo>
                      <a:lnTo>
                        <a:pt x="1189" y="454"/>
                      </a:lnTo>
                      <a:lnTo>
                        <a:pt x="1169" y="477"/>
                      </a:lnTo>
                      <a:lnTo>
                        <a:pt x="1151" y="477"/>
                      </a:lnTo>
                      <a:lnTo>
                        <a:pt x="1135" y="477"/>
                      </a:lnTo>
                      <a:lnTo>
                        <a:pt x="1135" y="494"/>
                      </a:lnTo>
                      <a:lnTo>
                        <a:pt x="1118" y="517"/>
                      </a:lnTo>
                      <a:lnTo>
                        <a:pt x="1102" y="517"/>
                      </a:lnTo>
                      <a:lnTo>
                        <a:pt x="1081" y="517"/>
                      </a:lnTo>
                      <a:lnTo>
                        <a:pt x="1063" y="517"/>
                      </a:lnTo>
                      <a:lnTo>
                        <a:pt x="1046" y="533"/>
                      </a:lnTo>
                      <a:lnTo>
                        <a:pt x="1029" y="533"/>
                      </a:lnTo>
                      <a:lnTo>
                        <a:pt x="1013" y="533"/>
                      </a:lnTo>
                      <a:lnTo>
                        <a:pt x="1013" y="556"/>
                      </a:lnTo>
                      <a:lnTo>
                        <a:pt x="1013" y="572"/>
                      </a:lnTo>
                      <a:lnTo>
                        <a:pt x="1013" y="591"/>
                      </a:lnTo>
                      <a:lnTo>
                        <a:pt x="992" y="591"/>
                      </a:lnTo>
                      <a:lnTo>
                        <a:pt x="974" y="591"/>
                      </a:lnTo>
                      <a:lnTo>
                        <a:pt x="974" y="611"/>
                      </a:lnTo>
                      <a:lnTo>
                        <a:pt x="958" y="611"/>
                      </a:lnTo>
                      <a:lnTo>
                        <a:pt x="958" y="631"/>
                      </a:lnTo>
                      <a:lnTo>
                        <a:pt x="941" y="631"/>
                      </a:lnTo>
                      <a:lnTo>
                        <a:pt x="924" y="631"/>
                      </a:lnTo>
                      <a:lnTo>
                        <a:pt x="902" y="646"/>
                      </a:lnTo>
                      <a:lnTo>
                        <a:pt x="887" y="646"/>
                      </a:lnTo>
                      <a:lnTo>
                        <a:pt x="869" y="639"/>
                      </a:lnTo>
                      <a:lnTo>
                        <a:pt x="852" y="639"/>
                      </a:lnTo>
                      <a:lnTo>
                        <a:pt x="836" y="639"/>
                      </a:lnTo>
                      <a:lnTo>
                        <a:pt x="814" y="639"/>
                      </a:lnTo>
                      <a:lnTo>
                        <a:pt x="798" y="639"/>
                      </a:lnTo>
                      <a:lnTo>
                        <a:pt x="780" y="639"/>
                      </a:lnTo>
                      <a:lnTo>
                        <a:pt x="764" y="639"/>
                      </a:lnTo>
                      <a:lnTo>
                        <a:pt x="746" y="639"/>
                      </a:lnTo>
                      <a:lnTo>
                        <a:pt x="725" y="646"/>
                      </a:lnTo>
                      <a:lnTo>
                        <a:pt x="709" y="646"/>
                      </a:lnTo>
                      <a:lnTo>
                        <a:pt x="692" y="646"/>
                      </a:lnTo>
                      <a:lnTo>
                        <a:pt x="675" y="670"/>
                      </a:lnTo>
                      <a:lnTo>
                        <a:pt x="658" y="670"/>
                      </a:lnTo>
                      <a:lnTo>
                        <a:pt x="638" y="670"/>
                      </a:lnTo>
                      <a:lnTo>
                        <a:pt x="620" y="686"/>
                      </a:lnTo>
                      <a:lnTo>
                        <a:pt x="604" y="686"/>
                      </a:lnTo>
                      <a:lnTo>
                        <a:pt x="587" y="686"/>
                      </a:lnTo>
                      <a:lnTo>
                        <a:pt x="566" y="709"/>
                      </a:lnTo>
                      <a:lnTo>
                        <a:pt x="549" y="709"/>
                      </a:lnTo>
                      <a:lnTo>
                        <a:pt x="531" y="709"/>
                      </a:lnTo>
                      <a:lnTo>
                        <a:pt x="516" y="724"/>
                      </a:lnTo>
                      <a:lnTo>
                        <a:pt x="498" y="724"/>
                      </a:lnTo>
                      <a:lnTo>
                        <a:pt x="476" y="724"/>
                      </a:lnTo>
                      <a:lnTo>
                        <a:pt x="460" y="748"/>
                      </a:lnTo>
                      <a:lnTo>
                        <a:pt x="443" y="748"/>
                      </a:lnTo>
                      <a:lnTo>
                        <a:pt x="426" y="748"/>
                      </a:lnTo>
                      <a:lnTo>
                        <a:pt x="409" y="764"/>
                      </a:lnTo>
                      <a:lnTo>
                        <a:pt x="389" y="787"/>
                      </a:lnTo>
                      <a:lnTo>
                        <a:pt x="372" y="787"/>
                      </a:lnTo>
                      <a:lnTo>
                        <a:pt x="355" y="787"/>
                      </a:lnTo>
                      <a:lnTo>
                        <a:pt x="338" y="787"/>
                      </a:lnTo>
                      <a:lnTo>
                        <a:pt x="321" y="787"/>
                      </a:lnTo>
                      <a:lnTo>
                        <a:pt x="300" y="787"/>
                      </a:lnTo>
                      <a:lnTo>
                        <a:pt x="283" y="787"/>
                      </a:lnTo>
                      <a:lnTo>
                        <a:pt x="267" y="767"/>
                      </a:lnTo>
                      <a:lnTo>
                        <a:pt x="249" y="767"/>
                      </a:lnTo>
                      <a:lnTo>
                        <a:pt x="232" y="767"/>
                      </a:lnTo>
                      <a:lnTo>
                        <a:pt x="211" y="767"/>
                      </a:lnTo>
                      <a:lnTo>
                        <a:pt x="194" y="767"/>
                      </a:lnTo>
                      <a:lnTo>
                        <a:pt x="178" y="767"/>
                      </a:lnTo>
                      <a:lnTo>
                        <a:pt x="178" y="752"/>
                      </a:lnTo>
                      <a:lnTo>
                        <a:pt x="160" y="752"/>
                      </a:lnTo>
                      <a:lnTo>
                        <a:pt x="144" y="752"/>
                      </a:lnTo>
                      <a:lnTo>
                        <a:pt x="123" y="752"/>
                      </a:lnTo>
                      <a:lnTo>
                        <a:pt x="106" y="752"/>
                      </a:lnTo>
                      <a:lnTo>
                        <a:pt x="88" y="752"/>
                      </a:lnTo>
                      <a:lnTo>
                        <a:pt x="73" y="752"/>
                      </a:lnTo>
                      <a:lnTo>
                        <a:pt x="55" y="752"/>
                      </a:lnTo>
                      <a:lnTo>
                        <a:pt x="34" y="752"/>
                      </a:lnTo>
                      <a:lnTo>
                        <a:pt x="17" y="752"/>
                      </a:lnTo>
                      <a:lnTo>
                        <a:pt x="17" y="787"/>
                      </a:lnTo>
                      <a:lnTo>
                        <a:pt x="17" y="803"/>
                      </a:lnTo>
                      <a:lnTo>
                        <a:pt x="17" y="822"/>
                      </a:lnTo>
                      <a:lnTo>
                        <a:pt x="0" y="822"/>
                      </a:lnTo>
                      <a:lnTo>
                        <a:pt x="0" y="841"/>
                      </a:lnTo>
                      <a:lnTo>
                        <a:pt x="0" y="861"/>
                      </a:lnTo>
                      <a:lnTo>
                        <a:pt x="0" y="878"/>
                      </a:lnTo>
                      <a:lnTo>
                        <a:pt x="0" y="901"/>
                      </a:lnTo>
                      <a:lnTo>
                        <a:pt x="0" y="916"/>
                      </a:lnTo>
                      <a:lnTo>
                        <a:pt x="0" y="940"/>
                      </a:lnTo>
                      <a:lnTo>
                        <a:pt x="0" y="954"/>
                      </a:lnTo>
                      <a:lnTo>
                        <a:pt x="0" y="979"/>
                      </a:lnTo>
                      <a:lnTo>
                        <a:pt x="13" y="994"/>
                      </a:lnTo>
                      <a:lnTo>
                        <a:pt x="13" y="1015"/>
                      </a:lnTo>
                      <a:lnTo>
                        <a:pt x="13" y="1033"/>
                      </a:lnTo>
                      <a:lnTo>
                        <a:pt x="31" y="1033"/>
                      </a:lnTo>
                      <a:lnTo>
                        <a:pt x="46" y="1033"/>
                      </a:lnTo>
                      <a:lnTo>
                        <a:pt x="64" y="1033"/>
                      </a:lnTo>
                      <a:lnTo>
                        <a:pt x="85" y="1037"/>
                      </a:lnTo>
                      <a:close/>
                    </a:path>
                  </a:pathLst>
                </a:custGeom>
                <a:solidFill>
                  <a:srgbClr val="ffffff"/>
                </a:solidFill>
                <a:ln w="1440">
                  <a:solidFill>
                    <a:srgbClr val="23232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36" name=""/>
          <p:cNvSpPr/>
          <p:nvPr/>
        </p:nvSpPr>
        <p:spPr>
          <a:xfrm>
            <a:off x="1332000" y="4294080"/>
            <a:ext cx="3240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Arial"/>
              </a:rPr>
              <a:t>   </a:t>
            </a:r>
            <a:r>
              <a:rPr b="1" lang="en-US" sz="4000" spc="-1" strike="noStrike">
                <a:solidFill>
                  <a:srgbClr val="ff3300"/>
                </a:solidFill>
                <a:latin typeface="Arial"/>
              </a:rPr>
              <a:t>?</a:t>
            </a:r>
            <a:r>
              <a:rPr b="1" lang="en-US" sz="40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456840"/>
            <a:ext cx="5051520" cy="1027080"/>
          </a:xfrm>
          <a:prstGeom prst="rect">
            <a:avLst/>
          </a:prstGeom>
          <a:noFill/>
          <a:ln w="0">
            <a:noFill/>
          </a:ln>
        </p:spPr>
        <p:txBody>
          <a:bodyPr lIns="90360" rIns="90360" tIns="44280" bIns="4428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什么是假设检验</a:t>
            </a:r>
            <a:r>
              <a:rPr b="0" lang="zh-CN" sz="3200" spc="-1" strike="noStrike">
                <a:solidFill>
                  <a:srgbClr val="660033"/>
                </a:solidFill>
                <a:latin typeface="黑体"/>
                <a:ea typeface="黑体"/>
              </a:rPr>
              <a:t>?</a:t>
            </a:r>
            <a:endParaRPr b="0" lang="en-US" sz="3200" spc="-1" strike="noStrike">
              <a:solidFill>
                <a:srgbClr val="000000"/>
              </a:solidFill>
              <a:latin typeface="Arial"/>
            </a:endParaRPr>
          </a:p>
        </p:txBody>
      </p:sp>
      <p:sp>
        <p:nvSpPr>
          <p:cNvPr id="438" name="PlaceHolder 2"/>
          <p:cNvSpPr>
            <a:spLocks noGrp="1"/>
          </p:cNvSpPr>
          <p:nvPr>
            <p:ph/>
          </p:nvPr>
        </p:nvSpPr>
        <p:spPr>
          <a:xfrm>
            <a:off x="-360" y="1733400"/>
            <a:ext cx="8658360" cy="4515120"/>
          </a:xfrm>
          <a:prstGeom prst="rect">
            <a:avLst/>
          </a:prstGeom>
          <a:noFill/>
          <a:ln w="0">
            <a:noFill/>
          </a:ln>
        </p:spPr>
        <p:txBody>
          <a:bodyPr lIns="90360" rIns="90360" tIns="44280" bIns="44280" anchor="t">
            <a:normAutofit/>
          </a:bodyPr>
          <a:p>
            <a:pPr marL="609480" indent="-609480" algn="just">
              <a:lnSpc>
                <a:spcPct val="100000"/>
              </a:lnSpc>
              <a:spcBef>
                <a:spcPts val="799"/>
              </a:spcBef>
              <a:buClr>
                <a:srgbClr val="ffffff"/>
              </a:buClr>
              <a:buSzPct val="75000"/>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先对总体的参数</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或分布形式</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提出某种假设，然后利用样本信息判断假设是否成立的过程</a:t>
            </a:r>
            <a:endParaRPr b="0" lang="en-US" sz="3200" spc="-1" strike="noStrike">
              <a:solidFill>
                <a:srgbClr val="000000"/>
              </a:solidFill>
              <a:latin typeface="Arial"/>
            </a:endParaRPr>
          </a:p>
        </p:txBody>
      </p:sp>
      <p:pic>
        <p:nvPicPr>
          <p:cNvPr id="439" name="" descr=""/>
          <p:cNvPicPr/>
          <p:nvPr/>
        </p:nvPicPr>
        <p:blipFill>
          <a:blip r:embed="rId1"/>
          <a:stretch/>
        </p:blipFill>
        <p:spPr>
          <a:xfrm>
            <a:off x="6134040" y="3573360"/>
            <a:ext cx="1987560" cy="2903760"/>
          </a:xfrm>
          <a:prstGeom prst="rect">
            <a:avLst/>
          </a:prstGeom>
          <a:ln w="0">
            <a:noFill/>
          </a:ln>
        </p:spPr>
      </p:pic>
    </p:spTree>
  </p:cSld>
  <p:transition>
    <p:wipe dir="r"/>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381" dur="500"/>
                                        <p:tgtEl>
                                          <p:spTgt spid="438">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animClr clrSpc="rgb">
                                <p:cBhvr>
                                  <p:cTn id="384" dur="1" fill="hold"/>
                                  <p:tgtEl>
                                    <p:spTgt spid="438">
                                      <p:txEl>
                                        <p:pRg st="0" end="0"/>
                                      </p:txEl>
                                    </p:spTgt>
                                  </p:tgtEl>
                                  <p:attrNameLst>
                                    <p:attrName>ppt_c</p:attrName>
                                  </p:attrNameLst>
                                </p:cBhvr>
                                <p:to>
                                  <a:srgbClr val="cc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
          <p:cNvGrpSpPr/>
          <p:nvPr/>
        </p:nvGrpSpPr>
        <p:grpSpPr>
          <a:xfrm>
            <a:off x="306360" y="2276640"/>
            <a:ext cx="2752560" cy="3484080"/>
            <a:chOff x="306360" y="2276640"/>
            <a:chExt cx="2752560" cy="3484080"/>
          </a:xfrm>
        </p:grpSpPr>
        <p:sp>
          <p:nvSpPr>
            <p:cNvPr id="441" name=""/>
            <p:cNvSpPr/>
            <p:nvPr/>
          </p:nvSpPr>
          <p:spPr>
            <a:xfrm>
              <a:off x="306360" y="2819880"/>
              <a:ext cx="2752560" cy="2940840"/>
            </a:xfrm>
            <a:custGeom>
              <a:avLst/>
              <a:gdLst/>
              <a:ahLst/>
              <a:rect l="l" t="t" r="r" b="b"/>
              <a:pathLst>
                <a:path w="1683" h="1888">
                  <a:moveTo>
                    <a:pt x="478" y="82"/>
                  </a:moveTo>
                  <a:lnTo>
                    <a:pt x="418" y="103"/>
                  </a:lnTo>
                  <a:lnTo>
                    <a:pt x="362" y="129"/>
                  </a:lnTo>
                  <a:lnTo>
                    <a:pt x="309" y="161"/>
                  </a:lnTo>
                  <a:lnTo>
                    <a:pt x="256" y="196"/>
                  </a:lnTo>
                  <a:lnTo>
                    <a:pt x="210" y="236"/>
                  </a:lnTo>
                  <a:lnTo>
                    <a:pt x="166" y="280"/>
                  </a:lnTo>
                  <a:lnTo>
                    <a:pt x="128" y="326"/>
                  </a:lnTo>
                  <a:lnTo>
                    <a:pt x="93" y="378"/>
                  </a:lnTo>
                  <a:lnTo>
                    <a:pt x="64" y="430"/>
                  </a:lnTo>
                  <a:lnTo>
                    <a:pt x="39" y="485"/>
                  </a:lnTo>
                  <a:lnTo>
                    <a:pt x="20" y="543"/>
                  </a:lnTo>
                  <a:lnTo>
                    <a:pt x="7" y="601"/>
                  </a:lnTo>
                  <a:lnTo>
                    <a:pt x="0" y="659"/>
                  </a:lnTo>
                  <a:lnTo>
                    <a:pt x="0" y="719"/>
                  </a:lnTo>
                  <a:lnTo>
                    <a:pt x="3" y="776"/>
                  </a:lnTo>
                  <a:lnTo>
                    <a:pt x="13" y="834"/>
                  </a:lnTo>
                  <a:lnTo>
                    <a:pt x="31" y="893"/>
                  </a:lnTo>
                  <a:lnTo>
                    <a:pt x="53" y="957"/>
                  </a:lnTo>
                  <a:lnTo>
                    <a:pt x="73" y="1024"/>
                  </a:lnTo>
                  <a:lnTo>
                    <a:pt x="95" y="1087"/>
                  </a:lnTo>
                  <a:lnTo>
                    <a:pt x="114" y="1150"/>
                  </a:lnTo>
                  <a:lnTo>
                    <a:pt x="134" y="1209"/>
                  </a:lnTo>
                  <a:lnTo>
                    <a:pt x="152" y="1266"/>
                  </a:lnTo>
                  <a:lnTo>
                    <a:pt x="166" y="1321"/>
                  </a:lnTo>
                  <a:lnTo>
                    <a:pt x="182" y="1371"/>
                  </a:lnTo>
                  <a:lnTo>
                    <a:pt x="195" y="1414"/>
                  </a:lnTo>
                  <a:lnTo>
                    <a:pt x="207" y="1455"/>
                  </a:lnTo>
                  <a:lnTo>
                    <a:pt x="216" y="1488"/>
                  </a:lnTo>
                  <a:lnTo>
                    <a:pt x="222" y="1519"/>
                  </a:lnTo>
                  <a:lnTo>
                    <a:pt x="227" y="1541"/>
                  </a:lnTo>
                  <a:lnTo>
                    <a:pt x="231" y="1559"/>
                  </a:lnTo>
                  <a:lnTo>
                    <a:pt x="232" y="1568"/>
                  </a:lnTo>
                  <a:lnTo>
                    <a:pt x="230" y="1575"/>
                  </a:lnTo>
                  <a:lnTo>
                    <a:pt x="247" y="1616"/>
                  </a:lnTo>
                  <a:lnTo>
                    <a:pt x="269" y="1657"/>
                  </a:lnTo>
                  <a:lnTo>
                    <a:pt x="294" y="1694"/>
                  </a:lnTo>
                  <a:lnTo>
                    <a:pt x="327" y="1728"/>
                  </a:lnTo>
                  <a:lnTo>
                    <a:pt x="365" y="1763"/>
                  </a:lnTo>
                  <a:lnTo>
                    <a:pt x="408" y="1793"/>
                  </a:lnTo>
                  <a:lnTo>
                    <a:pt x="452" y="1817"/>
                  </a:lnTo>
                  <a:lnTo>
                    <a:pt x="498" y="1838"/>
                  </a:lnTo>
                  <a:lnTo>
                    <a:pt x="550" y="1858"/>
                  </a:lnTo>
                  <a:lnTo>
                    <a:pt x="603" y="1872"/>
                  </a:lnTo>
                  <a:lnTo>
                    <a:pt x="660" y="1881"/>
                  </a:lnTo>
                  <a:lnTo>
                    <a:pt x="716" y="1887"/>
                  </a:lnTo>
                  <a:lnTo>
                    <a:pt x="775" y="1885"/>
                  </a:lnTo>
                  <a:lnTo>
                    <a:pt x="835" y="1884"/>
                  </a:lnTo>
                  <a:lnTo>
                    <a:pt x="894" y="1876"/>
                  </a:lnTo>
                  <a:lnTo>
                    <a:pt x="952" y="1865"/>
                  </a:lnTo>
                  <a:lnTo>
                    <a:pt x="1011" y="1849"/>
                  </a:lnTo>
                  <a:lnTo>
                    <a:pt x="1071" y="1827"/>
                  </a:lnTo>
                  <a:lnTo>
                    <a:pt x="1132" y="1803"/>
                  </a:lnTo>
                  <a:lnTo>
                    <a:pt x="1187" y="1777"/>
                  </a:lnTo>
                  <a:lnTo>
                    <a:pt x="1243" y="1747"/>
                  </a:lnTo>
                  <a:lnTo>
                    <a:pt x="1296" y="1719"/>
                  </a:lnTo>
                  <a:lnTo>
                    <a:pt x="1346" y="1683"/>
                  </a:lnTo>
                  <a:lnTo>
                    <a:pt x="1391" y="1648"/>
                  </a:lnTo>
                  <a:lnTo>
                    <a:pt x="1434" y="1611"/>
                  </a:lnTo>
                  <a:lnTo>
                    <a:pt x="1472" y="1573"/>
                  </a:lnTo>
                  <a:lnTo>
                    <a:pt x="1503" y="1535"/>
                  </a:lnTo>
                  <a:lnTo>
                    <a:pt x="1532" y="1495"/>
                  </a:lnTo>
                  <a:lnTo>
                    <a:pt x="1554" y="1455"/>
                  </a:lnTo>
                  <a:lnTo>
                    <a:pt x="1571" y="1414"/>
                  </a:lnTo>
                  <a:lnTo>
                    <a:pt x="1585" y="1374"/>
                  </a:lnTo>
                  <a:lnTo>
                    <a:pt x="1590" y="1335"/>
                  </a:lnTo>
                  <a:lnTo>
                    <a:pt x="1591" y="1297"/>
                  </a:lnTo>
                  <a:lnTo>
                    <a:pt x="1589" y="1260"/>
                  </a:lnTo>
                  <a:lnTo>
                    <a:pt x="1581" y="1224"/>
                  </a:lnTo>
                  <a:lnTo>
                    <a:pt x="1563" y="1165"/>
                  </a:lnTo>
                  <a:lnTo>
                    <a:pt x="1549" y="1108"/>
                  </a:lnTo>
                  <a:lnTo>
                    <a:pt x="1538" y="1051"/>
                  </a:lnTo>
                  <a:lnTo>
                    <a:pt x="1531" y="996"/>
                  </a:lnTo>
                  <a:lnTo>
                    <a:pt x="1528" y="944"/>
                  </a:lnTo>
                  <a:lnTo>
                    <a:pt x="1530" y="894"/>
                  </a:lnTo>
                  <a:lnTo>
                    <a:pt x="1534" y="849"/>
                  </a:lnTo>
                  <a:lnTo>
                    <a:pt x="1543" y="807"/>
                  </a:lnTo>
                  <a:lnTo>
                    <a:pt x="1557" y="771"/>
                  </a:lnTo>
                  <a:lnTo>
                    <a:pt x="1572" y="738"/>
                  </a:lnTo>
                  <a:lnTo>
                    <a:pt x="1592" y="713"/>
                  </a:lnTo>
                  <a:lnTo>
                    <a:pt x="1613" y="694"/>
                  </a:lnTo>
                  <a:lnTo>
                    <a:pt x="1639" y="684"/>
                  </a:lnTo>
                  <a:lnTo>
                    <a:pt x="1652" y="675"/>
                  </a:lnTo>
                  <a:lnTo>
                    <a:pt x="1665" y="661"/>
                  </a:lnTo>
                  <a:lnTo>
                    <a:pt x="1674" y="640"/>
                  </a:lnTo>
                  <a:lnTo>
                    <a:pt x="1679" y="613"/>
                  </a:lnTo>
                  <a:lnTo>
                    <a:pt x="1681" y="582"/>
                  </a:lnTo>
                  <a:lnTo>
                    <a:pt x="1682" y="542"/>
                  </a:lnTo>
                  <a:lnTo>
                    <a:pt x="1678" y="500"/>
                  </a:lnTo>
                  <a:lnTo>
                    <a:pt x="1671" y="457"/>
                  </a:lnTo>
                  <a:lnTo>
                    <a:pt x="1663" y="409"/>
                  </a:lnTo>
                  <a:lnTo>
                    <a:pt x="1648" y="362"/>
                  </a:lnTo>
                  <a:lnTo>
                    <a:pt x="1634" y="311"/>
                  </a:lnTo>
                  <a:lnTo>
                    <a:pt x="1617" y="274"/>
                  </a:lnTo>
                  <a:lnTo>
                    <a:pt x="1597" y="236"/>
                  </a:lnTo>
                  <a:lnTo>
                    <a:pt x="1568" y="201"/>
                  </a:lnTo>
                  <a:lnTo>
                    <a:pt x="1538" y="168"/>
                  </a:lnTo>
                  <a:lnTo>
                    <a:pt x="1501" y="137"/>
                  </a:lnTo>
                  <a:lnTo>
                    <a:pt x="1459" y="110"/>
                  </a:lnTo>
                  <a:lnTo>
                    <a:pt x="1413" y="85"/>
                  </a:lnTo>
                  <a:lnTo>
                    <a:pt x="1362" y="65"/>
                  </a:lnTo>
                  <a:lnTo>
                    <a:pt x="1308" y="44"/>
                  </a:lnTo>
                  <a:lnTo>
                    <a:pt x="1251" y="29"/>
                  </a:lnTo>
                  <a:lnTo>
                    <a:pt x="1189" y="18"/>
                  </a:lnTo>
                  <a:lnTo>
                    <a:pt x="1125" y="7"/>
                  </a:lnTo>
                  <a:lnTo>
                    <a:pt x="1057" y="2"/>
                  </a:lnTo>
                  <a:lnTo>
                    <a:pt x="990" y="0"/>
                  </a:lnTo>
                  <a:lnTo>
                    <a:pt x="919" y="4"/>
                  </a:lnTo>
                  <a:lnTo>
                    <a:pt x="845" y="7"/>
                  </a:lnTo>
                  <a:lnTo>
                    <a:pt x="774" y="15"/>
                  </a:lnTo>
                  <a:lnTo>
                    <a:pt x="700" y="29"/>
                  </a:lnTo>
                  <a:lnTo>
                    <a:pt x="624" y="42"/>
                  </a:lnTo>
                  <a:lnTo>
                    <a:pt x="551" y="61"/>
                  </a:lnTo>
                  <a:lnTo>
                    <a:pt x="478" y="82"/>
                  </a:lnTo>
                </a:path>
              </a:pathLst>
            </a:custGeom>
            <a:solidFill>
              <a:srgbClr val="fcfeb9"/>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932760" y="2276640"/>
              <a:ext cx="14882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体</a:t>
              </a:r>
              <a:endParaRPr b="0" lang="en-US" sz="2800" spc="-1" strike="noStrike">
                <a:solidFill>
                  <a:srgbClr val="000000"/>
                </a:solidFill>
                <a:latin typeface="Arial"/>
              </a:endParaRPr>
            </a:p>
          </p:txBody>
        </p:sp>
      </p:grpSp>
      <p:grpSp>
        <p:nvGrpSpPr>
          <p:cNvPr id="443" name=""/>
          <p:cNvGrpSpPr/>
          <p:nvPr/>
        </p:nvGrpSpPr>
        <p:grpSpPr>
          <a:xfrm>
            <a:off x="611280" y="3043080"/>
            <a:ext cx="1904400" cy="2466360"/>
            <a:chOff x="611280" y="3043080"/>
            <a:chExt cx="1904400" cy="2466360"/>
          </a:xfrm>
        </p:grpSpPr>
        <p:sp>
          <p:nvSpPr>
            <p:cNvPr id="444" name=""/>
            <p:cNvSpPr/>
            <p:nvPr/>
          </p:nvSpPr>
          <p:spPr>
            <a:xfrm>
              <a:off x="70560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5" name=""/>
            <p:cNvSpPr/>
            <p:nvPr/>
          </p:nvSpPr>
          <p:spPr>
            <a:xfrm>
              <a:off x="1894680" y="34653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6" name=""/>
            <p:cNvSpPr/>
            <p:nvPr/>
          </p:nvSpPr>
          <p:spPr>
            <a:xfrm>
              <a:off x="886320" y="48718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7" name=""/>
            <p:cNvSpPr/>
            <p:nvPr/>
          </p:nvSpPr>
          <p:spPr>
            <a:xfrm>
              <a:off x="169596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48" name=""/>
            <p:cNvSpPr/>
            <p:nvPr/>
          </p:nvSpPr>
          <p:spPr>
            <a:xfrm>
              <a:off x="1948680" y="46227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grpSp>
          <p:nvGrpSpPr>
            <p:cNvPr id="449" name=""/>
            <p:cNvGrpSpPr/>
            <p:nvPr/>
          </p:nvGrpSpPr>
          <p:grpSpPr>
            <a:xfrm>
              <a:off x="611280" y="3840120"/>
              <a:ext cx="1587240" cy="978120"/>
              <a:chOff x="611280" y="3840120"/>
              <a:chExt cx="1587240" cy="978120"/>
            </a:xfrm>
          </p:grpSpPr>
          <p:sp>
            <p:nvSpPr>
              <p:cNvPr id="450" name=""/>
              <p:cNvSpPr/>
              <p:nvPr/>
            </p:nvSpPr>
            <p:spPr>
              <a:xfrm>
                <a:off x="611280" y="3840120"/>
                <a:ext cx="1587240" cy="978120"/>
              </a:xfrm>
              <a:prstGeom prst="ellipse">
                <a:avLst/>
              </a:prstGeom>
              <a:solidFill>
                <a:srgbClr val="ffff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804960" y="395748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sp>
            <p:nvSpPr>
              <p:cNvPr id="452" name=""/>
              <p:cNvSpPr/>
              <p:nvPr/>
            </p:nvSpPr>
            <p:spPr>
              <a:xfrm>
                <a:off x="1514520" y="401796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Wingdings"/>
                    <a:ea typeface="Wingdings"/>
                  </a:rPr>
                  <a:t></a:t>
                </a:r>
                <a:endParaRPr b="0" lang="en-US" sz="3600" spc="-1" strike="noStrike">
                  <a:solidFill>
                    <a:srgbClr val="000000"/>
                  </a:solidFill>
                  <a:latin typeface="Arial"/>
                </a:endParaRPr>
              </a:p>
            </p:txBody>
          </p:sp>
        </p:grpSp>
      </p:grpSp>
      <p:sp>
        <p:nvSpPr>
          <p:cNvPr id="453" name="PlaceHolder 1"/>
          <p:cNvSpPr>
            <a:spLocks noGrp="1"/>
          </p:cNvSpPr>
          <p:nvPr>
            <p:ph type="title"/>
          </p:nvPr>
        </p:nvSpPr>
        <p:spPr>
          <a:xfrm>
            <a:off x="611280" y="333360"/>
            <a:ext cx="8229600" cy="13716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假设检验的过程</a:t>
            </a:r>
            <a:endParaRPr b="0" lang="en-US" sz="3200" spc="-1" strike="noStrike">
              <a:solidFill>
                <a:srgbClr val="000000"/>
              </a:solidFill>
              <a:latin typeface="Arial"/>
            </a:endParaRPr>
          </a:p>
        </p:txBody>
      </p:sp>
      <p:grpSp>
        <p:nvGrpSpPr>
          <p:cNvPr id="454" name=""/>
          <p:cNvGrpSpPr/>
          <p:nvPr/>
        </p:nvGrpSpPr>
        <p:grpSpPr>
          <a:xfrm>
            <a:off x="681120" y="3867120"/>
            <a:ext cx="5072040" cy="2638440"/>
            <a:chOff x="681120" y="3867120"/>
            <a:chExt cx="5072040" cy="2638440"/>
          </a:xfrm>
        </p:grpSpPr>
        <p:grpSp>
          <p:nvGrpSpPr>
            <p:cNvPr id="455" name=""/>
            <p:cNvGrpSpPr/>
            <p:nvPr/>
          </p:nvGrpSpPr>
          <p:grpSpPr>
            <a:xfrm>
              <a:off x="1465200" y="4902120"/>
              <a:ext cx="2259000" cy="1562040"/>
              <a:chOff x="1465200" y="4902120"/>
              <a:chExt cx="2259000" cy="1562040"/>
            </a:xfrm>
          </p:grpSpPr>
          <p:sp>
            <p:nvSpPr>
              <p:cNvPr id="456" name=""/>
              <p:cNvSpPr/>
              <p:nvPr/>
            </p:nvSpPr>
            <p:spPr>
              <a:xfrm>
                <a:off x="1465200" y="4902120"/>
                <a:ext cx="2259000" cy="1548000"/>
              </a:xfrm>
              <a:custGeom>
                <a:avLst/>
                <a:gdLst/>
                <a:ahLst/>
                <a:rect l="l" t="t" r="r" b="b"/>
                <a:pathLst>
                  <a:path w="1423" h="975">
                    <a:moveTo>
                      <a:pt x="0" y="0"/>
                    </a:moveTo>
                    <a:lnTo>
                      <a:pt x="0" y="62"/>
                    </a:lnTo>
                    <a:lnTo>
                      <a:pt x="25" y="109"/>
                    </a:lnTo>
                    <a:lnTo>
                      <a:pt x="45" y="147"/>
                    </a:lnTo>
                    <a:lnTo>
                      <a:pt x="74" y="193"/>
                    </a:lnTo>
                    <a:lnTo>
                      <a:pt x="110" y="244"/>
                    </a:lnTo>
                    <a:lnTo>
                      <a:pt x="143" y="279"/>
                    </a:lnTo>
                    <a:lnTo>
                      <a:pt x="187" y="331"/>
                    </a:lnTo>
                    <a:lnTo>
                      <a:pt x="232" y="381"/>
                    </a:lnTo>
                    <a:lnTo>
                      <a:pt x="276" y="427"/>
                    </a:lnTo>
                    <a:lnTo>
                      <a:pt x="335" y="482"/>
                    </a:lnTo>
                    <a:lnTo>
                      <a:pt x="379" y="518"/>
                    </a:lnTo>
                    <a:lnTo>
                      <a:pt x="442" y="564"/>
                    </a:lnTo>
                    <a:lnTo>
                      <a:pt x="511" y="614"/>
                    </a:lnTo>
                    <a:lnTo>
                      <a:pt x="581" y="659"/>
                    </a:lnTo>
                    <a:lnTo>
                      <a:pt x="634" y="691"/>
                    </a:lnTo>
                    <a:lnTo>
                      <a:pt x="710" y="723"/>
                    </a:lnTo>
                    <a:lnTo>
                      <a:pt x="773" y="746"/>
                    </a:lnTo>
                    <a:lnTo>
                      <a:pt x="840" y="764"/>
                    </a:lnTo>
                    <a:lnTo>
                      <a:pt x="911" y="777"/>
                    </a:lnTo>
                    <a:lnTo>
                      <a:pt x="953" y="779"/>
                    </a:lnTo>
                    <a:lnTo>
                      <a:pt x="1003" y="777"/>
                    </a:lnTo>
                    <a:lnTo>
                      <a:pt x="1041" y="773"/>
                    </a:lnTo>
                    <a:lnTo>
                      <a:pt x="1078" y="768"/>
                    </a:lnTo>
                    <a:lnTo>
                      <a:pt x="1107" y="759"/>
                    </a:lnTo>
                    <a:lnTo>
                      <a:pt x="1107" y="974"/>
                    </a:lnTo>
                    <a:lnTo>
                      <a:pt x="1145" y="920"/>
                    </a:lnTo>
                    <a:lnTo>
                      <a:pt x="1192" y="857"/>
                    </a:lnTo>
                    <a:lnTo>
                      <a:pt x="1241" y="795"/>
                    </a:lnTo>
                    <a:lnTo>
                      <a:pt x="1299" y="737"/>
                    </a:lnTo>
                    <a:lnTo>
                      <a:pt x="1344" y="704"/>
                    </a:lnTo>
                    <a:lnTo>
                      <a:pt x="1422" y="670"/>
                    </a:lnTo>
                    <a:lnTo>
                      <a:pt x="1421" y="623"/>
                    </a:lnTo>
                    <a:lnTo>
                      <a:pt x="1358" y="591"/>
                    </a:lnTo>
                    <a:lnTo>
                      <a:pt x="1291" y="556"/>
                    </a:lnTo>
                    <a:lnTo>
                      <a:pt x="1224" y="504"/>
                    </a:lnTo>
                    <a:lnTo>
                      <a:pt x="1170" y="454"/>
                    </a:lnTo>
                    <a:lnTo>
                      <a:pt x="1139" y="422"/>
                    </a:lnTo>
                    <a:lnTo>
                      <a:pt x="1105" y="370"/>
                    </a:lnTo>
                    <a:lnTo>
                      <a:pt x="1105" y="553"/>
                    </a:lnTo>
                    <a:lnTo>
                      <a:pt x="1041" y="564"/>
                    </a:lnTo>
                    <a:lnTo>
                      <a:pt x="983" y="568"/>
                    </a:lnTo>
                    <a:lnTo>
                      <a:pt x="915" y="564"/>
                    </a:lnTo>
                    <a:lnTo>
                      <a:pt x="849" y="555"/>
                    </a:lnTo>
                    <a:lnTo>
                      <a:pt x="773" y="536"/>
                    </a:lnTo>
                    <a:lnTo>
                      <a:pt x="705" y="518"/>
                    </a:lnTo>
                    <a:lnTo>
                      <a:pt x="610" y="484"/>
                    </a:lnTo>
                    <a:lnTo>
                      <a:pt x="531" y="450"/>
                    </a:lnTo>
                    <a:lnTo>
                      <a:pt x="462" y="413"/>
                    </a:lnTo>
                    <a:lnTo>
                      <a:pt x="388" y="368"/>
                    </a:lnTo>
                    <a:lnTo>
                      <a:pt x="353" y="346"/>
                    </a:lnTo>
                    <a:lnTo>
                      <a:pt x="321" y="327"/>
                    </a:lnTo>
                    <a:lnTo>
                      <a:pt x="294" y="307"/>
                    </a:lnTo>
                    <a:lnTo>
                      <a:pt x="268" y="286"/>
                    </a:lnTo>
                    <a:lnTo>
                      <a:pt x="218" y="249"/>
                    </a:lnTo>
                    <a:lnTo>
                      <a:pt x="185" y="219"/>
                    </a:lnTo>
                    <a:lnTo>
                      <a:pt x="160" y="195"/>
                    </a:lnTo>
                    <a:lnTo>
                      <a:pt x="135" y="171"/>
                    </a:lnTo>
                    <a:lnTo>
                      <a:pt x="111" y="145"/>
                    </a:lnTo>
                    <a:lnTo>
                      <a:pt x="90" y="122"/>
                    </a:lnTo>
                    <a:lnTo>
                      <a:pt x="67" y="95"/>
                    </a:lnTo>
                    <a:lnTo>
                      <a:pt x="43" y="63"/>
                    </a:lnTo>
                    <a:lnTo>
                      <a:pt x="19" y="32"/>
                    </a:lnTo>
                    <a:lnTo>
                      <a:pt x="0" y="0"/>
                    </a:lnTo>
                  </a:path>
                </a:pathLst>
              </a:custGeom>
              <a:solidFill>
                <a:srgbClr val="008000"/>
              </a:solidFill>
              <a:ln w="0">
                <a:noFill/>
              </a:ln>
              <a:effectLst>
                <a:outerShdw dist="107932" dir="27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68440" y="4997520"/>
                <a:ext cx="2255760" cy="1466640"/>
              </a:xfrm>
              <a:custGeom>
                <a:avLst/>
                <a:gdLst/>
                <a:ahLst/>
                <a:rect l="l" t="t" r="r" b="b"/>
                <a:pathLst>
                  <a:path w="1421" h="924">
                    <a:moveTo>
                      <a:pt x="0" y="0"/>
                    </a:moveTo>
                    <a:lnTo>
                      <a:pt x="19" y="52"/>
                    </a:lnTo>
                    <a:lnTo>
                      <a:pt x="36" y="94"/>
                    </a:lnTo>
                    <a:lnTo>
                      <a:pt x="54" y="129"/>
                    </a:lnTo>
                    <a:lnTo>
                      <a:pt x="76" y="169"/>
                    </a:lnTo>
                    <a:lnTo>
                      <a:pt x="108" y="224"/>
                    </a:lnTo>
                    <a:lnTo>
                      <a:pt x="143" y="274"/>
                    </a:lnTo>
                    <a:lnTo>
                      <a:pt x="187" y="325"/>
                    </a:lnTo>
                    <a:lnTo>
                      <a:pt x="232" y="374"/>
                    </a:lnTo>
                    <a:lnTo>
                      <a:pt x="277" y="419"/>
                    </a:lnTo>
                    <a:lnTo>
                      <a:pt x="335" y="473"/>
                    </a:lnTo>
                    <a:lnTo>
                      <a:pt x="379" y="508"/>
                    </a:lnTo>
                    <a:lnTo>
                      <a:pt x="442" y="553"/>
                    </a:lnTo>
                    <a:lnTo>
                      <a:pt x="511" y="602"/>
                    </a:lnTo>
                    <a:lnTo>
                      <a:pt x="581" y="647"/>
                    </a:lnTo>
                    <a:lnTo>
                      <a:pt x="634" y="678"/>
                    </a:lnTo>
                    <a:lnTo>
                      <a:pt x="710" y="709"/>
                    </a:lnTo>
                    <a:lnTo>
                      <a:pt x="773" y="731"/>
                    </a:lnTo>
                    <a:lnTo>
                      <a:pt x="840" y="749"/>
                    </a:lnTo>
                    <a:lnTo>
                      <a:pt x="911" y="763"/>
                    </a:lnTo>
                    <a:lnTo>
                      <a:pt x="953" y="765"/>
                    </a:lnTo>
                    <a:lnTo>
                      <a:pt x="1003" y="763"/>
                    </a:lnTo>
                    <a:lnTo>
                      <a:pt x="1041" y="758"/>
                    </a:lnTo>
                    <a:lnTo>
                      <a:pt x="1077" y="754"/>
                    </a:lnTo>
                    <a:lnTo>
                      <a:pt x="1107" y="745"/>
                    </a:lnTo>
                    <a:lnTo>
                      <a:pt x="1107" y="923"/>
                    </a:lnTo>
                    <a:lnTo>
                      <a:pt x="1147" y="867"/>
                    </a:lnTo>
                    <a:lnTo>
                      <a:pt x="1188" y="816"/>
                    </a:lnTo>
                    <a:lnTo>
                      <a:pt x="1242" y="749"/>
                    </a:lnTo>
                    <a:lnTo>
                      <a:pt x="1300" y="696"/>
                    </a:lnTo>
                    <a:lnTo>
                      <a:pt x="1353" y="652"/>
                    </a:lnTo>
                    <a:lnTo>
                      <a:pt x="1420" y="611"/>
                    </a:lnTo>
                    <a:lnTo>
                      <a:pt x="1357" y="580"/>
                    </a:lnTo>
                    <a:lnTo>
                      <a:pt x="1292" y="544"/>
                    </a:lnTo>
                    <a:lnTo>
                      <a:pt x="1224" y="495"/>
                    </a:lnTo>
                    <a:lnTo>
                      <a:pt x="1170" y="446"/>
                    </a:lnTo>
                    <a:lnTo>
                      <a:pt x="1139" y="415"/>
                    </a:lnTo>
                    <a:lnTo>
                      <a:pt x="1105" y="363"/>
                    </a:lnTo>
                    <a:lnTo>
                      <a:pt x="1105" y="542"/>
                    </a:lnTo>
                    <a:lnTo>
                      <a:pt x="1041" y="553"/>
                    </a:lnTo>
                    <a:lnTo>
                      <a:pt x="983" y="558"/>
                    </a:lnTo>
                    <a:lnTo>
                      <a:pt x="915" y="553"/>
                    </a:lnTo>
                    <a:lnTo>
                      <a:pt x="849" y="544"/>
                    </a:lnTo>
                    <a:lnTo>
                      <a:pt x="773" y="526"/>
                    </a:lnTo>
                    <a:lnTo>
                      <a:pt x="706" y="508"/>
                    </a:lnTo>
                    <a:lnTo>
                      <a:pt x="609" y="475"/>
                    </a:lnTo>
                    <a:lnTo>
                      <a:pt x="532" y="441"/>
                    </a:lnTo>
                    <a:lnTo>
                      <a:pt x="462" y="406"/>
                    </a:lnTo>
                    <a:lnTo>
                      <a:pt x="388" y="361"/>
                    </a:lnTo>
                    <a:lnTo>
                      <a:pt x="354" y="340"/>
                    </a:lnTo>
                    <a:lnTo>
                      <a:pt x="322" y="321"/>
                    </a:lnTo>
                    <a:lnTo>
                      <a:pt x="294" y="301"/>
                    </a:lnTo>
                    <a:lnTo>
                      <a:pt x="268" y="280"/>
                    </a:lnTo>
                    <a:lnTo>
                      <a:pt x="219" y="245"/>
                    </a:lnTo>
                    <a:lnTo>
                      <a:pt x="186" y="215"/>
                    </a:lnTo>
                    <a:lnTo>
                      <a:pt x="161" y="192"/>
                    </a:lnTo>
                    <a:lnTo>
                      <a:pt x="135" y="167"/>
                    </a:lnTo>
                    <a:lnTo>
                      <a:pt x="111" y="142"/>
                    </a:lnTo>
                    <a:lnTo>
                      <a:pt x="91" y="120"/>
                    </a:lnTo>
                    <a:lnTo>
                      <a:pt x="67" y="94"/>
                    </a:lnTo>
                    <a:lnTo>
                      <a:pt x="43" y="62"/>
                    </a:lnTo>
                    <a:lnTo>
                      <a:pt x="20" y="32"/>
                    </a:lnTo>
                    <a:lnTo>
                      <a:pt x="0" y="0"/>
                    </a:lnTo>
                  </a:path>
                </a:pathLst>
              </a:custGeom>
              <a:solidFill>
                <a:srgbClr val="00ff00"/>
              </a:solidFill>
              <a:ln w="0">
                <a:noFill/>
              </a:ln>
              <a:effectLst>
                <a:outerShdw dist="107932" dir="27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
            <p:cNvSpPr/>
            <p:nvPr/>
          </p:nvSpPr>
          <p:spPr>
            <a:xfrm>
              <a:off x="3689280" y="4976640"/>
              <a:ext cx="1893960" cy="452880"/>
            </a:xfrm>
            <a:prstGeom prst="roundRect">
              <a:avLst>
                <a:gd name="adj" fmla="val 16667"/>
              </a:avLst>
            </a:prstGeom>
            <a:solidFill>
              <a:srgbClr val="ff8fd2"/>
            </a:solidFill>
            <a:ln w="0">
              <a:noFill/>
            </a:ln>
          </p:spPr>
          <p:style>
            <a:lnRef idx="0"/>
            <a:fillRef idx="0"/>
            <a:effectRef idx="0"/>
            <a:fontRef idx="minor"/>
          </p:style>
          <p:txBody>
            <a:bodyPr lIns="90360" rIns="90360" tIns="44280" bIns="4428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抽取随机样本</a:t>
              </a:r>
              <a:endParaRPr b="0" lang="en-US" sz="2100" spc="-1" strike="noStrike">
                <a:solidFill>
                  <a:srgbClr val="000000"/>
                </a:solidFill>
                <a:latin typeface="Arial"/>
              </a:endParaRPr>
            </a:p>
          </p:txBody>
        </p:sp>
        <p:grpSp>
          <p:nvGrpSpPr>
            <p:cNvPr id="459" name=""/>
            <p:cNvGrpSpPr/>
            <p:nvPr/>
          </p:nvGrpSpPr>
          <p:grpSpPr>
            <a:xfrm>
              <a:off x="3484440" y="5527800"/>
              <a:ext cx="2268720" cy="977760"/>
              <a:chOff x="3484440" y="5527800"/>
              <a:chExt cx="2268720" cy="977760"/>
            </a:xfrm>
          </p:grpSpPr>
          <p:sp>
            <p:nvSpPr>
              <p:cNvPr id="460" name=""/>
              <p:cNvSpPr/>
              <p:nvPr/>
            </p:nvSpPr>
            <p:spPr>
              <a:xfrm>
                <a:off x="3851280" y="5527800"/>
                <a:ext cx="1587600" cy="977760"/>
              </a:xfrm>
              <a:prstGeom prst="ellipse">
                <a:avLst/>
              </a:prstGeom>
              <a:solidFill>
                <a:srgbClr val="9999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3484440" y="5597640"/>
                <a:ext cx="2268720" cy="856440"/>
                <a:chOff x="3484440" y="5597640"/>
                <a:chExt cx="2268720" cy="856440"/>
              </a:xfrm>
            </p:grpSpPr>
            <p:sp>
              <p:nvSpPr>
                <p:cNvPr id="462" name=""/>
                <p:cNvSpPr/>
                <p:nvPr/>
              </p:nvSpPr>
              <p:spPr>
                <a:xfrm>
                  <a:off x="3484440" y="5597640"/>
                  <a:ext cx="2268720" cy="856440"/>
                </a:xfrm>
                <a:prstGeom prst="rect">
                  <a:avLst/>
                </a:prstGeom>
                <a:noFill/>
                <a:ln w="0">
                  <a:noFill/>
                </a:ln>
              </p:spPr>
              <p:style>
                <a:lnRef idx="0"/>
                <a:fillRef idx="0"/>
                <a:effectRef idx="0"/>
                <a:fontRef idx="minor"/>
              </p:style>
              <p:txBody>
                <a:bodyPr lIns="90360" rIns="90360" tIns="44280" bIns="4428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均值</a:t>
                  </a:r>
                  <a:br>
                    <a:rPr sz="2400"/>
                  </a:br>
                  <a:r>
                    <a:rPr b="1" lang="zh-CN" sz="2400" spc="-1" strike="noStrike">
                      <a:solidFill>
                        <a:srgbClr val="000000"/>
                      </a:solidFill>
                      <a:latin typeface="Arial"/>
                    </a:rPr>
                    <a:t> </a:t>
                  </a:r>
                  <a:r>
                    <a:rPr b="1" i="1" lang="zh-CN" sz="2400" spc="-1" strike="noStrike">
                      <a:solidFill>
                        <a:srgbClr val="000000"/>
                      </a:solidFill>
                      <a:latin typeface="Symbol"/>
                      <a:ea typeface="Symbol"/>
                    </a:rPr>
                    <a:t></a:t>
                  </a:r>
                  <a:r>
                    <a:rPr b="1" i="1" lang="zh-CN" sz="2400" spc="-1" strike="noStrike">
                      <a:solidFill>
                        <a:srgbClr val="000000"/>
                      </a:solidFill>
                      <a:latin typeface="Times New Roman"/>
                    </a:rPr>
                    <a:t>x</a:t>
                  </a:r>
                  <a:r>
                    <a:rPr b="1" i="1" lang="zh-CN" sz="2400" spc="-1" strike="noStrike">
                      <a:solidFill>
                        <a:srgbClr val="000000"/>
                      </a:solidFill>
                      <a:latin typeface="Arial"/>
                    </a:rPr>
                    <a:t> </a:t>
                  </a:r>
                  <a:r>
                    <a:rPr b="1" lang="zh-CN" sz="2400" spc="-1" strike="noStrike">
                      <a:solidFill>
                        <a:srgbClr val="000000"/>
                      </a:solidFill>
                      <a:latin typeface="Arial"/>
                    </a:rPr>
                    <a:t>= 20</a:t>
                  </a:r>
                  <a:endParaRPr b="0" lang="en-US" sz="2400" spc="-1" strike="noStrike">
                    <a:solidFill>
                      <a:srgbClr val="000000"/>
                    </a:solidFill>
                    <a:latin typeface="Arial"/>
                  </a:endParaRPr>
                </a:p>
              </p:txBody>
            </p:sp>
            <p:sp>
              <p:nvSpPr>
                <p:cNvPr id="463" name=""/>
                <p:cNvSpPr/>
                <p:nvPr/>
              </p:nvSpPr>
              <p:spPr>
                <a:xfrm>
                  <a:off x="3814560" y="582120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464" name=""/>
                <p:cNvSpPr/>
                <p:nvPr/>
              </p:nvSpPr>
              <p:spPr>
                <a:xfrm>
                  <a:off x="4944600" y="565956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endParaRPr b="0" lang="en-US" sz="2800" spc="-1" strike="noStrike">
                    <a:solidFill>
                      <a:srgbClr val="000000"/>
                    </a:solidFill>
                    <a:latin typeface="Arial"/>
                  </a:endParaRPr>
                </a:p>
              </p:txBody>
            </p:sp>
          </p:grpSp>
        </p:grpSp>
        <p:grpSp>
          <p:nvGrpSpPr>
            <p:cNvPr id="465" name=""/>
            <p:cNvGrpSpPr/>
            <p:nvPr/>
          </p:nvGrpSpPr>
          <p:grpSpPr>
            <a:xfrm>
              <a:off x="681120" y="3867120"/>
              <a:ext cx="1587240" cy="977760"/>
              <a:chOff x="681120" y="3867120"/>
              <a:chExt cx="1587240" cy="977760"/>
            </a:xfrm>
          </p:grpSpPr>
          <p:sp>
            <p:nvSpPr>
              <p:cNvPr id="466" name=""/>
              <p:cNvSpPr/>
              <p:nvPr/>
            </p:nvSpPr>
            <p:spPr>
              <a:xfrm>
                <a:off x="681120" y="3867120"/>
                <a:ext cx="1587240" cy="97776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874800" y="398412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468" name=""/>
              <p:cNvSpPr/>
              <p:nvPr/>
            </p:nvSpPr>
            <p:spPr>
              <a:xfrm>
                <a:off x="1584360" y="404460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Wingdings"/>
                    <a:ea typeface="Wingdings"/>
                  </a:rPr>
                  <a:t></a:t>
                </a:r>
                <a:endParaRPr b="0" lang="en-US" sz="3600" spc="-1" strike="noStrike">
                  <a:solidFill>
                    <a:srgbClr val="000000"/>
                  </a:solidFill>
                  <a:latin typeface="Arial"/>
                </a:endParaRPr>
              </a:p>
            </p:txBody>
          </p:sp>
        </p:grpSp>
      </p:grpSp>
      <p:grpSp>
        <p:nvGrpSpPr>
          <p:cNvPr id="469" name=""/>
          <p:cNvGrpSpPr/>
          <p:nvPr/>
        </p:nvGrpSpPr>
        <p:grpSpPr>
          <a:xfrm>
            <a:off x="2655720" y="1684440"/>
            <a:ext cx="3267000" cy="2763720"/>
            <a:chOff x="2655720" y="1684440"/>
            <a:chExt cx="3267000" cy="2763720"/>
          </a:xfrm>
        </p:grpSpPr>
        <p:graphicFrame>
          <p:nvGraphicFramePr>
            <p:cNvPr id="470" name=""/>
            <p:cNvGraphicFramePr/>
            <p:nvPr/>
          </p:nvGraphicFramePr>
          <p:xfrm>
            <a:off x="2655720" y="2279520"/>
            <a:ext cx="2052720" cy="2168640"/>
          </p:xfrm>
          <a:graphic>
            <a:graphicData uri="http://schemas.openxmlformats.org/presentationml/2006/ole">
              <p:oleObj r:id="rId1" spid="">
                <p:embed/>
                <p:pic>
                  <p:nvPicPr>
                    <p:cNvPr id="471" name="" descr=""/>
                    <p:cNvPicPr/>
                    <p:nvPr/>
                  </p:nvPicPr>
                  <p:blipFill>
                    <a:blip r:embed="rId2"/>
                    <a:stretch/>
                  </p:blipFill>
                  <p:spPr>
                    <a:xfrm>
                      <a:off x="2655720" y="2279520"/>
                      <a:ext cx="2052720" cy="2168640"/>
                    </a:xfrm>
                    <a:prstGeom prst="rect">
                      <a:avLst/>
                    </a:prstGeom>
                    <a:ln w="0">
                      <a:noFill/>
                    </a:ln>
                    <a:effectLst>
                      <a:outerShdw dist="17819" dir="2700000" blurRad="0" rotWithShape="0">
                        <a:srgbClr val="00007d"/>
                      </a:outerShdw>
                    </a:effectLst>
                  </p:spPr>
                </p:pic>
              </p:oleObj>
            </a:graphicData>
          </a:graphic>
        </p:graphicFrame>
        <p:grpSp>
          <p:nvGrpSpPr>
            <p:cNvPr id="472" name=""/>
            <p:cNvGrpSpPr/>
            <p:nvPr/>
          </p:nvGrpSpPr>
          <p:grpSpPr>
            <a:xfrm>
              <a:off x="4114800" y="1684440"/>
              <a:ext cx="1807920" cy="1017360"/>
              <a:chOff x="4114800" y="1684440"/>
              <a:chExt cx="1807920" cy="1017360"/>
            </a:xfrm>
          </p:grpSpPr>
          <p:sp>
            <p:nvSpPr>
              <p:cNvPr id="473" name=""/>
              <p:cNvSpPr/>
              <p:nvPr/>
            </p:nvSpPr>
            <p:spPr>
              <a:xfrm>
                <a:off x="4114800" y="1684440"/>
                <a:ext cx="1807920" cy="1017360"/>
              </a:xfrm>
              <a:prstGeom prst="wedgeRoundRectCallout">
                <a:avLst>
                  <a:gd name="adj1" fmla="val -48620"/>
                  <a:gd name="adj2" fmla="val 69814"/>
                  <a:gd name="adj3" fmla="val 16667"/>
                </a:avLst>
              </a:prstGeom>
              <a:solidFill>
                <a:srgbClr val="9999cc"/>
              </a:solidFill>
              <a:ln w="12600">
                <a:solidFill>
                  <a:srgbClr val="00007d"/>
                </a:solidFill>
                <a:miter/>
              </a:ln>
              <a:effectLst>
                <a:outerShdw dist="81185" dir="3078030" blurRad="0" rotWithShape="0">
                  <a:srgbClr val="00007d"/>
                </a:outerShdw>
              </a:effectLst>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cc"/>
                    </a:solidFill>
                    <a:latin typeface="幼圆"/>
                    <a:ea typeface="幼圆"/>
                  </a:rPr>
                  <a:t>我认为人口的平均年龄是</a:t>
                </a:r>
                <a:r>
                  <a:rPr b="1" lang="zh-CN" sz="1600" spc="-1" strike="noStrike">
                    <a:solidFill>
                      <a:srgbClr val="00ffcc"/>
                    </a:solidFill>
                    <a:latin typeface="幼圆"/>
                    <a:ea typeface="幼圆"/>
                  </a:rPr>
                  <a:t>50</a:t>
                </a:r>
                <a:r>
                  <a:rPr b="1" lang="zh-CN" sz="1600" spc="-1" strike="noStrike">
                    <a:solidFill>
                      <a:srgbClr val="00ffcc"/>
                    </a:solidFill>
                    <a:latin typeface="幼圆"/>
                    <a:ea typeface="幼圆"/>
                  </a:rPr>
                  <a:t>岁 </a:t>
                </a:r>
                <a:endParaRPr b="0" lang="en-US" sz="1600" spc="-1" strike="noStrike">
                  <a:solidFill>
                    <a:srgbClr val="000000"/>
                  </a:solidFill>
                  <a:latin typeface="Arial"/>
                </a:endParaRPr>
              </a:p>
            </p:txBody>
          </p:sp>
          <p:sp>
            <p:nvSpPr>
              <p:cNvPr id="474" name=""/>
              <p:cNvSpPr/>
              <p:nvPr/>
            </p:nvSpPr>
            <p:spPr>
              <a:xfrm>
                <a:off x="4310640" y="1751040"/>
                <a:ext cx="150552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提出假设</a:t>
                </a:r>
                <a:endParaRPr b="0" lang="en-US" sz="1900" spc="-1" strike="noStrike">
                  <a:solidFill>
                    <a:srgbClr val="000000"/>
                  </a:solidFill>
                  <a:latin typeface="Arial"/>
                </a:endParaRPr>
              </a:p>
            </p:txBody>
          </p:sp>
        </p:grpSp>
      </p:grpSp>
      <p:grpSp>
        <p:nvGrpSpPr>
          <p:cNvPr id="475" name=""/>
          <p:cNvGrpSpPr/>
          <p:nvPr/>
        </p:nvGrpSpPr>
        <p:grpSpPr>
          <a:xfrm>
            <a:off x="5748480" y="1728360"/>
            <a:ext cx="3273120" cy="4181760"/>
            <a:chOff x="5748480" y="1728360"/>
            <a:chExt cx="3273120" cy="4181760"/>
          </a:xfrm>
        </p:grpSpPr>
        <p:graphicFrame>
          <p:nvGraphicFramePr>
            <p:cNvPr id="476" name=""/>
            <p:cNvGraphicFramePr/>
            <p:nvPr/>
          </p:nvGraphicFramePr>
          <p:xfrm>
            <a:off x="5748480" y="3203640"/>
            <a:ext cx="3273120" cy="2706480"/>
          </p:xfrm>
          <a:graphic>
            <a:graphicData uri="http://schemas.openxmlformats.org/presentationml/2006/ole">
              <p:oleObj r:id="rId3" spid="">
                <p:embed/>
                <p:pic>
                  <p:nvPicPr>
                    <p:cNvPr id="477" name="" descr=""/>
                    <p:cNvPicPr/>
                    <p:nvPr/>
                  </p:nvPicPr>
                  <p:blipFill>
                    <a:blip r:embed="rId4"/>
                    <a:stretch/>
                  </p:blipFill>
                  <p:spPr>
                    <a:xfrm>
                      <a:off x="5748480" y="3203640"/>
                      <a:ext cx="3273120" cy="2706480"/>
                    </a:xfrm>
                    <a:prstGeom prst="rect">
                      <a:avLst/>
                    </a:prstGeom>
                    <a:ln w="0">
                      <a:noFill/>
                    </a:ln>
                    <a:effectLst>
                      <a:outerShdw dist="17819" dir="2700000" blurRad="0" rotWithShape="0">
                        <a:srgbClr val="00007d"/>
                      </a:outerShdw>
                    </a:effectLst>
                  </p:spPr>
                </p:pic>
              </p:oleObj>
            </a:graphicData>
          </a:graphic>
        </p:graphicFrame>
        <p:grpSp>
          <p:nvGrpSpPr>
            <p:cNvPr id="478" name=""/>
            <p:cNvGrpSpPr/>
            <p:nvPr/>
          </p:nvGrpSpPr>
          <p:grpSpPr>
            <a:xfrm>
              <a:off x="7010280" y="1728360"/>
              <a:ext cx="1495440" cy="1456200"/>
              <a:chOff x="7010280" y="1728360"/>
              <a:chExt cx="1495440" cy="1456200"/>
            </a:xfrm>
          </p:grpSpPr>
          <p:sp>
            <p:nvSpPr>
              <p:cNvPr id="479" name=""/>
              <p:cNvSpPr/>
              <p:nvPr/>
            </p:nvSpPr>
            <p:spPr>
              <a:xfrm>
                <a:off x="7010280" y="1728360"/>
                <a:ext cx="1495440" cy="1456200"/>
              </a:xfrm>
              <a:custGeom>
                <a:avLst/>
                <a:gdLst>
                  <a:gd name="textAreaLeft" fmla="*/ 55080 w 1495440"/>
                  <a:gd name="textAreaRight" fmla="*/ 1440360 w 1495440"/>
                  <a:gd name="textAreaTop" fmla="*/ 53640 h 1456200"/>
                  <a:gd name="textAreaBottom" fmla="*/ 1163160 h 1456200"/>
                </a:gdLst>
                <a:ahLst/>
                <a:rect l="textAreaLeft" t="textAreaTop" r="textAreaRight" b="textAreaBottom"/>
                <a:pathLst>
                  <a:path w="21600" h="21600">
                    <a:moveTo>
                      <a:pt x="3590" y="0"/>
                    </a:moveTo>
                    <a:arcTo wR="3590" hR="3590" stAng="16200000" swAng="-5400000"/>
                    <a:lnTo>
                      <a:pt x="0" y="14460"/>
                    </a:lnTo>
                    <a:arcTo wR="3590" hR="3590" stAng="10800000" swAng="-5400000"/>
                    <a:lnTo>
                      <a:pt x="6029" y="21600"/>
                    </a:lnTo>
                    <a:lnTo>
                      <a:pt x="5420" y="18050"/>
                    </a:lnTo>
                    <a:lnTo>
                      <a:pt x="18010" y="18050"/>
                    </a:lnTo>
                    <a:arcTo wR="3590" hR="3590" stAng="5400000" swAng="-5400000"/>
                    <a:lnTo>
                      <a:pt x="21600" y="3590"/>
                    </a:lnTo>
                    <a:arcTo wR="3590" hR="3590" stAng="0" swAng="-5400000"/>
                    <a:close/>
                  </a:path>
                </a:pathLst>
              </a:custGeom>
              <a:solidFill>
                <a:srgbClr val="9999cc"/>
              </a:solidFill>
              <a:ln w="12600">
                <a:solidFill>
                  <a:srgbClr val="00007d"/>
                </a:solidFill>
                <a:miter/>
              </a:ln>
              <a:effectLst>
                <a:outerShdw dist="107932" dir="2700000" blurRad="0" rotWithShape="0">
                  <a:srgbClr val="00007d"/>
                </a:outerShdw>
              </a:effectLst>
            </p:spPr>
            <p:style>
              <a:lnRef idx="0"/>
              <a:fillRef idx="0"/>
              <a:effectRef idx="0"/>
              <a:fontRef idx="minor"/>
            </p:style>
            <p:txBody>
              <a:bodyPr lIns="0" rIns="0" tIns="0" bIns="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Arial"/>
                  </a:rPr>
                  <a:t>  </a:t>
                </a:r>
                <a:r>
                  <a:rPr b="1" lang="zh-CN" sz="1800" spc="-1" strike="noStrike">
                    <a:solidFill>
                      <a:srgbClr val="00ffcc"/>
                    </a:solidFill>
                    <a:latin typeface="Arial"/>
                  </a:rPr>
                  <a:t>拒绝假设</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cc"/>
                    </a:solidFill>
                    <a:latin typeface="Arial"/>
                  </a:rPr>
                  <a:t>  </a:t>
                </a:r>
                <a:r>
                  <a:rPr b="1" lang="zh-CN" sz="1800" spc="-1" strike="noStrike">
                    <a:solidFill>
                      <a:srgbClr val="00ffcc"/>
                    </a:solidFill>
                    <a:latin typeface="Arial"/>
                  </a:rPr>
                  <a:t>别无选择</a:t>
                </a:r>
                <a:r>
                  <a:rPr b="1" lang="zh-CN" sz="1800" spc="-1" strike="noStrike">
                    <a:solidFill>
                      <a:srgbClr val="00ffcc"/>
                    </a:solidFill>
                    <a:latin typeface="Arial"/>
                  </a:rPr>
                  <a:t>!</a:t>
                </a:r>
                <a:r>
                  <a:rPr b="1" lang="zh-CN" sz="1800" spc="-1" strike="noStrike">
                    <a:solidFill>
                      <a:srgbClr val="00007d"/>
                    </a:solidFill>
                    <a:latin typeface="Arial"/>
                  </a:rPr>
                  <a:t> </a:t>
                </a:r>
                <a:endParaRPr b="0" lang="en-US" sz="1800" spc="-1" strike="noStrike">
                  <a:solidFill>
                    <a:srgbClr val="000000"/>
                  </a:solidFill>
                  <a:latin typeface="Arial"/>
                </a:endParaRPr>
              </a:p>
            </p:txBody>
          </p:sp>
          <p:sp>
            <p:nvSpPr>
              <p:cNvPr id="480" name=""/>
              <p:cNvSpPr/>
              <p:nvPr/>
            </p:nvSpPr>
            <p:spPr>
              <a:xfrm>
                <a:off x="7113600" y="1778040"/>
                <a:ext cx="133344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作出决策</a:t>
                </a:r>
                <a:endParaRPr b="0" lang="en-US" sz="1900" spc="-1" strike="noStrike">
                  <a:solidFill>
                    <a:srgbClr val="000000"/>
                  </a:solidFill>
                  <a:latin typeface="Arial"/>
                </a:endParaRPr>
              </a:p>
            </p:txBody>
          </p:sp>
        </p:grpSp>
      </p:grpSp>
    </p:spTree>
  </p:cSld>
  <p:transition>
    <p:dissolv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2">
                                  <p:stCondLst>
                                    <p:cond delay="0"/>
                                  </p:stCondLst>
                                  <p:childTnLst>
                                    <p:set>
                                      <p:cBhvr>
                                        <p:cTn id="390" dur="1" fill="hold">
                                          <p:stCondLst>
                                            <p:cond delay="0"/>
                                          </p:stCondLst>
                                        </p:cTn>
                                        <p:tgtEl>
                                          <p:spTgt spid="469"/>
                                        </p:tgtEl>
                                        <p:attrNameLst>
                                          <p:attrName>style.visibility</p:attrName>
                                        </p:attrNameLst>
                                      </p:cBhvr>
                                      <p:to>
                                        <p:strVal val="visible"/>
                                      </p:to>
                                    </p:set>
                                    <p:animEffect filter="wipe(right)" transition="in">
                                      <p:cBhvr additive="repl">
                                        <p:cTn id="391" dur="500"/>
                                        <p:tgtEl>
                                          <p:spTgt spid="46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454"/>
                                        </p:tgtEl>
                                        <p:attrNameLst>
                                          <p:attrName>style.visibility</p:attrName>
                                        </p:attrNameLst>
                                      </p:cBhvr>
                                      <p:to>
                                        <p:strVal val="visible"/>
                                      </p:to>
                                    </p:set>
                                    <p:animEffect filter="wipe(left)" transition="in">
                                      <p:cBhvr additive="repl">
                                        <p:cTn id="396" dur="500"/>
                                        <p:tgtEl>
                                          <p:spTgt spid="45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475"/>
                                        </p:tgtEl>
                                        <p:attrNameLst>
                                          <p:attrName>style.visibility</p:attrName>
                                        </p:attrNameLst>
                                      </p:cBhvr>
                                      <p:to>
                                        <p:strVal val="visible"/>
                                      </p:to>
                                    </p:set>
                                    <p:animEffect filter="dissolve" transition="in">
                                      <p:cBhvr additive="repl">
                                        <p:cTn id="40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黑体"/>
              </a:rPr>
              <a:t>二、随机变量的概念</a:t>
            </a:r>
            <a:endParaRPr b="0" lang="en-US" sz="4400" spc="-1" strike="noStrike">
              <a:solidFill>
                <a:srgbClr val="000000"/>
              </a:solidFill>
              <a:latin typeface="Arial"/>
            </a:endParaRPr>
          </a:p>
        </p:txBody>
      </p:sp>
      <p:sp>
        <p:nvSpPr>
          <p:cNvPr id="120"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随机变量是一次试验的结果的数值性描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随机变量分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离散型随机变量：随机变量的可能值是有限个或可列个。描述离散型随机变量的取每一个值的概率情况用概率分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连续型随机变量：随机变量的可能值充满一个或多个区间。描述连续型随机型随机变量在任一个区间取值的概率情况用密度函数。</a:t>
            </a:r>
            <a:endParaRPr b="0" lang="en-US" sz="2800" spc="-1" strike="noStrike">
              <a:solidFill>
                <a:srgbClr val="000000"/>
              </a:solidFill>
              <a:latin typeface="Arial"/>
            </a:endParaRPr>
          </a:p>
        </p:txBody>
      </p:sp>
      <p:pic>
        <p:nvPicPr>
          <p:cNvPr id="121" name="" descr=""/>
          <p:cNvPicPr/>
          <p:nvPr/>
        </p:nvPicPr>
        <p:blipFill>
          <a:blip r:embed="rId1"/>
          <a:stretch/>
        </p:blipFill>
        <p:spPr>
          <a:xfrm>
            <a:off x="7451640" y="476280"/>
            <a:ext cx="1565280" cy="11541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20">
                                            <p:txEl>
                                              <p:pRg st="0" end="0"/>
                                            </p:txEl>
                                          </p:spTgt>
                                        </p:tgtEl>
                                        <p:attrNameLst>
                                          <p:attrName>style.visibility</p:attrName>
                                        </p:attrNameLst>
                                      </p:cBhvr>
                                      <p:to>
                                        <p:strVal val="visible"/>
                                      </p:to>
                                    </p:set>
                                    <p:anim calcmode="lin" valueType="num">
                                      <p:cBhvr additive="base">
                                        <p:cTn id="24"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20">
                                            <p:txEl>
                                              <p:pRg st="1" end="1"/>
                                            </p:txEl>
                                          </p:spTgt>
                                        </p:tgtEl>
                                        <p:attrNameLst>
                                          <p:attrName>style.visibility</p:attrName>
                                        </p:attrNameLst>
                                      </p:cBhvr>
                                      <p:to>
                                        <p:strVal val="visible"/>
                                      </p:to>
                                    </p:set>
                                    <p:anim calcmode="lin" valueType="num">
                                      <p:cBhvr additive="base">
                                        <p:cTn id="3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0">
                                            <p:txEl>
                                              <p:pRg st="2" end="2"/>
                                            </p:txEl>
                                          </p:spTgt>
                                        </p:tgtEl>
                                        <p:attrNameLst>
                                          <p:attrName>style.visibility</p:attrName>
                                        </p:attrNameLst>
                                      </p:cBhvr>
                                      <p:to>
                                        <p:strVal val="visible"/>
                                      </p:to>
                                    </p:set>
                                    <p:anim calcmode="lin" valueType="num">
                                      <p:cBhvr additive="base">
                                        <p:cTn id="36"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0">
                                            <p:txEl>
                                              <p:pRg st="3" end="3"/>
                                            </p:txEl>
                                          </p:spTgt>
                                        </p:tgtEl>
                                        <p:attrNameLst>
                                          <p:attrName>style.visibility</p:attrName>
                                        </p:attrNameLst>
                                      </p:cBhvr>
                                      <p:to>
                                        <p:strVal val="visible"/>
                                      </p:to>
                                    </p:set>
                                    <p:anim calcmode="lin" valueType="num">
                                      <p:cBhvr additive="base">
                                        <p:cTn id="42"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假设检验的步骤</a:t>
            </a:r>
            <a:endParaRPr b="0" lang="en-US" sz="3200" spc="-1" strike="noStrike">
              <a:solidFill>
                <a:srgbClr val="000000"/>
              </a:solidFill>
              <a:latin typeface="Arial"/>
            </a:endParaRPr>
          </a:p>
        </p:txBody>
      </p:sp>
      <p:sp>
        <p:nvSpPr>
          <p:cNvPr id="4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首先提出假设：</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构造统计量并计算统计量的值</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由显著水平</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查表求临界值</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判断</a:t>
            </a: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统计量︱</a:t>
            </a:r>
            <a:r>
              <a:rPr b="0" lang="zh-CN" sz="3200" spc="-1" strike="noStrike">
                <a:solidFill>
                  <a:srgbClr val="000000"/>
                </a:solidFill>
                <a:latin typeface="华文新魏"/>
                <a:ea typeface="华文新魏"/>
              </a:rPr>
              <a:t>&gt;</a:t>
            </a:r>
            <a:r>
              <a:rPr b="0" lang="zh-CN" sz="3200" spc="-1" strike="noStrike">
                <a:solidFill>
                  <a:srgbClr val="000000"/>
                </a:solidFill>
                <a:latin typeface="华文新魏"/>
                <a:ea typeface="华文新魏"/>
              </a:rPr>
              <a:t>临界值</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拒绝</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接受</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endParaRPr b="0" lang="en-US" sz="3200" spc="-1" strike="noStrike">
              <a:solidFill>
                <a:srgbClr val="000000"/>
              </a:solidFill>
              <a:latin typeface="Arial"/>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若︱统计量︱</a:t>
            </a:r>
            <a:r>
              <a:rPr b="0" lang="zh-CN" sz="3200" spc="-1" strike="noStrike">
                <a:solidFill>
                  <a:srgbClr val="000000"/>
                </a:solidFill>
                <a:latin typeface="华文新魏"/>
                <a:ea typeface="华文新魏"/>
              </a:rPr>
              <a:t>&lt;</a:t>
            </a:r>
            <a:r>
              <a:rPr b="0" lang="zh-CN" sz="3200" spc="-1" strike="noStrike">
                <a:solidFill>
                  <a:srgbClr val="000000"/>
                </a:solidFill>
                <a:latin typeface="华文新魏"/>
                <a:ea typeface="华文新魏"/>
              </a:rPr>
              <a:t>临界值</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拒绝</a:t>
            </a:r>
            <a:r>
              <a:rPr b="0" lang="zh-CN" sz="3200" spc="-1" strike="noStrike">
                <a:solidFill>
                  <a:srgbClr val="000000"/>
                </a:solidFill>
                <a:latin typeface="华文新魏"/>
                <a:ea typeface="华文新魏"/>
              </a:rPr>
              <a:t>H</a:t>
            </a:r>
            <a:r>
              <a:rPr b="0" lang="zh-CN"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endParaRPr b="0" lang="en-US" sz="3200" spc="-1" strike="noStrike">
              <a:solidFill>
                <a:srgbClr val="000000"/>
              </a:solidFill>
              <a:latin typeface="Arial"/>
            </a:endParaRPr>
          </a:p>
        </p:txBody>
      </p:sp>
      <p:pic>
        <p:nvPicPr>
          <p:cNvPr id="483" name="" descr=""/>
          <p:cNvPicPr/>
          <p:nvPr/>
        </p:nvPicPr>
        <p:blipFill>
          <a:blip r:embed="rId1"/>
          <a:stretch/>
        </p:blipFill>
        <p:spPr>
          <a:xfrm>
            <a:off x="6437160" y="333360"/>
            <a:ext cx="2372040" cy="29512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8" presetSubtype="16">
                                  <p:stCondLst>
                                    <p:cond delay="0"/>
                                  </p:stCondLst>
                                  <p:childTnLst>
                                    <p:set>
                                      <p:cBhvr>
                                        <p:cTn id="407" dur="1" fill="hold">
                                          <p:stCondLst>
                                            <p:cond delay="0"/>
                                          </p:stCondLst>
                                        </p:cTn>
                                        <p:tgtEl>
                                          <p:spTgt spid="482">
                                            <p:txEl>
                                              <p:pRg st="1" end="1"/>
                                            </p:txEl>
                                          </p:spTgt>
                                        </p:tgtEl>
                                        <p:attrNameLst>
                                          <p:attrName>style.visibility</p:attrName>
                                        </p:attrNameLst>
                                      </p:cBhvr>
                                      <p:to>
                                        <p:strVal val="visible"/>
                                      </p:to>
                                    </p:set>
                                    <p:animEffect filter="diamond(in)" transition="in">
                                      <p:cBhvr additive="repl">
                                        <p:cTn id="408" dur="2000"/>
                                        <p:tgtEl>
                                          <p:spTgt spid="482">
                                            <p:txEl>
                                              <p:pRg st="1" end="1"/>
                                            </p:txEl>
                                          </p:spTgt>
                                        </p:tgtEl>
                                      </p:cBhvr>
                                    </p:animEffect>
                                  </p:childTnLst>
                                </p:cTn>
                              </p:par>
                              <p:par>
                                <p:cTn id="409" nodeType="withEffect" fill="hold" presetClass="entr" presetID="8" presetSubtype="16">
                                  <p:stCondLst>
                                    <p:cond delay="0"/>
                                  </p:stCondLst>
                                  <p:childTnLst>
                                    <p:set>
                                      <p:cBhvr>
                                        <p:cTn id="410" dur="1" fill="hold">
                                          <p:stCondLst>
                                            <p:cond delay="0"/>
                                          </p:stCondLst>
                                        </p:cTn>
                                        <p:tgtEl>
                                          <p:spTgt spid="482">
                                            <p:txEl>
                                              <p:pRg st="2" end="2"/>
                                            </p:txEl>
                                          </p:spTgt>
                                        </p:tgtEl>
                                        <p:attrNameLst>
                                          <p:attrName>style.visibility</p:attrName>
                                        </p:attrNameLst>
                                      </p:cBhvr>
                                      <p:to>
                                        <p:strVal val="visible"/>
                                      </p:to>
                                    </p:set>
                                    <p:animEffect filter="diamond(in)" transition="in">
                                      <p:cBhvr additive="repl">
                                        <p:cTn id="411" dur="2000"/>
                                        <p:tgtEl>
                                          <p:spTgt spid="482">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482">
                                            <p:txEl>
                                              <p:pRg st="3" end="3"/>
                                            </p:txEl>
                                          </p:spTgt>
                                        </p:tgtEl>
                                        <p:attrNameLst>
                                          <p:attrName>style.visibility</p:attrName>
                                        </p:attrNameLst>
                                      </p:cBhvr>
                                      <p:to>
                                        <p:strVal val="visible"/>
                                      </p:to>
                                    </p:set>
                                    <p:animEffect filter="diamond(in)" transition="in">
                                      <p:cBhvr additive="repl">
                                        <p:cTn id="416" dur="2000"/>
                                        <p:tgtEl>
                                          <p:spTgt spid="482">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482">
                                            <p:txEl>
                                              <p:pRg st="4" end="4"/>
                                            </p:txEl>
                                          </p:spTgt>
                                        </p:tgtEl>
                                        <p:attrNameLst>
                                          <p:attrName>style.visibility</p:attrName>
                                        </p:attrNameLst>
                                      </p:cBhvr>
                                      <p:to>
                                        <p:strVal val="visible"/>
                                      </p:to>
                                    </p:set>
                                    <p:animEffect filter="diamond(in)" transition="in">
                                      <p:cBhvr additive="repl">
                                        <p:cTn id="421" dur="2000"/>
                                        <p:tgtEl>
                                          <p:spTgt spid="482">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482">
                                            <p:txEl>
                                              <p:pRg st="5" end="5"/>
                                            </p:txEl>
                                          </p:spTgt>
                                        </p:tgtEl>
                                        <p:attrNameLst>
                                          <p:attrName>style.visibility</p:attrName>
                                        </p:attrNameLst>
                                      </p:cBhvr>
                                      <p:to>
                                        <p:strVal val="visible"/>
                                      </p:to>
                                    </p:set>
                                    <p:animEffect filter="checkerboard(across)" transition="in">
                                      <p:cBhvr additive="repl">
                                        <p:cTn id="426" dur="500"/>
                                        <p:tgtEl>
                                          <p:spTgt spid="482">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482">
                                            <p:txEl>
                                              <p:pRg st="6" end="6"/>
                                            </p:txEl>
                                          </p:spTgt>
                                        </p:tgtEl>
                                        <p:attrNameLst>
                                          <p:attrName>style.visibility</p:attrName>
                                        </p:attrNameLst>
                                      </p:cBhvr>
                                      <p:to>
                                        <p:strVal val="visible"/>
                                      </p:to>
                                    </p:set>
                                    <p:animEffect filter="checkerboard(across)" transition="in">
                                      <p:cBhvr additive="repl">
                                        <p:cTn id="431" dur="500"/>
                                        <p:tgtEl>
                                          <p:spTgt spid="482">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482">
                                            <p:txEl>
                                              <p:pRg st="7" end="7"/>
                                            </p:txEl>
                                          </p:spTgt>
                                        </p:tgtEl>
                                        <p:attrNameLst>
                                          <p:attrName>style.visibility</p:attrName>
                                        </p:attrNameLst>
                                      </p:cBhvr>
                                      <p:to>
                                        <p:strVal val="visible"/>
                                      </p:to>
                                    </p:set>
                                    <p:animEffect filter="checkerboard(across)" transition="in">
                                      <p:cBhvr additive="repl">
                                        <p:cTn id="436" dur="500"/>
                                        <p:tgtEl>
                                          <p:spTgt spid="4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假设的提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85" name="PlaceHolder 2"/>
          <p:cNvSpPr>
            <a:spLocks noGrp="1"/>
          </p:cNvSpPr>
          <p:nvPr>
            <p:ph/>
          </p:nvPr>
        </p:nvSpPr>
        <p:spPr>
          <a:xfrm>
            <a:off x="250920" y="4869000"/>
            <a:ext cx="8229600" cy="151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原假设和备择假设选择原则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试图建立的结果为被择假设”</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486" name="" descr=""/>
          <p:cNvPicPr/>
          <p:nvPr/>
        </p:nvPicPr>
        <p:blipFill>
          <a:blip r:embed="rId1"/>
          <a:stretch/>
        </p:blipFill>
        <p:spPr>
          <a:xfrm>
            <a:off x="1835280" y="2997360"/>
            <a:ext cx="4979880" cy="676080"/>
          </a:xfrm>
          <a:prstGeom prst="rect">
            <a:avLst/>
          </a:prstGeom>
          <a:ln w="0">
            <a:noFill/>
          </a:ln>
        </p:spPr>
      </p:pic>
      <p:pic>
        <p:nvPicPr>
          <p:cNvPr id="487" name="" descr=""/>
          <p:cNvPicPr/>
          <p:nvPr/>
        </p:nvPicPr>
        <p:blipFill>
          <a:blip r:embed="rId2"/>
          <a:stretch/>
        </p:blipFill>
        <p:spPr>
          <a:xfrm>
            <a:off x="1908000" y="3933720"/>
            <a:ext cx="5040360" cy="746280"/>
          </a:xfrm>
          <a:prstGeom prst="rect">
            <a:avLst/>
          </a:prstGeom>
          <a:ln w="0">
            <a:noFill/>
          </a:ln>
        </p:spPr>
      </p:pic>
      <p:pic>
        <p:nvPicPr>
          <p:cNvPr id="488" name="" descr=""/>
          <p:cNvPicPr/>
          <p:nvPr/>
        </p:nvPicPr>
        <p:blipFill>
          <a:blip r:embed="rId3"/>
          <a:stretch/>
        </p:blipFill>
        <p:spPr>
          <a:xfrm>
            <a:off x="1692360" y="1844640"/>
            <a:ext cx="5616360" cy="94140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488"/>
                                        </p:tgtEl>
                                        <p:attrNameLst>
                                          <p:attrName>style.visibility</p:attrName>
                                        </p:attrNameLst>
                                      </p:cBhvr>
                                      <p:to>
                                        <p:strVal val="visible"/>
                                      </p:to>
                                    </p:set>
                                    <p:anim calcmode="lin" valueType="num">
                                      <p:cBhvr additive="base">
                                        <p:cTn id="443" dur="500" fill="hold"/>
                                        <p:tgtEl>
                                          <p:spTgt spid="488"/>
                                        </p:tgtEl>
                                        <p:attrNameLst>
                                          <p:attrName>ppt_x</p:attrName>
                                        </p:attrNameLst>
                                      </p:cBhvr>
                                      <p:tavLst>
                                        <p:tav tm="0">
                                          <p:val>
                                            <p:strVal val="#ppt_x"/>
                                          </p:val>
                                        </p:tav>
                                        <p:tav tm="100000">
                                          <p:val>
                                            <p:strVal val="#ppt_x"/>
                                          </p:val>
                                        </p:tav>
                                      </p:tavLst>
                                    </p:anim>
                                    <p:anim calcmode="lin" valueType="num">
                                      <p:cBhvr additive="base">
                                        <p:cTn id="444"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86"/>
                                        </p:tgtEl>
                                        <p:attrNameLst>
                                          <p:attrName>style.visibility</p:attrName>
                                        </p:attrNameLst>
                                      </p:cBhvr>
                                      <p:to>
                                        <p:strVal val="visible"/>
                                      </p:to>
                                    </p:set>
                                    <p:anim calcmode="lin" valueType="num">
                                      <p:cBhvr additive="base">
                                        <p:cTn id="449" dur="500" fill="hold"/>
                                        <p:tgtEl>
                                          <p:spTgt spid="486"/>
                                        </p:tgtEl>
                                        <p:attrNameLst>
                                          <p:attrName>ppt_x</p:attrName>
                                        </p:attrNameLst>
                                      </p:cBhvr>
                                      <p:tavLst>
                                        <p:tav tm="0">
                                          <p:val>
                                            <p:strVal val="#ppt_x"/>
                                          </p:val>
                                        </p:tav>
                                        <p:tav tm="100000">
                                          <p:val>
                                            <p:strVal val="#ppt_x"/>
                                          </p:val>
                                        </p:tav>
                                      </p:tavLst>
                                    </p:anim>
                                    <p:anim calcmode="lin" valueType="num">
                                      <p:cBhvr additive="base">
                                        <p:cTn id="450"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487"/>
                                        </p:tgtEl>
                                        <p:attrNameLst>
                                          <p:attrName>style.visibility</p:attrName>
                                        </p:attrNameLst>
                                      </p:cBhvr>
                                      <p:to>
                                        <p:strVal val="visible"/>
                                      </p:to>
                                    </p:set>
                                    <p:anim calcmode="lin" valueType="num">
                                      <p:cBhvr additive="base">
                                        <p:cTn id="455" dur="500" fill="hold"/>
                                        <p:tgtEl>
                                          <p:spTgt spid="487"/>
                                        </p:tgtEl>
                                        <p:attrNameLst>
                                          <p:attrName>ppt_x</p:attrName>
                                        </p:attrNameLst>
                                      </p:cBhvr>
                                      <p:tavLst>
                                        <p:tav tm="0">
                                          <p:val>
                                            <p:strVal val="#ppt_x"/>
                                          </p:val>
                                        </p:tav>
                                        <p:tav tm="100000">
                                          <p:val>
                                            <p:strVal val="#ppt_x"/>
                                          </p:val>
                                        </p:tav>
                                      </p:tavLst>
                                    </p:anim>
                                    <p:anim calcmode="lin" valueType="num">
                                      <p:cBhvr additive="base">
                                        <p:cTn id="456"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485">
                                            <p:txEl>
                                              <p:pRg st="0" end="0"/>
                                            </p:txEl>
                                          </p:spTgt>
                                        </p:tgtEl>
                                        <p:attrNameLst>
                                          <p:attrName>style.visibility</p:attrName>
                                        </p:attrNameLst>
                                      </p:cBhvr>
                                      <p:to>
                                        <p:strVal val="visible"/>
                                      </p:to>
                                    </p:set>
                                    <p:anim calcmode="lin" valueType="num">
                                      <p:cBhvr additive="base">
                                        <p:cTn id="46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85">
                                            <p:txEl>
                                              <p:pRg st="2" end="2"/>
                                            </p:txEl>
                                          </p:spTgt>
                                        </p:tgtEl>
                                        <p:attrNameLst>
                                          <p:attrName>style.visibility</p:attrName>
                                        </p:attrNameLst>
                                      </p:cBhvr>
                                      <p:to>
                                        <p:strVal val="visible"/>
                                      </p:to>
                                    </p:set>
                                    <p:anim calcmode="lin" valueType="num">
                                      <p:cBhvr additive="base">
                                        <p:cTn id="46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94920" y="1628280"/>
            <a:ext cx="8435880" cy="3886200"/>
          </a:xfrm>
          <a:prstGeom prst="rect">
            <a:avLst/>
          </a:prstGeom>
          <a:noFill/>
          <a:ln w="0">
            <a:noFill/>
          </a:ln>
        </p:spPr>
        <p:txBody>
          <a:bodyPr lIns="90360" rIns="90360" tIns="44280" bIns="44280" anchor="t">
            <a:normAutofit/>
          </a:bodyPr>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Arial"/>
              </a:rPr>
              <a:t>◆   </a:t>
            </a:r>
            <a:r>
              <a:rPr b="0" lang="zh-CN" sz="3200" spc="-1" strike="noStrike">
                <a:solidFill>
                  <a:srgbClr val="000000"/>
                </a:solidFill>
                <a:latin typeface="Book Antiqua"/>
                <a:ea typeface="华文新魏"/>
              </a:rPr>
              <a:t>检验统计</a:t>
            </a:r>
            <a:r>
              <a:rPr b="0" lang="zh-CN" sz="3200" spc="-1" strike="noStrike">
                <a:solidFill>
                  <a:srgbClr val="000000"/>
                </a:solidFill>
                <a:latin typeface="Book Antiqua"/>
                <a:ea typeface="华文行楷"/>
              </a:rPr>
              <a:t>量里必须包括被估计的参数和该参数的</a:t>
            </a:r>
            <a:r>
              <a:rPr b="0" lang="zh-CN" sz="3200" spc="-1" strike="noStrike">
                <a:solidFill>
                  <a:srgbClr val="000000"/>
                </a:solidFill>
                <a:latin typeface="华文新魏"/>
                <a:ea typeface="华文行楷"/>
              </a:rPr>
              <a:t>点估计量。</a:t>
            </a:r>
            <a:endParaRPr b="0" lang="en-US" sz="3200" spc="-1" strike="noStrike">
              <a:solidFill>
                <a:srgbClr val="000000"/>
              </a:solidFill>
              <a:latin typeface="Arial"/>
            </a:endParaRPr>
          </a:p>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rPr>
              <a:t>◆</a:t>
            </a:r>
            <a:r>
              <a:rPr b="1" lang="zh-CN" sz="3200" spc="-1" strike="noStrike">
                <a:solidFill>
                  <a:srgbClr val="006600"/>
                </a:solidFill>
                <a:latin typeface="Arial"/>
              </a:rPr>
              <a:t>   </a:t>
            </a:r>
            <a:r>
              <a:rPr b="0" lang="zh-CN" sz="3200" spc="-1" strike="noStrike">
                <a:solidFill>
                  <a:srgbClr val="000000"/>
                </a:solidFill>
                <a:latin typeface="Arial"/>
                <a:ea typeface="华文新魏"/>
              </a:rPr>
              <a:t>该</a:t>
            </a:r>
            <a:r>
              <a:rPr b="0" lang="zh-CN" sz="3200" spc="-1" strike="noStrike">
                <a:solidFill>
                  <a:srgbClr val="000000"/>
                </a:solidFill>
                <a:latin typeface="Book Antiqua"/>
                <a:ea typeface="华文新魏"/>
              </a:rPr>
              <a:t>统计量应与一个已知的</a:t>
            </a:r>
            <a:r>
              <a:rPr b="0" lang="zh-CN" sz="3200" spc="-1" strike="noStrike">
                <a:solidFill>
                  <a:srgbClr val="000000"/>
                </a:solidFill>
                <a:latin typeface="华文新魏"/>
                <a:ea typeface="华文新魏"/>
              </a:rPr>
              <a:t>抽样分布相对应</a:t>
            </a:r>
            <a:endParaRPr b="0" lang="en-US" sz="3200" spc="-1" strike="noStrike">
              <a:solidFill>
                <a:srgbClr val="000000"/>
              </a:solidFill>
              <a:latin typeface="Arial"/>
            </a:endParaRPr>
          </a:p>
          <a:p>
            <a:pPr marL="6094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Arial"/>
              </a:rPr>
              <a:t>◆  </a:t>
            </a:r>
            <a:r>
              <a:rPr b="0" lang="zh-CN" sz="3200" spc="-1" strike="noStrike">
                <a:solidFill>
                  <a:srgbClr val="006600"/>
                </a:solidFill>
                <a:latin typeface="Arial"/>
              </a:rPr>
              <a:t> </a:t>
            </a:r>
            <a:r>
              <a:rPr b="0" lang="zh-CN" sz="3200" spc="-1" strike="noStrike">
                <a:solidFill>
                  <a:srgbClr val="000000"/>
                </a:solidFill>
                <a:latin typeface="Arial"/>
                <a:ea typeface="华文新魏"/>
              </a:rPr>
              <a:t>例如均值的检验，构造的统计量：</a:t>
            </a:r>
            <a:endParaRPr b="0" lang="en-US" sz="3200" spc="-1" strike="noStrike">
              <a:solidFill>
                <a:srgbClr val="000000"/>
              </a:solidFill>
              <a:latin typeface="Arial"/>
            </a:endParaRPr>
          </a:p>
          <a:p>
            <a:pPr lvl="1" marL="1219320" indent="0" algn="just">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
          <p:cNvSpPr/>
          <p:nvPr/>
        </p:nvSpPr>
        <p:spPr>
          <a:xfrm>
            <a:off x="395280" y="260280"/>
            <a:ext cx="6781680" cy="1143000"/>
          </a:xfrm>
          <a:prstGeom prst="rect">
            <a:avLst/>
          </a:prstGeom>
          <a:noFill/>
          <a:ln w="0">
            <a:noFill/>
          </a:ln>
        </p:spPr>
        <p:style>
          <a:lnRef idx="0"/>
          <a:fillRef idx="0"/>
          <a:effectRef idx="0"/>
          <a:fontRef idx="minor"/>
        </p:style>
        <p:txBody>
          <a:bodyPr lIns="90360" rIns="90360" tIns="44280" bIns="442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Book Antiqua"/>
                <a:ea typeface="黑体"/>
              </a:rPr>
              <a:t>检验统计量</a:t>
            </a:r>
            <a:endParaRPr b="0" lang="en-US" sz="32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635280" y="4292640"/>
                <a:ext cx="1224000" cy="1049400"/>
              </a:xfrm>
              <a:prstGeom prst="rect">
                <a:avLst/>
              </a:prstGeom>
            </p:spPr>
            <p:txBody>
              <a:bodyPr/>
              <a:p>
                <a14:m>
                  <m:oMath xmlns:m="http://schemas.openxmlformats.org/officeDocument/2006/math">
                    <m:d>
                      <m:dPr>
                        <m:begChr m:val="|"/>
                        <m:endChr m:val="|"/>
                      </m:dPr>
                      <m:e>
                        <m:f>
                          <m:num>
                            <m:acc>
                              <m:accPr>
                                <m:chr m:val="¯"/>
                              </m:accPr>
                              <m:e>
                                <m:r>
                                  <m:t xml:space="preserve">X</m:t>
                                </m:r>
                              </m:e>
                            </m:acc>
                            <m:r>
                              <m:t xml:space="preserve">−</m:t>
                            </m:r>
                            <m:sSub>
                              <m:e>
                                <m:r>
                                  <m:t xml:space="preserve">μ</m:t>
                                </m:r>
                              </m:e>
                              <m:sub>
                                <m:r>
                                  <m:t xml:space="preserve">0</m:t>
                                </m:r>
                              </m:sub>
                            </m:sSub>
                          </m:num>
                          <m:den>
                            <m:f>
                              <m:fPr>
                                <m:type m:val="lin"/>
                              </m:fPr>
                              <m:num>
                                <m:r>
                                  <m:t xml:space="preserve">S</m:t>
                                </m:r>
                              </m:num>
                              <m:den>
                                <m:rad>
                                  <m:radPr>
                                    <m:degHide m:val="1"/>
                                  </m:radPr>
                                  <m:deg/>
                                  <m:e>
                                    <m:r>
                                      <m:t xml:space="preserve">n</m:t>
                                    </m:r>
                                  </m:e>
                                </m:rad>
                              </m:den>
                            </m:f>
                          </m:den>
                        </m:f>
                      </m:e>
                    </m:d>
                  </m:oMath>
                </a14:m>
              </a:p>
            </p:txBody>
          </p:sp>
        </mc:Choice>
        <mc:Fallback/>
      </mc:AlternateContent>
    </p:spTree>
  </p:cSld>
  <p:transition>
    <p:wipe dir="r"/>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489">
                                            <p:txEl>
                                              <p:pRg st="0" end="0"/>
                                            </p:txEl>
                                          </p:spTgt>
                                        </p:tgtEl>
                                        <p:attrNameLst>
                                          <p:attrName>style.visibility</p:attrName>
                                        </p:attrNameLst>
                                      </p:cBhvr>
                                      <p:to>
                                        <p:strVal val="visible"/>
                                      </p:to>
                                    </p:set>
                                    <p:animEffect filter="blinds(horizontal)" transition="in">
                                      <p:cBhvr additive="repl">
                                        <p:cTn id="475" dur="500"/>
                                        <p:tgtEl>
                                          <p:spTgt spid="489">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89">
                                            <p:txEl>
                                              <p:pRg st="1" end="1"/>
                                            </p:txEl>
                                          </p:spTgt>
                                        </p:tgtEl>
                                        <p:attrNameLst>
                                          <p:attrName>style.visibility</p:attrName>
                                        </p:attrNameLst>
                                      </p:cBhvr>
                                      <p:to>
                                        <p:strVal val="visible"/>
                                      </p:to>
                                    </p:set>
                                    <p:animEffect filter="blinds(horizontal)" transition="in">
                                      <p:cBhvr additive="repl">
                                        <p:cTn id="480" dur="500"/>
                                        <p:tgtEl>
                                          <p:spTgt spid="489">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489">
                                            <p:txEl>
                                              <p:pRg st="2" end="2"/>
                                            </p:txEl>
                                          </p:spTgt>
                                        </p:tgtEl>
                                        <p:attrNameLst>
                                          <p:attrName>style.visibility</p:attrName>
                                        </p:attrNameLst>
                                      </p:cBhvr>
                                      <p:to>
                                        <p:strVal val="visible"/>
                                      </p:to>
                                    </p:set>
                                    <p:animEffect filter="blinds(horizontal)" transition="in">
                                      <p:cBhvr additive="repl">
                                        <p:cTn id="485" dur="500"/>
                                        <p:tgtEl>
                                          <p:spTgt spid="489">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491"/>
                                        </p:tgtEl>
                                        <p:attrNameLst>
                                          <p:attrName>style.visibility</p:attrName>
                                        </p:attrNameLst>
                                      </p:cBhvr>
                                      <p:to>
                                        <p:strVal val="visible"/>
                                      </p:to>
                                    </p:set>
                                    <p:animEffect filter="blinds(horizontal)" transition="in">
                                      <p:cBhvr additive="repl">
                                        <p:cTn id="49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黑体"/>
              </a:rPr>
              <a:t>显著性水平和拒绝域</a:t>
            </a:r>
            <a:br>
              <a:rPr sz="3200"/>
            </a:br>
            <a:r>
              <a:rPr b="0" lang="zh-CN" sz="3600" spc="-1" strike="noStrike">
                <a:solidFill>
                  <a:srgbClr val="9999ff"/>
                </a:solidFill>
                <a:latin typeface="Arial"/>
              </a:rPr>
              <a:t>(</a:t>
            </a:r>
            <a:r>
              <a:rPr b="0" lang="zh-CN" sz="3600" spc="-1" strike="noStrike">
                <a:solidFill>
                  <a:srgbClr val="9999ff"/>
                </a:solidFill>
                <a:latin typeface="Arial"/>
              </a:rPr>
              <a:t>双侧检验 </a:t>
            </a:r>
            <a:r>
              <a:rPr b="0" lang="zh-CN" sz="3600" spc="-1" strike="noStrike">
                <a:solidFill>
                  <a:srgbClr val="9999ff"/>
                </a:solidFill>
                <a:latin typeface="Arial"/>
              </a:rPr>
              <a:t>)</a:t>
            </a:r>
            <a:endParaRPr b="0" lang="en-US" sz="3600" spc="-1" strike="noStrike">
              <a:solidFill>
                <a:srgbClr val="000000"/>
              </a:solidFill>
              <a:latin typeface="Arial"/>
            </a:endParaRPr>
          </a:p>
        </p:txBody>
      </p:sp>
      <p:sp>
        <p:nvSpPr>
          <p:cNvPr id="493" name=""/>
          <p:cNvSpPr/>
          <p:nvPr/>
        </p:nvSpPr>
        <p:spPr>
          <a:xfrm>
            <a:off x="0" y="1562040"/>
            <a:ext cx="9144000" cy="5295960"/>
          </a:xfrm>
          <a:prstGeom prst="rect">
            <a:avLst/>
          </a:prstGeom>
          <a:solidFill>
            <a:srgbClr val="ffffff"/>
          </a:solidFill>
          <a:ln w="0">
            <a:noFill/>
          </a:ln>
          <a:effectLst>
            <a:outerShdw dist="17819"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85800" y="1905120"/>
            <a:ext cx="2666880" cy="51552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抽样分布</a:t>
            </a:r>
            <a:endParaRPr b="0" lang="en-US" sz="2800" spc="-1" strike="noStrike">
              <a:solidFill>
                <a:srgbClr val="000000"/>
              </a:solidFill>
              <a:latin typeface="Arial"/>
            </a:endParaRPr>
          </a:p>
        </p:txBody>
      </p:sp>
      <p:grpSp>
        <p:nvGrpSpPr>
          <p:cNvPr id="495" name=""/>
          <p:cNvGrpSpPr/>
          <p:nvPr/>
        </p:nvGrpSpPr>
        <p:grpSpPr>
          <a:xfrm>
            <a:off x="1131840" y="2052720"/>
            <a:ext cx="6565680" cy="3990240"/>
            <a:chOff x="1131840" y="2052720"/>
            <a:chExt cx="6565680" cy="3990240"/>
          </a:xfrm>
        </p:grpSpPr>
        <p:sp>
          <p:nvSpPr>
            <p:cNvPr id="496" name=""/>
            <p:cNvSpPr/>
            <p:nvPr/>
          </p:nvSpPr>
          <p:spPr>
            <a:xfrm>
              <a:off x="4210200" y="5410080"/>
              <a:ext cx="16992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497" name=""/>
            <p:cNvSpPr/>
            <p:nvPr/>
          </p:nvSpPr>
          <p:spPr>
            <a:xfrm>
              <a:off x="5659560" y="566568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界值</a:t>
              </a:r>
              <a:endParaRPr b="0" lang="en-US" sz="2400" spc="-1" strike="noStrike">
                <a:solidFill>
                  <a:srgbClr val="000000"/>
                </a:solidFill>
                <a:latin typeface="Arial"/>
              </a:endParaRPr>
            </a:p>
          </p:txBody>
        </p:sp>
        <p:sp>
          <p:nvSpPr>
            <p:cNvPr id="498" name=""/>
            <p:cNvSpPr/>
            <p:nvPr/>
          </p:nvSpPr>
          <p:spPr>
            <a:xfrm>
              <a:off x="2563920" y="567684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临界值</a:t>
              </a:r>
              <a:endParaRPr b="0" lang="en-US" sz="2400" spc="-1" strike="noStrike">
                <a:solidFill>
                  <a:srgbClr val="000000"/>
                </a:solidFill>
                <a:latin typeface="Arial"/>
              </a:endParaRPr>
            </a:p>
          </p:txBody>
        </p:sp>
        <p:sp>
          <p:nvSpPr>
            <p:cNvPr id="499" name=""/>
            <p:cNvSpPr/>
            <p:nvPr/>
          </p:nvSpPr>
          <p:spPr>
            <a:xfrm>
              <a:off x="6898320" y="3857760"/>
              <a:ext cx="532440" cy="366120"/>
            </a:xfrm>
            <a:prstGeom prst="rect">
              <a:avLst/>
            </a:prstGeom>
            <a:noFill/>
            <a:ln w="0">
              <a:noFill/>
            </a:ln>
            <a:effectLst>
              <a:outerShdw dist="17819" dir="2700000" blurRad="0" rotWithShape="0">
                <a:srgbClr val="00007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2 </a:t>
              </a:r>
              <a:endParaRPr b="0" lang="en-US" sz="2400" spc="-1" strike="noStrike">
                <a:solidFill>
                  <a:srgbClr val="000000"/>
                </a:solidFill>
                <a:latin typeface="Arial"/>
              </a:endParaRPr>
            </a:p>
          </p:txBody>
        </p:sp>
        <p:sp>
          <p:nvSpPr>
            <p:cNvPr id="500" name=""/>
            <p:cNvSpPr/>
            <p:nvPr/>
          </p:nvSpPr>
          <p:spPr>
            <a:xfrm>
              <a:off x="1710360" y="3822840"/>
              <a:ext cx="532440" cy="366120"/>
            </a:xfrm>
            <a:prstGeom prst="rect">
              <a:avLst/>
            </a:prstGeom>
            <a:noFill/>
            <a:ln w="0">
              <a:noFill/>
            </a:ln>
            <a:effectLst>
              <a:outerShdw dist="17819" dir="2700000" blurRad="0" rotWithShape="0">
                <a:srgbClr val="00007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lang="en-US" sz="2400" spc="-1" strike="noStrike">
                  <a:solidFill>
                    <a:srgbClr val="000000"/>
                  </a:solidFill>
                  <a:latin typeface="Arial"/>
                </a:rPr>
                <a:t>/2</a:t>
              </a:r>
              <a:r>
                <a:rPr b="1" lang="en-US" sz="2400" spc="-1" strike="noStrike">
                  <a:solidFill>
                    <a:srgbClr val="cdcdcd"/>
                  </a:solidFill>
                  <a:latin typeface="Arial"/>
                </a:rPr>
                <a:t> </a:t>
              </a:r>
              <a:endParaRPr b="0" lang="en-US" sz="2400" spc="-1" strike="noStrike">
                <a:solidFill>
                  <a:srgbClr val="000000"/>
                </a:solidFill>
                <a:latin typeface="Arial"/>
              </a:endParaRPr>
            </a:p>
          </p:txBody>
        </p:sp>
        <p:sp>
          <p:nvSpPr>
            <p:cNvPr id="501" name=""/>
            <p:cNvSpPr/>
            <p:nvPr/>
          </p:nvSpPr>
          <p:spPr>
            <a:xfrm>
              <a:off x="6858000" y="5410080"/>
              <a:ext cx="1440" cy="36540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1978200" y="2895480"/>
              <a:ext cx="758160" cy="4165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拒绝</a:t>
              </a:r>
              <a:r>
                <a:rPr b="0" i="1" lang="zh-CN" sz="2400" spc="-1" strike="noStrike">
                  <a:solidFill>
                    <a:srgbClr val="000000"/>
                  </a:solidFill>
                  <a:latin typeface="Arial"/>
                </a:rPr>
                <a:t>H</a:t>
              </a:r>
              <a:r>
                <a:rPr b="0" lang="zh-CN" sz="2400" spc="-1" strike="noStrike" baseline="-25000">
                  <a:solidFill>
                    <a:srgbClr val="000000"/>
                  </a:solidFill>
                  <a:latin typeface="Arial"/>
                </a:rPr>
                <a:t>0</a:t>
              </a:r>
              <a:endParaRPr b="0" lang="en-US" sz="2400" spc="-1" strike="noStrike">
                <a:solidFill>
                  <a:srgbClr val="000000"/>
                </a:solidFill>
                <a:latin typeface="Arial"/>
              </a:endParaRPr>
            </a:p>
          </p:txBody>
        </p:sp>
        <p:sp>
          <p:nvSpPr>
            <p:cNvPr id="503" name=""/>
            <p:cNvSpPr/>
            <p:nvPr/>
          </p:nvSpPr>
          <p:spPr>
            <a:xfrm>
              <a:off x="6073920" y="2895480"/>
              <a:ext cx="758160" cy="4165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拒绝</a:t>
              </a:r>
              <a:r>
                <a:rPr b="0" i="1" lang="zh-CN" sz="2400" spc="-1" strike="noStrike">
                  <a:solidFill>
                    <a:srgbClr val="000000"/>
                  </a:solidFill>
                  <a:latin typeface="Arial"/>
                </a:rPr>
                <a:t>H</a:t>
              </a:r>
              <a:r>
                <a:rPr b="0" lang="zh-CN" sz="2400" spc="-1" strike="noStrike" baseline="-25000">
                  <a:solidFill>
                    <a:srgbClr val="000000"/>
                  </a:solidFill>
                  <a:latin typeface="Arial"/>
                </a:rPr>
                <a:t>0</a:t>
              </a:r>
              <a:endParaRPr b="0" lang="en-US" sz="2400" spc="-1" strike="noStrike">
                <a:solidFill>
                  <a:srgbClr val="000000"/>
                </a:solidFill>
                <a:latin typeface="Arial"/>
              </a:endParaRPr>
            </a:p>
          </p:txBody>
        </p:sp>
        <p:sp>
          <p:nvSpPr>
            <p:cNvPr id="504" name=""/>
            <p:cNvSpPr/>
            <p:nvPr/>
          </p:nvSpPr>
          <p:spPr>
            <a:xfrm>
              <a:off x="75740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5" name=""/>
            <p:cNvSpPr/>
            <p:nvPr/>
          </p:nvSpPr>
          <p:spPr>
            <a:xfrm>
              <a:off x="695016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6" name=""/>
            <p:cNvSpPr/>
            <p:nvPr/>
          </p:nvSpPr>
          <p:spPr>
            <a:xfrm>
              <a:off x="63198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
            <p:cNvSpPr/>
            <p:nvPr/>
          </p:nvSpPr>
          <p:spPr>
            <a:xfrm>
              <a:off x="56912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
            <p:cNvSpPr/>
            <p:nvPr/>
          </p:nvSpPr>
          <p:spPr>
            <a:xfrm>
              <a:off x="50626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9" name=""/>
            <p:cNvSpPr/>
            <p:nvPr/>
          </p:nvSpPr>
          <p:spPr>
            <a:xfrm>
              <a:off x="44337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
            <p:cNvSpPr/>
            <p:nvPr/>
          </p:nvSpPr>
          <p:spPr>
            <a:xfrm>
              <a:off x="38052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1" name=""/>
            <p:cNvSpPr/>
            <p:nvPr/>
          </p:nvSpPr>
          <p:spPr>
            <a:xfrm>
              <a:off x="31798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
            <p:cNvSpPr/>
            <p:nvPr/>
          </p:nvSpPr>
          <p:spPr>
            <a:xfrm>
              <a:off x="25509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3" name=""/>
            <p:cNvSpPr/>
            <p:nvPr/>
          </p:nvSpPr>
          <p:spPr>
            <a:xfrm>
              <a:off x="2960640" y="4938840"/>
              <a:ext cx="2822760" cy="1440"/>
            </a:xfrm>
            <a:prstGeom prst="line">
              <a:avLst/>
            </a:prstGeom>
            <a:ln w="36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3576600" y="3691080"/>
              <a:ext cx="1533600" cy="45468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 </a:t>
              </a: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5" name=""/>
            <p:cNvSpPr/>
            <p:nvPr/>
          </p:nvSpPr>
          <p:spPr>
            <a:xfrm flipH="1">
              <a:off x="4311720" y="2298600"/>
              <a:ext cx="1263600" cy="149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557680" y="2052720"/>
              <a:ext cx="2062440" cy="454680"/>
            </a:xfrm>
            <a:prstGeom prst="rect">
              <a:avLst/>
            </a:prstGeom>
            <a:noFill/>
            <a:ln w="0">
              <a:noFill/>
            </a:ln>
            <a:effectLst>
              <a:outerShdw dist="12600" dir="5400000" blurRad="0" rotWithShape="0">
                <a:srgbClr val="00007d"/>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置信水平</a:t>
              </a:r>
              <a:endParaRPr b="0" lang="en-US" sz="2400" spc="-1" strike="noStrike">
                <a:solidFill>
                  <a:srgbClr val="000000"/>
                </a:solidFill>
                <a:latin typeface="Arial"/>
              </a:endParaRPr>
            </a:p>
          </p:txBody>
        </p:sp>
        <p:sp>
          <p:nvSpPr>
            <p:cNvPr id="517" name=""/>
            <p:cNvSpPr/>
            <p:nvPr/>
          </p:nvSpPr>
          <p:spPr>
            <a:xfrm>
              <a:off x="1828800" y="34290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924520" y="342900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2800440" y="5334120"/>
              <a:ext cx="0" cy="30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886360" y="5334120"/>
              <a:ext cx="0" cy="30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174680" y="4649760"/>
              <a:ext cx="1617840" cy="67644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916600" y="4592520"/>
              <a:ext cx="1657440" cy="74160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1131840" y="3013200"/>
              <a:ext cx="6565680" cy="2359080"/>
              <a:chOff x="1131840" y="3013200"/>
              <a:chExt cx="6565680" cy="2359080"/>
            </a:xfrm>
          </p:grpSpPr>
          <p:sp>
            <p:nvSpPr>
              <p:cNvPr id="524" name=""/>
              <p:cNvSpPr/>
              <p:nvPr/>
            </p:nvSpPr>
            <p:spPr>
              <a:xfrm>
                <a:off x="1215360" y="3013200"/>
                <a:ext cx="6482160" cy="2327400"/>
              </a:xfrm>
              <a:custGeom>
                <a:avLst/>
                <a:gdLst/>
                <a:ahLst/>
                <a:rect l="l" t="t" r="r" b="b"/>
                <a:pathLst>
                  <a:path w="3957" h="1466">
                    <a:moveTo>
                      <a:pt x="0" y="0"/>
                    </a:moveTo>
                    <a:lnTo>
                      <a:pt x="0" y="1466"/>
                    </a:lnTo>
                    <a:lnTo>
                      <a:pt x="3957" y="1466"/>
                    </a:lnTo>
                  </a:path>
                </a:pathLst>
              </a:custGeom>
              <a:noFill/>
              <a:ln w="36360">
                <a:solidFill>
                  <a:srgbClr val="000000"/>
                </a:solidFill>
                <a:round/>
              </a:ln>
              <a:effectLst>
                <a:outerShdw dist="0" dir="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131840" y="3016440"/>
                <a:ext cx="731880" cy="2355840"/>
                <a:chOff x="1131840" y="3016440"/>
                <a:chExt cx="731880" cy="2355840"/>
              </a:xfrm>
            </p:grpSpPr>
            <p:sp>
              <p:nvSpPr>
                <p:cNvPr id="526" name=""/>
                <p:cNvSpPr/>
                <p:nvPr/>
              </p:nvSpPr>
              <p:spPr>
                <a:xfrm>
                  <a:off x="1131840" y="3016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
                <p:cNvSpPr/>
                <p:nvPr/>
              </p:nvSpPr>
              <p:spPr>
                <a:xfrm>
                  <a:off x="1131840" y="325116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1131840" y="348480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
                <p:cNvSpPr/>
                <p:nvPr/>
              </p:nvSpPr>
              <p:spPr>
                <a:xfrm>
                  <a:off x="1131840" y="371484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1131840" y="394812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1131840" y="41817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
                <p:cNvSpPr/>
                <p:nvPr/>
              </p:nvSpPr>
              <p:spPr>
                <a:xfrm>
                  <a:off x="1131840" y="44164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1131840" y="46450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1131840" y="48801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a:off x="1131840" y="5113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1861920" y="53434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grpSp>
          <p:nvGrpSpPr>
            <p:cNvPr id="537" name=""/>
            <p:cNvGrpSpPr/>
            <p:nvPr/>
          </p:nvGrpSpPr>
          <p:grpSpPr>
            <a:xfrm>
              <a:off x="1295280" y="2971800"/>
              <a:ext cx="6164280" cy="2273400"/>
              <a:chOff x="1295280" y="2971800"/>
              <a:chExt cx="6164280" cy="2273400"/>
            </a:xfrm>
          </p:grpSpPr>
          <p:sp>
            <p:nvSpPr>
              <p:cNvPr id="538" name=""/>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816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816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1969920" y="4241880"/>
              <a:ext cx="481320" cy="8985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1260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195960" y="4282920"/>
              <a:ext cx="938160" cy="89388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12600" dir="5400000" blurRad="0" rotWithShape="0">
                <a:srgbClr val="00007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800440" y="3429000"/>
              <a:ext cx="0" cy="19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905440" y="3429000"/>
              <a:ext cx="0" cy="19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611280" y="620640"/>
            <a:ext cx="8207280" cy="5904000"/>
          </a:xfrm>
          <a:prstGeom prst="rect">
            <a:avLst/>
          </a:prstGeom>
          <a:noFill/>
          <a:ln w="0">
            <a:noFill/>
          </a:ln>
        </p:spPr>
        <p:txBody>
          <a:bodyPr lIns="90000" rIns="90000" tIns="46800" bIns="46800" anchor="t">
            <a:normAutofit fontScale="99000"/>
          </a:bodyPr>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定义</a:t>
            </a:r>
            <a:r>
              <a:rPr b="1" lang="zh-CN" sz="2800" spc="-1" strike="noStrike">
                <a:solidFill>
                  <a:srgbClr val="660033"/>
                </a:solidFill>
                <a:latin typeface="黑体"/>
                <a:ea typeface="黑体"/>
              </a:rPr>
              <a:t>:</a:t>
            </a:r>
            <a:r>
              <a:rPr b="1" lang="zh-CN" sz="2400" spc="-1" strike="noStrike">
                <a:solidFill>
                  <a:srgbClr val="000000"/>
                </a:solidFill>
                <a:latin typeface="Arial"/>
              </a:rPr>
              <a:t> </a:t>
            </a:r>
            <a:r>
              <a:rPr b="0" lang="zh-CN" sz="2400" spc="-1" strike="noStrike">
                <a:solidFill>
                  <a:srgbClr val="000000"/>
                </a:solidFill>
                <a:latin typeface="华文新魏"/>
                <a:ea typeface="华文新魏"/>
              </a:rPr>
              <a:t>随机变量                </a:t>
            </a:r>
            <a:r>
              <a:rPr b="0" lang="zh-CN" sz="2400" spc="-1" strike="noStrike">
                <a:solidFill>
                  <a:srgbClr val="000000"/>
                </a:solidFill>
                <a:latin typeface="华文新魏"/>
                <a:ea typeface="华文新魏"/>
              </a:rPr>
              <a:t>,  T </a:t>
            </a:r>
            <a:r>
              <a:rPr b="0" lang="zh-CN" sz="2400" spc="-1" strike="noStrike">
                <a:solidFill>
                  <a:srgbClr val="000000"/>
                </a:solidFill>
                <a:latin typeface="华文新魏"/>
                <a:ea typeface="华文新魏"/>
              </a:rPr>
              <a:t>在区间                 的概率为     </a:t>
            </a:r>
            <a:r>
              <a:rPr b="0" lang="zh-CN" sz="2400" spc="-1" strike="noStrike">
                <a:solidFill>
                  <a:srgbClr val="000000"/>
                </a:solidFill>
                <a:latin typeface="华文新魏"/>
                <a:ea typeface="华文新魏"/>
              </a:rPr>
              <a:t>,  T</a:t>
            </a:r>
            <a:r>
              <a:rPr b="0" lang="zh-CN" sz="2400" spc="-1" strike="noStrike">
                <a:solidFill>
                  <a:srgbClr val="000000"/>
                </a:solidFill>
                <a:latin typeface="华文新魏"/>
                <a:ea typeface="华文新魏"/>
              </a:rPr>
              <a:t>不在区间                    的概率为 </a:t>
            </a:r>
            <a:endParaRPr b="0" lang="en-US" sz="2400" spc="-1" strike="noStrike">
              <a:solidFill>
                <a:srgbClr val="000000"/>
              </a:solidFill>
              <a:latin typeface="Arial"/>
            </a:endParaRPr>
          </a:p>
          <a:p>
            <a:pPr marL="603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1)      </a:t>
            </a:r>
            <a:r>
              <a:rPr b="0" lang="zh-CN" sz="2400" spc="-1" strike="noStrike">
                <a:solidFill>
                  <a:srgbClr val="000000"/>
                </a:solidFill>
                <a:latin typeface="华文新魏"/>
                <a:ea typeface="华文新魏"/>
              </a:rPr>
              <a:t>为显著水平</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是一个概率值</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p>
            <a:pPr marL="603360" indent="0">
              <a:lnSpc>
                <a:spcPct val="100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原假设为真时，拒绝原假设的概率</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被称为抽样分布的拒绝域</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一般为 </a:t>
            </a:r>
            <a:r>
              <a:rPr b="0" lang="zh-CN" sz="2400" spc="-1" strike="noStrike">
                <a:solidFill>
                  <a:srgbClr val="000000"/>
                </a:solidFill>
                <a:latin typeface="华文新魏"/>
                <a:ea typeface="华文新魏"/>
              </a:rPr>
              <a:t>10% , 5% , 1% </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为置信水平</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是大概率事件</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a:t>
            </a:r>
            <a:r>
              <a:rPr b="0" lang="zh-CN" sz="2400" spc="-1" strike="noStrike">
                <a:solidFill>
                  <a:srgbClr val="000000"/>
                </a:solidFill>
                <a:latin typeface="华文新魏"/>
                <a:ea typeface="华文新魏"/>
              </a:rPr>
              <a:t>一般为</a:t>
            </a:r>
            <a:r>
              <a:rPr b="0" lang="zh-CN" sz="2400" spc="-1" strike="noStrike">
                <a:solidFill>
                  <a:srgbClr val="000000"/>
                </a:solidFill>
                <a:latin typeface="华文新魏"/>
                <a:ea typeface="华文新魏"/>
              </a:rPr>
              <a:t>90%,  95% ,99%</a:t>
            </a:r>
            <a:endParaRPr b="0" lang="en-US" sz="2400" spc="-1" strike="noStrike">
              <a:solidFill>
                <a:srgbClr val="000000"/>
              </a:solidFill>
              <a:latin typeface="Arial"/>
            </a:endParaRPr>
          </a:p>
          <a:p>
            <a:pPr lvl="1" marL="9806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545"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5651640" y="765000"/>
                <a:ext cx="1079280" cy="659160"/>
              </a:xfrm>
              <a:prstGeom prst="rect">
                <a:avLst/>
              </a:prstGeom>
            </p:spPr>
            <p:txBody>
              <a:bodyPr/>
              <a:p>
                <a14:m>
                  <m:oMath xmlns:m="http://schemas.openxmlformats.org/officeDocument/2006/math">
                    <m:r>
                      <m:t xml:space="preserve">(</m:t>
                    </m:r>
                    <m:r>
                      <m:t xml:space="preserve">−</m:t>
                    </m:r>
                    <m:sSub>
                      <m:e>
                        <m:r>
                          <m:t xml:space="preserve">t</m:t>
                        </m:r>
                      </m:e>
                      <m:sub>
                        <m:f>
                          <m:num>
                            <m:r>
                              <m:t xml:space="preserve">α</m:t>
                            </m:r>
                          </m:num>
                          <m:den>
                            <m:r>
                              <m:t xml:space="preserve">2</m:t>
                            </m:r>
                          </m:den>
                        </m:f>
                      </m:sub>
                    </m:sSub>
                    <m:r>
                      <m:t xml:space="preserve">,</m:t>
                    </m:r>
                    <m:sSub>
                      <m:e>
                        <m:r>
                          <m:t xml:space="preserve">t</m:t>
                        </m:r>
                      </m:e>
                      <m:sub>
                        <m:f>
                          <m:num>
                            <m:r>
                              <m:t xml:space="preserve">α</m:t>
                            </m:r>
                          </m:num>
                          <m:den>
                            <m:r>
                              <m:t xml:space="preserve">2</m:t>
                            </m:r>
                          </m:den>
                        </m:f>
                      </m:sub>
                    </m:sSub>
                    <m:r>
                      <m:t xml:space="preserve">)</m:t>
                    </m:r>
                  </m:oMath>
                </a14:m>
              </a:p>
            </p:txBody>
          </p:sp>
        </mc:Choice>
        <mc:Fallback/>
      </mc:AlternateContent>
      <p:sp>
        <p:nvSpPr>
          <p:cNvPr id="547"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9" name=""/>
              <p:cNvSpPr txBox="1"/>
              <p:nvPr/>
            </p:nvSpPr>
            <p:spPr>
              <a:xfrm>
                <a:off x="2916360" y="1341360"/>
                <a:ext cx="1152360" cy="700200"/>
              </a:xfrm>
              <a:prstGeom prst="rect">
                <a:avLst/>
              </a:prstGeom>
            </p:spPr>
            <p:txBody>
              <a:bodyPr/>
              <a:p>
                <a14:m>
                  <m:oMath xmlns:m="http://schemas.openxmlformats.org/officeDocument/2006/math">
                    <m:r>
                      <m:t xml:space="preserve">(</m:t>
                    </m:r>
                    <m:r>
                      <m:t xml:space="preserve">−</m:t>
                    </m:r>
                    <m:sSub>
                      <m:e>
                        <m:r>
                          <m:t xml:space="preserve">t</m:t>
                        </m:r>
                      </m:e>
                      <m:sub>
                        <m:f>
                          <m:num>
                            <m:r>
                              <m:t xml:space="preserve">α</m:t>
                            </m:r>
                          </m:num>
                          <m:den>
                            <m:r>
                              <m:t xml:space="preserve">2</m:t>
                            </m:r>
                          </m:den>
                        </m:f>
                      </m:sub>
                    </m:sSub>
                    <m:r>
                      <m:t xml:space="preserve">,</m:t>
                    </m:r>
                    <m:sSub>
                      <m:e>
                        <m:r>
                          <m:t xml:space="preserve">t</m:t>
                        </m:r>
                      </m:e>
                      <m:sub>
                        <m:f>
                          <m:num>
                            <m:r>
                              <m:t xml:space="preserve">α</m:t>
                            </m:r>
                          </m:num>
                          <m:den>
                            <m:r>
                              <m:t xml:space="preserve">2</m:t>
                            </m:r>
                          </m:den>
                        </m:f>
                      </m:sub>
                    </m:sSub>
                    <m:r>
                      <m:t xml:space="preserve">)</m:t>
                    </m:r>
                  </m:oMath>
                </a14:m>
              </a:p>
            </p:txBody>
          </p:sp>
        </mc:Choice>
        <mc:Fallback/>
      </mc:AlternateContent>
      <p:sp>
        <p:nvSpPr>
          <p:cNvPr id="55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1" name=""/>
              <p:cNvSpPr txBox="1"/>
              <p:nvPr/>
            </p:nvSpPr>
            <p:spPr>
              <a:xfrm>
                <a:off x="1763640" y="1484280"/>
                <a:ext cx="611280" cy="322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52"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3" name=""/>
              <p:cNvSpPr txBox="1"/>
              <p:nvPr/>
            </p:nvSpPr>
            <p:spPr>
              <a:xfrm>
                <a:off x="5508720" y="1484280"/>
                <a:ext cx="287280" cy="270000"/>
              </a:xfrm>
              <a:prstGeom prst="rect">
                <a:avLst/>
              </a:prstGeom>
            </p:spPr>
            <p:txBody>
              <a:bodyPr/>
              <a:p>
                <a14:m>
                  <m:oMath xmlns:m="http://schemas.openxmlformats.org/officeDocument/2006/math">
                    <m:r>
                      <m:t xml:space="preserve">α</m:t>
                    </m:r>
                  </m:oMath>
                </a14:m>
              </a:p>
            </p:txBody>
          </p:sp>
        </mc:Choice>
        <mc:Fallback/>
      </mc:AlternateContent>
      <p:sp>
        <p:nvSpPr>
          <p:cNvPr id="5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5" name=""/>
              <p:cNvSpPr txBox="1"/>
              <p:nvPr/>
            </p:nvSpPr>
            <p:spPr>
              <a:xfrm>
                <a:off x="1476360" y="2565360"/>
                <a:ext cx="324000" cy="303120"/>
              </a:xfrm>
              <a:prstGeom prst="rect">
                <a:avLst/>
              </a:prstGeom>
            </p:spPr>
            <p:txBody>
              <a:bodyPr/>
              <a:p>
                <a14:m>
                  <m:oMath xmlns:m="http://schemas.openxmlformats.org/officeDocument/2006/math">
                    <m:r>
                      <m:t xml:space="preserve">α</m:t>
                    </m:r>
                  </m:oMath>
                </a14:m>
              </a:p>
            </p:txBody>
          </p:sp>
        </mc:Choice>
        <mc:Fallback/>
      </mc:AlternateContent>
      <p:sp>
        <p:nvSpPr>
          <p:cNvPr id="55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1619280" y="4797360"/>
                <a:ext cx="682560" cy="35892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5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9" name=""/>
              <p:cNvSpPr txBox="1"/>
              <p:nvPr/>
            </p:nvSpPr>
            <p:spPr>
              <a:xfrm>
                <a:off x="1908000" y="6178680"/>
                <a:ext cx="533520" cy="679320"/>
              </a:xfrm>
              <a:prstGeom prst="rect">
                <a:avLst/>
              </a:prstGeom>
            </p:spPr>
            <p:txBody>
              <a:bodyPr/>
              <a:p>
                <a14:m>
                  <m:oMath xmlns:m="http://schemas.openxmlformats.org/officeDocument/2006/math">
                    <m:r>
                      <m:t xml:space="preserve">−</m:t>
                    </m:r>
                    <m:sSub>
                      <m:e>
                        <m:r>
                          <m:t xml:space="preserve">t</m:t>
                        </m:r>
                      </m:e>
                      <m:sub>
                        <m:f>
                          <m:num>
                            <m:r>
                              <m:t xml:space="preserve">α</m:t>
                            </m:r>
                          </m:num>
                          <m:den>
                            <m:r>
                              <m:t xml:space="preserve">2</m:t>
                            </m:r>
                          </m:den>
                        </m:f>
                      </m:sub>
                    </m:sSub>
                  </m:oMath>
                </a14:m>
              </a:p>
            </p:txBody>
          </p:sp>
        </mc:Choice>
        <mc:Fallback/>
      </mc:AlternateContent>
      <p:sp>
        <p:nvSpPr>
          <p:cNvPr id="560"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843280" y="6210360"/>
                <a:ext cx="333360" cy="647640"/>
              </a:xfrm>
              <a:prstGeom prst="rect">
                <a:avLst/>
              </a:prstGeom>
            </p:spPr>
            <p:txBody>
              <a:bodyPr/>
              <a:p>
                <a14:m>
                  <m:oMath xmlns:m="http://schemas.openxmlformats.org/officeDocument/2006/math">
                    <m:sSub>
                      <m:e>
                        <m:r>
                          <m:t xml:space="preserve">t</m:t>
                        </m:r>
                      </m:e>
                      <m:sub>
                        <m:f>
                          <m:num>
                            <m:r>
                              <m:t xml:space="preserve">α</m:t>
                            </m:r>
                          </m:num>
                          <m:den>
                            <m:r>
                              <m:t xml:space="preserve">2</m:t>
                            </m:r>
                          </m:den>
                        </m:f>
                      </m:sub>
                    </m:sSub>
                  </m:oMath>
                </a14:m>
              </a:p>
            </p:txBody>
          </p:sp>
        </mc:Choice>
        <mc:Fallback/>
      </mc:AlternateContent>
      <p:sp>
        <p:nvSpPr>
          <p:cNvPr id="562" name=""/>
          <p:cNvSpPr/>
          <p:nvPr/>
        </p:nvSpPr>
        <p:spPr>
          <a:xfrm>
            <a:off x="1042920" y="609300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          ,           </a:t>
            </a:r>
            <a:r>
              <a:rPr b="0" lang="zh-CN" sz="2800" spc="-1" strike="noStrike">
                <a:solidFill>
                  <a:srgbClr val="000000"/>
                </a:solidFill>
                <a:latin typeface="华文新魏"/>
                <a:ea typeface="华文新魏"/>
              </a:rPr>
              <a:t>为临界值</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3059280" y="839880"/>
                <a:ext cx="865080" cy="447480"/>
              </a:xfrm>
              <a:prstGeom prst="rect">
                <a:avLst/>
              </a:prstGeom>
            </p:spPr>
            <p:txBody>
              <a:bodyPr/>
              <a:p>
                <a14:m>
                  <m:oMath xmlns:m="http://schemas.openxmlformats.org/officeDocument/2006/math">
                    <m:r>
                      <m:t xml:space="preserve">T</m:t>
                    </m:r>
                    <m:r>
                      <m:rPr>
                        <m:lit/>
                        <m:nor/>
                      </m:rPr>
                      <m:t xml:space="preserve">~</m:t>
                    </m:r>
                    <m:r>
                      <m:t xml:space="preserve">t</m:t>
                    </m:r>
                  </m:oMath>
                </a14:m>
              </a:p>
            </p:txBody>
          </p:sp>
        </mc:Choice>
        <mc:Fallback/>
      </mc:AlternateContent>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8" presetSubtype="16">
                                  <p:stCondLst>
                                    <p:cond delay="0"/>
                                  </p:stCondLst>
                                  <p:childTnLst>
                                    <p:set>
                                      <p:cBhvr>
                                        <p:cTn id="496" dur="1" fill="hold">
                                          <p:stCondLst>
                                            <p:cond delay="0"/>
                                          </p:stCondLst>
                                        </p:cTn>
                                        <p:tgtEl>
                                          <p:spTgt spid="544">
                                            <p:txEl>
                                              <p:pRg st="2" end="2"/>
                                            </p:txEl>
                                          </p:spTgt>
                                        </p:tgtEl>
                                        <p:attrNameLst>
                                          <p:attrName>style.visibility</p:attrName>
                                        </p:attrNameLst>
                                      </p:cBhvr>
                                      <p:to>
                                        <p:strVal val="visible"/>
                                      </p:to>
                                    </p:set>
                                    <p:animEffect filter="diamond(in)" transition="in">
                                      <p:cBhvr additive="repl">
                                        <p:cTn id="497" dur="2000"/>
                                        <p:tgtEl>
                                          <p:spTgt spid="544">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8" presetSubtype="16">
                                  <p:stCondLst>
                                    <p:cond delay="0"/>
                                  </p:stCondLst>
                                  <p:childTnLst>
                                    <p:set>
                                      <p:cBhvr>
                                        <p:cTn id="501" dur="1" fill="hold">
                                          <p:stCondLst>
                                            <p:cond delay="0"/>
                                          </p:stCondLst>
                                        </p:cTn>
                                        <p:tgtEl>
                                          <p:spTgt spid="544">
                                            <p:txEl>
                                              <p:pRg st="3" end="3"/>
                                            </p:txEl>
                                          </p:spTgt>
                                        </p:tgtEl>
                                        <p:attrNameLst>
                                          <p:attrName>style.visibility</p:attrName>
                                        </p:attrNameLst>
                                      </p:cBhvr>
                                      <p:to>
                                        <p:strVal val="visible"/>
                                      </p:to>
                                    </p:set>
                                    <p:animEffect filter="diamond(in)" transition="in">
                                      <p:cBhvr additive="repl">
                                        <p:cTn id="502" dur="2000"/>
                                        <p:tgtEl>
                                          <p:spTgt spid="544">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544">
                                            <p:txEl>
                                              <p:pRg st="4" end="4"/>
                                            </p:txEl>
                                          </p:spTgt>
                                        </p:tgtEl>
                                        <p:attrNameLst>
                                          <p:attrName>style.visibility</p:attrName>
                                        </p:attrNameLst>
                                      </p:cBhvr>
                                      <p:to>
                                        <p:strVal val="visible"/>
                                      </p:to>
                                    </p:set>
                                    <p:animEffect filter="diamond(in)" transition="in">
                                      <p:cBhvr additive="repl">
                                        <p:cTn id="507" dur="2000"/>
                                        <p:tgtEl>
                                          <p:spTgt spid="54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544">
                                            <p:txEl>
                                              <p:pRg st="5" end="5"/>
                                            </p:txEl>
                                          </p:spTgt>
                                        </p:tgtEl>
                                        <p:attrNameLst>
                                          <p:attrName>style.visibility</p:attrName>
                                        </p:attrNameLst>
                                      </p:cBhvr>
                                      <p:to>
                                        <p:strVal val="visible"/>
                                      </p:to>
                                    </p:set>
                                    <p:animEffect filter="checkerboard(across)" transition="in">
                                      <p:cBhvr additive="repl">
                                        <p:cTn id="512" dur="500"/>
                                        <p:tgtEl>
                                          <p:spTgt spid="54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544">
                                            <p:txEl>
                                              <p:pRg st="6" end="6"/>
                                            </p:txEl>
                                          </p:spTgt>
                                        </p:tgtEl>
                                        <p:attrNameLst>
                                          <p:attrName>style.visibility</p:attrName>
                                        </p:attrNameLst>
                                      </p:cBhvr>
                                      <p:to>
                                        <p:strVal val="visible"/>
                                      </p:to>
                                    </p:set>
                                    <p:animEffect filter="checkerboard(across)" transition="in">
                                      <p:cBhvr additive="repl">
                                        <p:cTn id="517" dur="500"/>
                                        <p:tgtEl>
                                          <p:spTgt spid="544">
                                            <p:txEl>
                                              <p:pRg st="6" end="6"/>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544">
                                            <p:txEl>
                                              <p:pRg st="7" end="7"/>
                                            </p:txEl>
                                          </p:spTgt>
                                        </p:tgtEl>
                                        <p:attrNameLst>
                                          <p:attrName>style.visibility</p:attrName>
                                        </p:attrNameLst>
                                      </p:cBhvr>
                                      <p:to>
                                        <p:strVal val="visible"/>
                                      </p:to>
                                    </p:set>
                                    <p:animEffect filter="checkerboard(across)" transition="in">
                                      <p:cBhvr additive="repl">
                                        <p:cTn id="522" dur="500"/>
                                        <p:tgtEl>
                                          <p:spTgt spid="544">
                                            <p:txEl>
                                              <p:pRg st="7" end="7"/>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544">
                                            <p:txEl>
                                              <p:pRg st="8" end="8"/>
                                            </p:txEl>
                                          </p:spTgt>
                                        </p:tgtEl>
                                        <p:attrNameLst>
                                          <p:attrName>style.visibility</p:attrName>
                                        </p:attrNameLst>
                                      </p:cBhvr>
                                      <p:to>
                                        <p:strVal val="visible"/>
                                      </p:to>
                                    </p:set>
                                    <p:animEffect filter="checkerboard(across)" transition="in">
                                      <p:cBhvr additive="repl">
                                        <p:cTn id="527" dur="500"/>
                                        <p:tgtEl>
                                          <p:spTgt spid="54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544">
                                            <p:txEl>
                                              <p:pRg st="9" end="9"/>
                                            </p:txEl>
                                          </p:spTgt>
                                        </p:tgtEl>
                                        <p:attrNameLst>
                                          <p:attrName>style.visibility</p:attrName>
                                        </p:attrNameLst>
                                      </p:cBhvr>
                                      <p:to>
                                        <p:strVal val="visible"/>
                                      </p:to>
                                    </p:set>
                                    <p:animEffect filter="checkerboard(across)" transition="in">
                                      <p:cBhvr additive="repl">
                                        <p:cTn id="532" dur="500"/>
                                        <p:tgtEl>
                                          <p:spTgt spid="544">
                                            <p:txEl>
                                              <p:pRg st="9" end="9"/>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544">
                                            <p:txEl>
                                              <p:pRg st="10" end="10"/>
                                            </p:txEl>
                                          </p:spTgt>
                                        </p:tgtEl>
                                        <p:attrNameLst>
                                          <p:attrName>style.visibility</p:attrName>
                                        </p:attrNameLst>
                                      </p:cBhvr>
                                      <p:to>
                                        <p:strVal val="visible"/>
                                      </p:to>
                                    </p:set>
                                    <p:animEffect filter="checkerboard(across)" transition="in">
                                      <p:cBhvr additive="repl">
                                        <p:cTn id="537" dur="500"/>
                                        <p:tgtEl>
                                          <p:spTgt spid="544">
                                            <p:txEl>
                                              <p:pRg st="10" end="1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562">
                                            <p:txEl>
                                              <p:pRg st="0" end="0"/>
                                            </p:txEl>
                                          </p:spTgt>
                                        </p:tgtEl>
                                        <p:attrNameLst>
                                          <p:attrName>style.visibility</p:attrName>
                                        </p:attrNameLst>
                                      </p:cBhvr>
                                      <p:to>
                                        <p:strVal val="visible"/>
                                      </p:to>
                                    </p:set>
                                    <p:animEffect filter="checkerboard(across)" transition="in">
                                      <p:cBhvr additive="repl">
                                        <p:cTn id="542" dur="500"/>
                                        <p:tgtEl>
                                          <p:spTgt spid="5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六节</a:t>
            </a:r>
            <a:r>
              <a:rPr b="0" lang="zh-CN" sz="4400" spc="-1" strike="noStrike">
                <a:solidFill>
                  <a:srgbClr val="000000"/>
                </a:solidFill>
                <a:latin typeface="Arial"/>
              </a:rPr>
              <a:t>  </a:t>
            </a:r>
            <a:r>
              <a:rPr b="1" lang="zh-CN" sz="4400" spc="-1" strike="noStrike">
                <a:solidFill>
                  <a:srgbClr val="000000"/>
                </a:solidFill>
                <a:latin typeface="Arial"/>
              </a:rPr>
              <a:t>相关关系的度量</a:t>
            </a:r>
            <a:endParaRPr b="0" lang="en-US" sz="4400" spc="-1" strike="noStrike">
              <a:solidFill>
                <a:srgbClr val="000000"/>
              </a:solidFill>
              <a:latin typeface="Arial"/>
            </a:endParaRPr>
          </a:p>
        </p:txBody>
      </p:sp>
      <p:sp>
        <p:nvSpPr>
          <p:cNvPr id="5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相关的概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关关系即现象之间客观存在的非确定性的数量对应关系。在相关关系中，当一个或几个变量取一定值时，与其相对应的另一个变量的值不完全确定，而是有多个值与其对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6840"/>
            <a:ext cx="505152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ea typeface="黑体"/>
              </a:rPr>
              <a:t>二、皮尔逊相关系数</a:t>
            </a:r>
            <a:endParaRPr b="0" lang="en-US" sz="3600" spc="-1" strike="noStrike">
              <a:solidFill>
                <a:srgbClr val="000000"/>
              </a:solidFill>
              <a:latin typeface="Arial"/>
            </a:endParaRPr>
          </a:p>
        </p:txBody>
      </p:sp>
      <p:sp>
        <p:nvSpPr>
          <p:cNvPr id="567" name="PlaceHolder 2"/>
          <p:cNvSpPr>
            <a:spLocks noGrp="1"/>
          </p:cNvSpPr>
          <p:nvPr>
            <p:ph/>
          </p:nvPr>
        </p:nvSpPr>
        <p:spPr>
          <a:xfrm>
            <a:off x="611280" y="1628640"/>
            <a:ext cx="8229600" cy="1035360"/>
          </a:xfrm>
          <a:prstGeom prst="rect">
            <a:avLst/>
          </a:prstGeom>
          <a:noFill/>
          <a:ln w="0">
            <a:noFill/>
          </a:ln>
        </p:spPr>
        <p:txBody>
          <a:bodyPr lIns="90000" rIns="90000" tIns="46800" bIns="46800" anchor="t">
            <a:normAutofit fontScale="86000"/>
          </a:bodyPr>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 </a:t>
            </a:r>
            <a:r>
              <a:rPr b="1" lang="zh-CN" sz="3200" spc="-1" strike="noStrike">
                <a:solidFill>
                  <a:srgbClr val="660033"/>
                </a:solidFill>
                <a:latin typeface="黑体"/>
                <a:ea typeface="黑体"/>
              </a:rPr>
              <a:t>样本相关系数</a:t>
            </a:r>
            <a:endParaRPr b="0" lang="en-US" sz="3200" spc="-1" strike="noStrike">
              <a:solidFill>
                <a:srgbClr val="000000"/>
              </a:solidFill>
              <a:latin typeface="Arial"/>
            </a:endParaRPr>
          </a:p>
          <a:p>
            <a:pPr marL="294840" indent="-29484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相关系数是说明两个数值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相关关系的紧密程度及相关方向的量</a:t>
            </a:r>
            <a:endParaRPr b="0" lang="en-US" sz="3200" spc="-1" strike="noStrike">
              <a:solidFill>
                <a:srgbClr val="000000"/>
              </a:solidFill>
              <a:latin typeface="Arial"/>
            </a:endParaRPr>
          </a:p>
        </p:txBody>
      </p:sp>
      <p:sp>
        <p:nvSpPr>
          <p:cNvPr id="568" name=""/>
          <p:cNvSpPr/>
          <p:nvPr/>
        </p:nvSpPr>
        <p:spPr>
          <a:xfrm>
            <a:off x="1621800" y="3428280"/>
            <a:ext cx="2210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样本相关系数公式</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69" name=""/>
          <p:cNvSpPr/>
          <p:nvPr/>
        </p:nvSpPr>
        <p:spPr>
          <a:xfrm>
            <a:off x="39528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0" name=""/>
              <p:cNvSpPr txBox="1"/>
              <p:nvPr/>
            </p:nvSpPr>
            <p:spPr>
              <a:xfrm>
                <a:off x="6372360" y="3284640"/>
                <a:ext cx="1512720" cy="1046160"/>
              </a:xfrm>
              <a:prstGeom prst="rect">
                <a:avLst/>
              </a:prstGeom>
            </p:spPr>
            <p:txBody>
              <a:bodyPr/>
              <a:p>
                <a14:m>
                  <m:oMath xmlns:m="http://schemas.openxmlformats.org/officeDocument/2006/math">
                    <m:r>
                      <m:t xml:space="preserve">r</m:t>
                    </m:r>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mc:AlternateContent>
        <mc:Choice xmlns:a14="http://schemas.microsoft.com/office/drawing/2010/main" Requires="a14">
          <p:sp>
            <p:nvSpPr>
              <p:cNvPr id="571" name=""/>
              <p:cNvSpPr txBox="1"/>
              <p:nvPr/>
            </p:nvSpPr>
            <p:spPr>
              <a:xfrm>
                <a:off x="2808360" y="3013200"/>
                <a:ext cx="123840" cy="161640"/>
              </a:xfrm>
              <a:prstGeom prst="rect">
                <a:avLst/>
              </a:prstGeom>
            </p:spPr>
            <p:txBody>
              <a:bodyPr/>
              <a:p>
                <a14:m>
                  <m:oMath xmlns:m="http://schemas.openxmlformats.org/officeDocument/2006/math">
                    <m:r>
                      <m:t xml:space="preserve">γ</m:t>
                    </m:r>
                  </m:oMath>
                </a14:m>
              </a:p>
            </p:txBody>
          </p:sp>
        </mc:Choice>
        <mc:Fallback/>
      </mc:AlternateContent>
      <p:sp>
        <p:nvSpPr>
          <p:cNvPr id="572" name=""/>
          <p:cNvSpPr/>
          <p:nvPr/>
        </p:nvSpPr>
        <p:spPr>
          <a:xfrm>
            <a:off x="1187280" y="3839400"/>
            <a:ext cx="6913800" cy="237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华文新魏"/>
                <a:ea typeface="华文新魏"/>
              </a:rPr>
              <a:t>r</a:t>
            </a:r>
            <a:r>
              <a:rPr b="0" lang="zh-CN" sz="2400" spc="-1" strike="noStrike" baseline="-25000">
                <a:solidFill>
                  <a:srgbClr val="000000"/>
                </a:solidFill>
                <a:latin typeface="华文新魏"/>
                <a:ea typeface="华文新魏"/>
              </a:rPr>
              <a:t>xy </a:t>
            </a:r>
            <a:r>
              <a:rPr b="0" lang="zh-CN" sz="2400" spc="-1" strike="noStrike">
                <a:solidFill>
                  <a:srgbClr val="000000"/>
                </a:solidFill>
                <a:latin typeface="华文新魏"/>
                <a:ea typeface="华文新魏"/>
              </a:rPr>
              <a:t>   —— </a:t>
            </a:r>
            <a:r>
              <a:rPr b="0" lang="zh-CN" sz="3200" spc="-1" strike="noStrike" baseline="-30000">
                <a:solidFill>
                  <a:srgbClr val="000000"/>
                </a:solidFill>
                <a:latin typeface="华文新魏"/>
                <a:ea typeface="华文新魏"/>
              </a:rPr>
              <a:t>  </a:t>
            </a:r>
            <a:r>
              <a:rPr b="0" lang="zh-CN" sz="3200" spc="-1" strike="noStrike">
                <a:solidFill>
                  <a:srgbClr val="000000"/>
                </a:solidFill>
                <a:latin typeface="华文新魏"/>
                <a:ea typeface="华文新魏"/>
              </a:rPr>
              <a:t>样本相关系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30000">
                <a:solidFill>
                  <a:srgbClr val="000000"/>
                </a:solidFill>
                <a:latin typeface="华文新魏"/>
                <a:ea typeface="华文新魏"/>
              </a:rPr>
              <a:t>xy</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样本协方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30000">
                <a:solidFill>
                  <a:srgbClr val="000000"/>
                </a:solidFill>
                <a:latin typeface="华文新魏"/>
                <a:ea typeface="华文新魏"/>
              </a:rPr>
              <a:t>x</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的样本标准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S</a:t>
            </a:r>
            <a:r>
              <a:rPr b="0" lang="zh-CN" sz="3200" spc="-1" strike="noStrike" baseline="-25000">
                <a:solidFill>
                  <a:srgbClr val="000000"/>
                </a:solidFill>
                <a:latin typeface="华文新魏"/>
                <a:ea typeface="华文新魏"/>
              </a:rPr>
              <a:t>y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变量</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样本标准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73" name=""/>
              <p:cNvSpPr txBox="1"/>
              <p:nvPr/>
            </p:nvSpPr>
            <p:spPr>
              <a:xfrm>
                <a:off x="1903320" y="428760"/>
                <a:ext cx="3173400" cy="919080"/>
              </a:xfrm>
              <a:prstGeom prst="rect">
                <a:avLst/>
              </a:prstGeom>
            </p:spPr>
            <p:txBody>
              <a:bodyPr/>
              <a:p>
                <a14:m>
                  <m:oMath xmlns:m="http://schemas.openxmlformats.org/officeDocument/2006/math">
                    <m:sSub>
                      <m:e>
                        <m:r>
                          <m:t xml:space="preserve">S</m:t>
                        </m:r>
                      </m:e>
                      <m:sub>
                        <m:r>
                          <m:rPr>
                            <m:lit/>
                            <m:nor/>
                          </m:rPr>
                          <m:t xml:space="preserve">xy</m:t>
                        </m:r>
                      </m:sub>
                    </m:sSub>
                    <m:f>
                      <m:num>
                        <m:r>
                          <m:t xml:space="preserve">=</m:t>
                        </m:r>
                        <m:nary>
                          <m:naryPr>
                            <m:chr m:val="∑"/>
                            <m:subHide m:val="1"/>
                            <m:supHide m:val="1"/>
                          </m:naryPr>
                          <m:sub/>
                          <m:sup/>
                          <m:e>
                            <m:r>
                              <m:t xml:space="preserve">(</m:t>
                            </m:r>
                          </m:e>
                        </m:nary>
                        <m:r>
                          <m:t xml:space="preserve">X</m:t>
                        </m:r>
                        <m:r>
                          <m:t xml:space="preserve">−</m:t>
                        </m:r>
                        <m:bar>
                          <m:barPr>
                            <m:pos m:val="top"/>
                          </m:barPr>
                          <m:e>
                            <m:r>
                              <m:t xml:space="preserve">X</m:t>
                            </m:r>
                          </m:e>
                        </m:bar>
                        <m:r>
                          <m:t xml:space="preserve">)</m:t>
                        </m:r>
                        <m:r>
                          <m:t xml:space="preserve">(</m:t>
                        </m:r>
                        <m:r>
                          <m:t xml:space="preserve">Y</m:t>
                        </m:r>
                        <m:r>
                          <m:t xml:space="preserve">−</m:t>
                        </m:r>
                        <m:bar>
                          <m:barPr>
                            <m:pos m:val="top"/>
                          </m:barPr>
                          <m:e>
                            <m:r>
                              <m:t xml:space="preserve">Y</m:t>
                            </m:r>
                          </m:e>
                        </m:bar>
                        <m:r>
                          <m:t xml:space="preserve">)</m:t>
                        </m:r>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574" name=""/>
              <p:cNvSpPr txBox="1"/>
              <p:nvPr/>
            </p:nvSpPr>
            <p:spPr>
              <a:xfrm>
                <a:off x="1979640" y="1557360"/>
                <a:ext cx="2714760" cy="1073160"/>
              </a:xfrm>
              <a:prstGeom prst="rect">
                <a:avLst/>
              </a:prstGeom>
            </p:spPr>
            <p:txBody>
              <a:bodyPr/>
              <a:p>
                <a14:m>
                  <m:oMath xmlns:m="http://schemas.openxmlformats.org/officeDocument/2006/math">
                    <m:sSub>
                      <m:e>
                        <m:r>
                          <m:t xml:space="preserve">S</m:t>
                        </m:r>
                      </m:e>
                      <m:sub>
                        <m:r>
                          <m:t xml:space="preserve">x</m:t>
                        </m:r>
                      </m:sub>
                    </m:sSub>
                    <m:r>
                      <m:t xml:space="preserve">=</m:t>
                    </m:r>
                    <m:rad>
                      <m:radPr>
                        <m:degHide m:val="1"/>
                      </m:radPr>
                      <m:deg/>
                      <m:e>
                        <m:f>
                          <m:num>
                            <m:nary>
                              <m:naryPr>
                                <m:chr m:val="∑"/>
                                <m:subHide m:val="1"/>
                                <m:supHide m:val="1"/>
                              </m:naryPr>
                              <m:sub/>
                              <m:sup/>
                              <m:e>
                                <m:r>
                                  <m:t xml:space="preserve">(</m:t>
                                </m:r>
                              </m:e>
                            </m:nary>
                            <m:r>
                              <m:t xml:space="preserve">X</m:t>
                            </m:r>
                            <m:r>
                              <m:t xml:space="preserve">−</m:t>
                            </m:r>
                            <m:bar>
                              <m:barPr>
                                <m:pos m:val="top"/>
                              </m:barPr>
                              <m:e>
                                <m:r>
                                  <m:t xml:space="preserve">X</m:t>
                                </m:r>
                              </m:e>
                            </m:bar>
                            <m:sSup>
                              <m:e>
                                <m:r>
                                  <m:t xml:space="preserve">)</m:t>
                                </m:r>
                              </m:e>
                              <m:sup>
                                <m:r>
                                  <m:t xml:space="preserve">2</m:t>
                                </m:r>
                              </m:sup>
                            </m:sSup>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75" name=""/>
              <p:cNvSpPr txBox="1"/>
              <p:nvPr/>
            </p:nvSpPr>
            <p:spPr>
              <a:xfrm>
                <a:off x="2050920" y="2781360"/>
                <a:ext cx="2521080" cy="1060560"/>
              </a:xfrm>
              <a:prstGeom prst="rect">
                <a:avLst/>
              </a:prstGeom>
            </p:spPr>
            <p:txBody>
              <a:bodyPr/>
              <a:p>
                <a14:m>
                  <m:oMath xmlns:m="http://schemas.openxmlformats.org/officeDocument/2006/math">
                    <m:sSub>
                      <m:e>
                        <m:r>
                          <m:t xml:space="preserve">S</m:t>
                        </m:r>
                      </m:e>
                      <m:sub>
                        <m:r>
                          <m:t xml:space="preserve">y</m:t>
                        </m:r>
                      </m:sub>
                    </m:sSub>
                    <m:r>
                      <m:t xml:space="preserve">=</m:t>
                    </m:r>
                    <m:rad>
                      <m:radPr>
                        <m:degHide m:val="1"/>
                      </m:radPr>
                      <m:deg/>
                      <m:e>
                        <m:f>
                          <m:num>
                            <m:nary>
                              <m:naryPr>
                                <m:chr m:val="∑"/>
                                <m:subHide m:val="1"/>
                                <m:supHide m:val="1"/>
                              </m:naryPr>
                              <m:sub/>
                              <m:sup/>
                              <m:e>
                                <m:r>
                                  <m:t xml:space="preserve">(</m:t>
                                </m:r>
                              </m:e>
                            </m:nary>
                            <m:r>
                              <m:t xml:space="preserve">Y</m:t>
                            </m:r>
                            <m:r>
                              <m:t xml:space="preserve">−</m:t>
                            </m:r>
                            <m:bar>
                              <m:barPr>
                                <m:pos m:val="top"/>
                              </m:barPr>
                              <m:e>
                                <m:r>
                                  <m:t xml:space="preserve">Y</m:t>
                                </m:r>
                              </m:e>
                            </m:bar>
                            <m:sSup>
                              <m:e>
                                <m:r>
                                  <m:t xml:space="preserve">)</m:t>
                                </m:r>
                              </m:e>
                              <m:sup>
                                <m:r>
                                  <m:t xml:space="preserve">2</m:t>
                                </m:r>
                              </m:sup>
                            </m:sSup>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76" name=""/>
              <p:cNvSpPr txBox="1"/>
              <p:nvPr/>
            </p:nvSpPr>
            <p:spPr>
              <a:xfrm>
                <a:off x="1332000" y="3970440"/>
                <a:ext cx="4032000" cy="1071360"/>
              </a:xfrm>
              <a:prstGeom prst="rect">
                <a:avLst/>
              </a:prstGeom>
            </p:spPr>
            <p:txBody>
              <a:bodyPr/>
              <a:p>
                <a14:m>
                  <m:oMath xmlns:m="http://schemas.openxmlformats.org/officeDocument/2006/math">
                    <m:sSub>
                      <m:e>
                        <m:r>
                          <m:t xml:space="preserve">r</m:t>
                        </m:r>
                      </m:e>
                      <m:sub>
                        <m:r>
                          <m:rPr>
                            <m:lit/>
                            <m:nor/>
                          </m:rPr>
                          <m:t xml:space="preserve">xy</m:t>
                        </m:r>
                      </m:sub>
                    </m:sSub>
                    <m:r>
                      <m:t xml:space="preserve">=</m:t>
                    </m:r>
                    <m:f>
                      <m:num>
                        <m:nary>
                          <m:naryPr>
                            <m:chr m:val="∑"/>
                            <m:subHide m:val="1"/>
                            <m:supHide m:val="1"/>
                          </m:naryPr>
                          <m:sub/>
                          <m:sup/>
                          <m:e>
                            <m:r>
                              <m:t xml:space="preserve">(</m:t>
                            </m:r>
                          </m:e>
                        </m:nary>
                        <m:r>
                          <m:t xml:space="preserve">X</m:t>
                        </m:r>
                        <m:r>
                          <m:t xml:space="preserve">−</m:t>
                        </m:r>
                        <m:bar>
                          <m:barPr>
                            <m:pos m:val="top"/>
                          </m:barPr>
                          <m:e>
                            <m:r>
                              <m:t xml:space="preserve">X</m:t>
                            </m:r>
                          </m:e>
                        </m:bar>
                        <m:r>
                          <m:t xml:space="preserve">)</m:t>
                        </m:r>
                        <m:r>
                          <m:t xml:space="preserve">(</m:t>
                        </m:r>
                        <m:r>
                          <m:t xml:space="preserve">Y</m:t>
                        </m:r>
                        <m:r>
                          <m:t xml:space="preserve">−</m:t>
                        </m:r>
                        <m:bar>
                          <m:barPr>
                            <m:pos m:val="top"/>
                          </m:barPr>
                          <m:e>
                            <m:r>
                              <m:t xml:space="preserve">Y</m:t>
                            </m:r>
                          </m:e>
                        </m:bar>
                        <m:r>
                          <m:t xml:space="preserve">)</m:t>
                        </m:r>
                      </m:num>
                      <m:den>
                        <m:rad>
                          <m:radPr>
                            <m:degHide m:val="1"/>
                          </m:radPr>
                          <m:deg/>
                          <m:e>
                            <m:nary>
                              <m:naryPr>
                                <m:chr m:val="∑"/>
                                <m:subHide m:val="1"/>
                                <m:supHide m:val="1"/>
                              </m:naryPr>
                              <m:sub/>
                              <m:sup/>
                              <m:e>
                                <m:r>
                                  <m:t xml:space="preserve">(</m:t>
                                </m:r>
                              </m:e>
                            </m:nary>
                            <m:r>
                              <m:t xml:space="preserve">X</m:t>
                            </m:r>
                            <m:r>
                              <m:t xml:space="preserve">−</m:t>
                            </m:r>
                            <m:bar>
                              <m:barPr>
                                <m:pos m:val="top"/>
                              </m:barPr>
                              <m:e>
                                <m:r>
                                  <m:t xml:space="preserve">X</m:t>
                                </m:r>
                              </m:e>
                            </m:bar>
                            <m:sSup>
                              <m:e>
                                <m:r>
                                  <m:t xml:space="preserve">)</m:t>
                                </m:r>
                              </m:e>
                              <m:sup>
                                <m:r>
                                  <m:t xml:space="preserve">2</m:t>
                                </m:r>
                              </m:sup>
                            </m:sSup>
                          </m:e>
                        </m:rad>
                        <m:rad>
                          <m:radPr>
                            <m:degHide m:val="1"/>
                          </m:radPr>
                          <m:deg/>
                          <m:e>
                            <m:nary>
                              <m:naryPr>
                                <m:chr m:val="∑"/>
                                <m:subHide m:val="1"/>
                                <m:supHide m:val="1"/>
                              </m:naryPr>
                              <m:sub/>
                              <m:sup/>
                              <m:e>
                                <m:r>
                                  <m:t xml:space="preserve">(</m:t>
                                </m:r>
                              </m:e>
                            </m:nary>
                            <m:r>
                              <m:t xml:space="preserve">Y</m:t>
                            </m:r>
                            <m:r>
                              <m:t xml:space="preserve">−</m:t>
                            </m:r>
                            <m:bar>
                              <m:barPr>
                                <m:pos m:val="top"/>
                              </m:barPr>
                              <m:e>
                                <m:r>
                                  <m:t xml:space="preserve">Y</m:t>
                                </m:r>
                              </m:e>
                            </m:ba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577" name=""/>
              <p:cNvSpPr txBox="1"/>
              <p:nvPr/>
            </p:nvSpPr>
            <p:spPr>
              <a:xfrm>
                <a:off x="1692360" y="5181480"/>
                <a:ext cx="5400720" cy="1071720"/>
              </a:xfrm>
              <a:prstGeom prst="rect">
                <a:avLst/>
              </a:prstGeom>
            </p:spPr>
            <p:txBody>
              <a:bodyPr/>
              <a:p>
                <a14:m>
                  <m:oMath xmlns:m="http://schemas.openxmlformats.org/officeDocument/2006/math">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ad>
                          <m:radPr>
                            <m:degHide m:val="1"/>
                          </m:radPr>
                          <m:deg/>
                          <m:e>
                            <m:r>
                              <m:t xml:space="preserve">n</m:t>
                            </m:r>
                            <m:nary>
                              <m:naryPr>
                                <m:chr m:val="∑"/>
                                <m:subHide m:val="1"/>
                                <m:supHide m:val="1"/>
                              </m:naryPr>
                              <m:sub/>
                              <m:sup/>
                              <m:e>
                                <m:sSup>
                                  <m:e>
                                    <m:r>
                                      <m:t xml:space="preserve">X</m:t>
                                    </m:r>
                                  </m:e>
                                  <m:sup>
                                    <m:r>
                                      <m:t xml:space="preserve">2</m:t>
                                    </m:r>
                                  </m:sup>
                                </m:sSup>
                              </m:e>
                            </m:nary>
                            <m:r>
                              <m:t xml:space="preserve">−</m:t>
                            </m:r>
                            <m:r>
                              <m:t xml:space="preserve">(</m:t>
                            </m:r>
                            <m:nary>
                              <m:naryPr>
                                <m:chr m:val="∑"/>
                                <m:subHide m:val="1"/>
                                <m:supHide m:val="1"/>
                              </m:naryPr>
                              <m:sub/>
                              <m:sup/>
                              <m:e>
                                <m:r>
                                  <m:t xml:space="preserve">X</m:t>
                                </m:r>
                              </m:e>
                            </m:nary>
                            <m:sSup>
                              <m:e>
                                <m:r>
                                  <m:t xml:space="preserve">)</m:t>
                                </m:r>
                              </m:e>
                              <m:sup>
                                <m:r>
                                  <m:t xml:space="preserve">2</m:t>
                                </m:r>
                              </m:sup>
                            </m:sSup>
                          </m:e>
                        </m:rad>
                        <m:rad>
                          <m:radPr>
                            <m:degHide m:val="1"/>
                          </m:radPr>
                          <m:deg/>
                          <m:e>
                            <m:r>
                              <m:t xml:space="preserve">n</m:t>
                            </m:r>
                            <m:nary>
                              <m:naryPr>
                                <m:chr m:val="∑"/>
                                <m:subHide m:val="1"/>
                                <m:supHide m:val="1"/>
                              </m:naryPr>
                              <m:sub/>
                              <m:sup/>
                              <m:e>
                                <m:sSup>
                                  <m:e>
                                    <m:r>
                                      <m:t xml:space="preserve">Y</m:t>
                                    </m:r>
                                  </m:e>
                                  <m:sup>
                                    <m:r>
                                      <m:t xml:space="preserve">2</m:t>
                                    </m:r>
                                  </m:sup>
                                </m:sSup>
                              </m:e>
                            </m:nary>
                            <m:r>
                              <m:t xml:space="preserve">−</m:t>
                            </m:r>
                            <m:r>
                              <m:t xml:space="preserve">(</m:t>
                            </m:r>
                            <m:nary>
                              <m:naryPr>
                                <m:chr m:val="∑"/>
                                <m:subHide m:val="1"/>
                                <m:supHide m:val="1"/>
                              </m:naryPr>
                              <m:sub/>
                              <m:sup/>
                              <m:e>
                                <m:r>
                                  <m:t xml:space="preserve">Y</m:t>
                                </m:r>
                              </m:e>
                            </m:nary>
                            <m:sSup>
                              <m:e>
                                <m:r>
                                  <m:t xml:space="preserve">)</m:t>
                                </m:r>
                              </m:e>
                              <m:sup>
                                <m:r>
                                  <m:t xml:space="preserve">2</m:t>
                                </m:r>
                              </m:sup>
                            </m:sSup>
                          </m:e>
                        </m:rad>
                      </m:den>
                    </m:f>
                  </m:oMath>
                </a14:m>
              </a:p>
            </p:txBody>
          </p:sp>
        </mc:Choice>
        <mc:Fallback/>
      </mc:AlternateContent>
      <p:sp>
        <p:nvSpPr>
          <p:cNvPr id="578"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9" name=""/>
          <p:cNvSpPr/>
          <p:nvPr/>
        </p:nvSpPr>
        <p:spPr>
          <a:xfrm>
            <a:off x="61128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0" name=""/>
          <p:cNvSpPr/>
          <p:nvPr/>
        </p:nvSpPr>
        <p:spPr>
          <a:xfrm>
            <a:off x="53964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1" name="" descr=""/>
          <p:cNvPicPr/>
          <p:nvPr/>
        </p:nvPicPr>
        <p:blipFill>
          <a:blip r:embed="rId1"/>
          <a:stretch/>
        </p:blipFill>
        <p:spPr>
          <a:xfrm>
            <a:off x="6227640" y="1197000"/>
            <a:ext cx="2602080" cy="207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57200" y="1981080"/>
            <a:ext cx="7570800" cy="4400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1&lt;r &lt;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负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0&lt;r &lt;1,    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正相关</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r =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不存在线性相关关系</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r |       1</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显著相关关系</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r |       0</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Y</a:t>
            </a:r>
            <a:r>
              <a:rPr b="0" lang="zh-CN" sz="3200" spc="-1" strike="noStrike" u="sng">
                <a:solidFill>
                  <a:srgbClr val="000000"/>
                </a:solidFill>
                <a:uFillTx/>
                <a:latin typeface="华文新魏"/>
                <a:ea typeface="华文新魏"/>
              </a:rPr>
              <a:t>线性</a:t>
            </a:r>
            <a:r>
              <a:rPr b="0" lang="zh-CN" sz="3200" spc="-1" strike="noStrike">
                <a:solidFill>
                  <a:srgbClr val="000000"/>
                </a:solidFill>
                <a:latin typeface="华文新魏"/>
                <a:ea typeface="华文新魏"/>
              </a:rPr>
              <a:t>关系不显著</a:t>
            </a:r>
            <a:endParaRPr b="0" lang="en-US" sz="3200" spc="-1" strike="noStrike">
              <a:solidFill>
                <a:srgbClr val="000000"/>
              </a:solidFill>
              <a:latin typeface="Arial"/>
            </a:endParaRPr>
          </a:p>
        </p:txBody>
      </p:sp>
      <p:sp>
        <p:nvSpPr>
          <p:cNvPr id="583" name=""/>
          <p:cNvSpPr/>
          <p:nvPr/>
        </p:nvSpPr>
        <p:spPr>
          <a:xfrm>
            <a:off x="971640" y="691560"/>
            <a:ext cx="568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2. </a:t>
            </a:r>
            <a:r>
              <a:rPr b="1" lang="zh-CN" sz="4000" spc="-1" strike="noStrike">
                <a:solidFill>
                  <a:srgbClr val="660033"/>
                </a:solidFill>
                <a:latin typeface="黑体"/>
                <a:ea typeface="黑体"/>
              </a:rPr>
              <a:t>样本相关系数的意义</a:t>
            </a:r>
            <a:endParaRPr b="0" lang="en-US" sz="4000" spc="-1" strike="noStrike">
              <a:solidFill>
                <a:srgbClr val="000000"/>
              </a:solidFill>
              <a:latin typeface="Arial"/>
            </a:endParaRPr>
          </a:p>
        </p:txBody>
      </p:sp>
      <p:sp>
        <p:nvSpPr>
          <p:cNvPr id="584" name=""/>
          <p:cNvSpPr/>
          <p:nvPr/>
        </p:nvSpPr>
        <p:spPr>
          <a:xfrm>
            <a:off x="1763640" y="458136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5" name="" descr=""/>
          <p:cNvPicPr/>
          <p:nvPr/>
        </p:nvPicPr>
        <p:blipFill>
          <a:blip r:embed="rId1"/>
          <a:stretch/>
        </p:blipFill>
        <p:spPr>
          <a:xfrm>
            <a:off x="7093080" y="1557360"/>
            <a:ext cx="1749240" cy="1292040"/>
          </a:xfrm>
          <a:prstGeom prst="rect">
            <a:avLst/>
          </a:prstGeom>
          <a:ln w="0">
            <a:noFill/>
          </a:ln>
        </p:spPr>
      </p:pic>
      <mc:AlternateContent>
        <mc:Choice xmlns:a14="http://schemas.microsoft.com/office/drawing/2010/main" Requires="a14">
          <p:sp>
            <p:nvSpPr>
              <p:cNvPr id="586" name=""/>
              <p:cNvSpPr txBox="1"/>
              <p:nvPr/>
            </p:nvSpPr>
            <p:spPr>
              <a:xfrm>
                <a:off x="971640" y="1773360"/>
                <a:ext cx="936360" cy="669960"/>
              </a:xfrm>
              <a:prstGeom prst="rect">
                <a:avLst/>
              </a:prstGeom>
            </p:spPr>
            <p:txBody>
              <a:bodyPr/>
              <a:p>
                <a14:m>
                  <m:oMath xmlns:m="http://schemas.openxmlformats.org/officeDocument/2006/math">
                    <m:d>
                      <m:dPr>
                        <m:begChr m:val="|"/>
                        <m:endChr m:val="|"/>
                      </m:dPr>
                      <m:e>
                        <m:r>
                          <m:t xml:space="preserve">r</m:t>
                        </m:r>
                      </m:e>
                    </m:d>
                    <m:r>
                      <m:t xml:space="preserve">≤</m:t>
                    </m:r>
                    <m:r>
                      <m:t xml:space="preserve">1</m:t>
                    </m:r>
                  </m:oMath>
                </a14:m>
              </a:p>
            </p:txBody>
          </p:sp>
        </mc:Choice>
        <mc:Fallback/>
      </mc:AlternateContent>
      <p:sp>
        <p:nvSpPr>
          <p:cNvPr id="587" name=""/>
          <p:cNvSpPr/>
          <p:nvPr/>
        </p:nvSpPr>
        <p:spPr>
          <a:xfrm>
            <a:off x="1763640" y="5157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586"/>
                                        </p:tgtEl>
                                        <p:attrNameLst>
                                          <p:attrName>style.visibility</p:attrName>
                                        </p:attrNameLst>
                                      </p:cBhvr>
                                      <p:to>
                                        <p:strVal val="visible"/>
                                      </p:to>
                                    </p:set>
                                    <p:animEffect filter="blinds(horizontal)" transition="in">
                                      <p:cBhvr additive="repl">
                                        <p:cTn id="549" dur="500"/>
                                        <p:tgtEl>
                                          <p:spTgt spid="58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554" dur="500"/>
                                        <p:tgtEl>
                                          <p:spTgt spid="582">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559" dur="500"/>
                                        <p:tgtEl>
                                          <p:spTgt spid="582">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564" dur="500"/>
                                        <p:tgtEl>
                                          <p:spTgt spid="582">
                                            <p:txEl>
                                              <p:pRg st="3" end="3"/>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569" dur="500"/>
                                        <p:tgtEl>
                                          <p:spTgt spid="582">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582">
                                            <p:txEl>
                                              <p:pRg st="5" end="5"/>
                                            </p:txEl>
                                          </p:spTgt>
                                        </p:tgtEl>
                                        <p:attrNameLst>
                                          <p:attrName>style.visibility</p:attrName>
                                        </p:attrNameLst>
                                      </p:cBhvr>
                                      <p:to>
                                        <p:strVal val="visible"/>
                                      </p:to>
                                    </p:set>
                                    <p:animEffect filter="blinds(horizontal)" transition="in">
                                      <p:cBhvr additive="repl">
                                        <p:cTn id="574" dur="500"/>
                                        <p:tgtEl>
                                          <p:spTgt spid="5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3. </a:t>
            </a:r>
            <a:r>
              <a:rPr b="1" lang="zh-CN" sz="4400" spc="-1" strike="noStrike">
                <a:solidFill>
                  <a:srgbClr val="660033"/>
                </a:solidFill>
                <a:latin typeface="Arial"/>
              </a:rPr>
              <a:t>总体相关系数的检验</a:t>
            </a:r>
            <a:endParaRPr b="0" lang="en-US" sz="4400" spc="-1" strike="noStrike">
              <a:solidFill>
                <a:srgbClr val="000000"/>
              </a:solidFill>
              <a:latin typeface="Arial"/>
            </a:endParaRPr>
          </a:p>
        </p:txBody>
      </p:sp>
      <p:sp>
        <p:nvSpPr>
          <p:cNvPr id="589" name="PlaceHolder 2"/>
          <p:cNvSpPr>
            <a:spLocks noGrp="1"/>
          </p:cNvSpPr>
          <p:nvPr>
            <p:ph/>
          </p:nvPr>
        </p:nvSpPr>
        <p:spPr>
          <a:xfrm>
            <a:off x="179280" y="1413000"/>
            <a:ext cx="8436240" cy="4471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检验步骤如下：</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提出假设</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并计算其值</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出显著水平     ，查</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表，得临界值</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判断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当            时，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总体</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与</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之间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具有显著的相关关系。</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6610320" y="2806560"/>
                <a:ext cx="114480" cy="216000"/>
              </a:xfrm>
              <a:prstGeom prst="rect">
                <a:avLst/>
              </a:prstGeom>
            </p:spPr>
            <p:txBody>
              <a:bodyPr/>
              <a:p>
                <a14:m>
                  <m:oMath xmlns:m="http://schemas.openxmlformats.org/officeDocument/2006/math"/>
                </a14:m>
              </a:p>
            </p:txBody>
          </p:sp>
        </mc:Choice>
        <mc:Fallback/>
      </mc:AlternateContent>
      <p:sp>
        <p:nvSpPr>
          <p:cNvPr id="5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5364000" y="2997360"/>
                <a:ext cx="1656000" cy="1055520"/>
              </a:xfrm>
              <a:prstGeom prst="rect">
                <a:avLst/>
              </a:prstGeom>
            </p:spPr>
            <p:txBody>
              <a:bodyPr/>
              <a:p>
                <a14:m>
                  <m:oMath xmlns:m="http://schemas.openxmlformats.org/officeDocument/2006/math">
                    <m:r>
                      <m:t xml:space="preserve">t</m:t>
                    </m:r>
                    <m:r>
                      <m:t xml:space="preserve">=</m:t>
                    </m:r>
                    <m:f>
                      <m:num>
                        <m:r>
                          <m:t xml:space="preserve">r</m:t>
                        </m:r>
                        <m:rad>
                          <m:radPr>
                            <m:degHide m:val="1"/>
                          </m:radPr>
                          <m:deg/>
                          <m:e>
                            <m:r>
                              <m:t xml:space="preserve">n</m:t>
                            </m:r>
                            <m:r>
                              <m:t xml:space="preserve">−</m:t>
                            </m:r>
                            <m:r>
                              <m:t xml:space="preserve">2</m:t>
                            </m:r>
                          </m:e>
                        </m:rad>
                      </m:num>
                      <m:den>
                        <m:rad>
                          <m:radPr>
                            <m:degHide m:val="1"/>
                          </m:radPr>
                          <m:deg/>
                          <m:e>
                            <m:r>
                              <m:t xml:space="preserve">1</m:t>
                            </m:r>
                            <m:r>
                              <m:t xml:space="preserve">−</m:t>
                            </m:r>
                            <m:sSup>
                              <m:e>
                                <m:r>
                                  <m:t xml:space="preserve">r</m:t>
                                </m:r>
                              </m:e>
                              <m:sup>
                                <m:r>
                                  <m:t xml:space="preserve">2</m:t>
                                </m:r>
                              </m:sup>
                            </m:sSup>
                          </m:e>
                        </m:rad>
                      </m:den>
                    </m:f>
                  </m:oMath>
                </a14:m>
              </a:p>
            </p:txBody>
          </p:sp>
        </mc:Choice>
        <mc:Fallback/>
      </mc:AlternateContent>
      <p:sp>
        <p:nvSpPr>
          <p:cNvPr id="593"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4" name=""/>
              <p:cNvSpPr txBox="1"/>
              <p:nvPr/>
            </p:nvSpPr>
            <p:spPr>
              <a:xfrm>
                <a:off x="2987640" y="1916280"/>
                <a:ext cx="2098800" cy="1096920"/>
              </a:xfrm>
              <a:prstGeom prst="rect">
                <a:avLst/>
              </a:prstGeom>
            </p:spPr>
            <p:txBody>
              <a:bodyPr/>
              <a:p>
                <a14:m>
                  <m:oMath xmlns:m="http://schemas.openxmlformats.org/officeDocument/2006/math">
                    <m:eqArr>
                      <m:e>
                        <m:sSub>
                          <m:e>
                            <m:r>
                              <m:t xml:space="preserve">H</m:t>
                            </m:r>
                          </m:e>
                          <m:sub>
                            <m:r>
                              <m:t xml:space="preserve">0</m:t>
                            </m:r>
                          </m:sub>
                        </m:sSub>
                        <m:m>
                          <m:mr>
                            <m:e/>
                            <m:e/>
                          </m:mr>
                        </m:m>
                        <m:r>
                          <m:t xml:space="preserve">ρ</m:t>
                        </m:r>
                        <m:r>
                          <m:t xml:space="preserve">=</m:t>
                        </m:r>
                        <m:r>
                          <m:t xml:space="preserve">0</m:t>
                        </m:r>
                      </m:e>
                      <m:e>
                        <m:sSub>
                          <m:e>
                            <m:r>
                              <m:t xml:space="preserve">H</m:t>
                            </m:r>
                          </m:e>
                          <m:sub>
                            <m:r>
                              <m:t xml:space="preserve">1</m:t>
                            </m:r>
                          </m:sub>
                        </m:sSub>
                        <m:m>
                          <m:mr>
                            <m:e/>
                            <m:e/>
                          </m:mr>
                        </m:m>
                        <m:r>
                          <m:t xml:space="preserve">ρ</m:t>
                        </m:r>
                        <m:r>
                          <m:t xml:space="preserve">≠</m:t>
                        </m:r>
                        <m:r>
                          <m:t xml:space="preserve">0</m:t>
                        </m:r>
                      </m:e>
                    </m:eqArr>
                  </m:oMath>
                </a14:m>
              </a:p>
            </p:txBody>
          </p:sp>
        </mc:Choice>
        <mc:Fallback/>
      </mc:AlternateContent>
      <mc:AlternateContent>
        <mc:Choice xmlns:a14="http://schemas.microsoft.com/office/drawing/2010/main" Requires="a14">
          <p:sp>
            <p:nvSpPr>
              <p:cNvPr id="595" name=""/>
              <p:cNvSpPr txBox="1"/>
              <p:nvPr/>
            </p:nvSpPr>
            <p:spPr>
              <a:xfrm>
                <a:off x="1187280" y="4941720"/>
                <a:ext cx="863640" cy="762120"/>
              </a:xfrm>
              <a:prstGeom prst="rect">
                <a:avLst/>
              </a:prstGeom>
            </p:spPr>
            <p:txBody>
              <a:bodyPr/>
              <a:p>
                <a14:m>
                  <m:oMath xmlns:m="http://schemas.openxmlformats.org/officeDocument/2006/math">
                    <m:d>
                      <m:dPr>
                        <m:begChr m:val="|"/>
                        <m:endChr m:val="|"/>
                      </m:dPr>
                      <m:e>
                        <m:r>
                          <m:t xml:space="preserve">t</m:t>
                        </m:r>
                      </m:e>
                    </m:d>
                    <m:r>
                      <m:t xml:space="preserve">&gt;</m:t>
                    </m:r>
                    <m:sSub>
                      <m:e>
                        <m:r>
                          <m:t xml:space="preserve">t</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596" name=""/>
              <p:cNvSpPr txBox="1"/>
              <p:nvPr/>
            </p:nvSpPr>
            <p:spPr>
              <a:xfrm>
                <a:off x="3132000" y="4076640"/>
                <a:ext cx="360360" cy="33012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595"/>
                                        </p:tgtEl>
                                        <p:attrNameLst>
                                          <p:attrName>style.visibility</p:attrName>
                                        </p:attrNameLst>
                                      </p:cBhvr>
                                      <p:to>
                                        <p:strVal val="visible"/>
                                      </p:to>
                                    </p:set>
                                    <p:animEffect filter="blinds(horizontal)" transition="in">
                                      <p:cBhvr additive="repl">
                                        <p:cTn id="581" dur="500"/>
                                        <p:tgtEl>
                                          <p:spTgt spid="59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589">
                                            <p:txEl>
                                              <p:pRg st="1" end="1"/>
                                            </p:txEl>
                                          </p:spTgt>
                                        </p:tgtEl>
                                        <p:attrNameLst>
                                          <p:attrName>style.visibility</p:attrName>
                                        </p:attrNameLst>
                                      </p:cBhvr>
                                      <p:to>
                                        <p:strVal val="visible"/>
                                      </p:to>
                                    </p:set>
                                    <p:animEffect filter="blinds(horizontal)" transition="in">
                                      <p:cBhvr additive="repl">
                                        <p:cTn id="586" dur="500"/>
                                        <p:tgtEl>
                                          <p:spTgt spid="589">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594"/>
                                        </p:tgtEl>
                                        <p:attrNameLst>
                                          <p:attrName>style.visibility</p:attrName>
                                        </p:attrNameLst>
                                      </p:cBhvr>
                                      <p:to>
                                        <p:strVal val="visible"/>
                                      </p:to>
                                    </p:set>
                                    <p:animEffect filter="blinds(horizontal)" transition="in">
                                      <p:cBhvr additive="repl">
                                        <p:cTn id="591" dur="500"/>
                                        <p:tgtEl>
                                          <p:spTgt spid="594"/>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589">
                                            <p:txEl>
                                              <p:pRg st="3" end="3"/>
                                            </p:txEl>
                                          </p:spTgt>
                                        </p:tgtEl>
                                        <p:attrNameLst>
                                          <p:attrName>style.visibility</p:attrName>
                                        </p:attrNameLst>
                                      </p:cBhvr>
                                      <p:to>
                                        <p:strVal val="visible"/>
                                      </p:to>
                                    </p:set>
                                    <p:animEffect filter="blinds(horizontal)" transition="in">
                                      <p:cBhvr additive="repl">
                                        <p:cTn id="596" dur="500"/>
                                        <p:tgtEl>
                                          <p:spTgt spid="589">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592"/>
                                        </p:tgtEl>
                                        <p:attrNameLst>
                                          <p:attrName>style.visibility</p:attrName>
                                        </p:attrNameLst>
                                      </p:cBhvr>
                                      <p:to>
                                        <p:strVal val="visible"/>
                                      </p:to>
                                    </p:set>
                                    <p:animEffect filter="blinds(horizontal)" transition="in">
                                      <p:cBhvr additive="repl">
                                        <p:cTn id="601" dur="500"/>
                                        <p:tgtEl>
                                          <p:spTgt spid="59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589">
                                            <p:txEl>
                                              <p:pRg st="5" end="5"/>
                                            </p:txEl>
                                          </p:spTgt>
                                        </p:tgtEl>
                                        <p:attrNameLst>
                                          <p:attrName>style.visibility</p:attrName>
                                        </p:attrNameLst>
                                      </p:cBhvr>
                                      <p:to>
                                        <p:strVal val="visible"/>
                                      </p:to>
                                    </p:set>
                                    <p:animEffect filter="blinds(horizontal)" transition="in">
                                      <p:cBhvr additive="repl">
                                        <p:cTn id="606" dur="500"/>
                                        <p:tgtEl>
                                          <p:spTgt spid="589">
                                            <p:txEl>
                                              <p:pRg st="5" end="5"/>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596"/>
                                        </p:tgtEl>
                                        <p:attrNameLst>
                                          <p:attrName>style.visibility</p:attrName>
                                        </p:attrNameLst>
                                      </p:cBhvr>
                                      <p:to>
                                        <p:strVal val="visible"/>
                                      </p:to>
                                    </p:set>
                                    <p:animEffect filter="blinds(horizontal)" transition="in">
                                      <p:cBhvr additive="repl">
                                        <p:cTn id="611" dur="500"/>
                                        <p:tgtEl>
                                          <p:spTgt spid="59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589">
                                            <p:txEl>
                                              <p:pRg st="6" end="6"/>
                                            </p:txEl>
                                          </p:spTgt>
                                        </p:tgtEl>
                                        <p:attrNameLst>
                                          <p:attrName>style.visibility</p:attrName>
                                        </p:attrNameLst>
                                      </p:cBhvr>
                                      <p:to>
                                        <p:strVal val="visible"/>
                                      </p:to>
                                    </p:set>
                                    <p:animEffect filter="blinds(horizontal)" transition="in">
                                      <p:cBhvr additive="repl">
                                        <p:cTn id="616" dur="500"/>
                                        <p:tgtEl>
                                          <p:spTgt spid="589">
                                            <p:txEl>
                                              <p:pRg st="6" end="6"/>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595"/>
                                        </p:tgtEl>
                                        <p:attrNameLst>
                                          <p:attrName>style.visibility</p:attrName>
                                        </p:attrNameLst>
                                      </p:cBhvr>
                                      <p:to>
                                        <p:strVal val="visible"/>
                                      </p:to>
                                    </p:set>
                                    <p:animEffect filter="blinds(horizontal)" transition="in">
                                      <p:cBhvr additive="repl">
                                        <p:cTn id="621" dur="500"/>
                                        <p:tgtEl>
                                          <p:spTgt spid="59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589">
                                            <p:txEl>
                                              <p:pRg st="7" end="7"/>
                                            </p:txEl>
                                          </p:spTgt>
                                        </p:tgtEl>
                                        <p:attrNameLst>
                                          <p:attrName>style.visibility</p:attrName>
                                        </p:attrNameLst>
                                      </p:cBhvr>
                                      <p:to>
                                        <p:strVal val="visible"/>
                                      </p:to>
                                    </p:set>
                                    <p:animEffect filter="blinds(horizontal)" transition="in">
                                      <p:cBhvr additive="repl">
                                        <p:cTn id="626" dur="500"/>
                                        <p:tgtEl>
                                          <p:spTgt spid="589">
                                            <p:txEl>
                                              <p:pRg st="7" end="7"/>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89">
                                            <p:txEl>
                                              <p:pRg st="8" end="8"/>
                                            </p:txEl>
                                          </p:spTgt>
                                        </p:tgtEl>
                                        <p:attrNameLst>
                                          <p:attrName>style.visibility</p:attrName>
                                        </p:attrNameLst>
                                      </p:cBhvr>
                                      <p:to>
                                        <p:strVal val="visible"/>
                                      </p:to>
                                    </p:set>
                                    <p:animEffect filter="blinds(horizontal)" transition="in">
                                      <p:cBhvr additive="repl">
                                        <p:cTn id="631" dur="500"/>
                                        <p:tgtEl>
                                          <p:spTgt spid="5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黑体"/>
              </a:rPr>
              <a:t>三、随机变量的数字特征</a:t>
            </a:r>
            <a:endParaRPr b="0" lang="en-US" sz="4400" spc="-1" strike="noStrike">
              <a:solidFill>
                <a:srgbClr val="000000"/>
              </a:solidFill>
              <a:latin typeface="Arial"/>
            </a:endParaRPr>
          </a:p>
        </p:txBody>
      </p:sp>
      <p:sp>
        <p:nvSpPr>
          <p:cNvPr id="123" name="PlaceHolder 2"/>
          <p:cNvSpPr>
            <a:spLocks noGrp="1"/>
          </p:cNvSpPr>
          <p:nvPr>
            <p:ph/>
          </p:nvPr>
        </p:nvSpPr>
        <p:spPr>
          <a:xfrm>
            <a:off x="456840" y="1980720"/>
            <a:ext cx="8435880" cy="4543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数学期望： 即均值。是随机变量的中心位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数学期望公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数学期望的性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是常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C)=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CX)=CE(X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X</a:t>
            </a:r>
            <a:r>
              <a:rPr b="0" lang="zh-CN" sz="2800" spc="-1" strike="noStrike">
                <a:solidFill>
                  <a:srgbClr val="000000"/>
                </a:solidFill>
                <a:latin typeface="Arial"/>
              </a:rPr>
              <a:t>±</a:t>
            </a:r>
            <a:r>
              <a:rPr b="0" lang="zh-CN" sz="2800" spc="-1" strike="noStrike">
                <a:solidFill>
                  <a:srgbClr val="000000"/>
                </a:solidFill>
                <a:latin typeface="华文新魏"/>
                <a:ea typeface="华文新魏"/>
              </a:rPr>
              <a:t>Y)=E(X) </a:t>
            </a:r>
            <a:r>
              <a:rPr b="0" lang="zh-CN" sz="2800" spc="-1" strike="noStrike">
                <a:solidFill>
                  <a:srgbClr val="000000"/>
                </a:solidFill>
                <a:latin typeface="Arial"/>
              </a:rPr>
              <a:t>±</a:t>
            </a:r>
            <a:r>
              <a:rPr b="0" lang="zh-CN" sz="2800" spc="-1" strike="noStrike">
                <a:solidFill>
                  <a:srgbClr val="000000"/>
                </a:solidFill>
                <a:latin typeface="华文新魏"/>
                <a:ea typeface="华文新魏"/>
              </a:rPr>
              <a:t> E(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E(XY)=E(X) E(Y)          X</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相互独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3276720" y="2543040"/>
                <a:ext cx="3959280" cy="1300320"/>
              </a:xfrm>
              <a:prstGeom prst="rect">
                <a:avLst/>
              </a:prstGeom>
            </p:spPr>
            <p:txBody>
              <a:bodyPr/>
              <a:p>
                <a14:m>
                  <m:oMath xmlns:m="http://schemas.openxmlformats.org/officeDocument/2006/math">
                    <m:eqArr>
                      <m:e>
                        <m:d>
                          <m:dPr>
                            <m:begChr m:val="{"/>
                            <m:endChr m:val=""/>
                          </m:dPr>
                          <m:e>
                            <m:r>
                              <m:rPr>
                                <m:lit/>
                                <m:nor/>
                              </m:rPr>
                              <m:t xml:space="preserve">离散型</m:t>
                            </m:r>
                            <m:r>
                              <m:t xml:space="preserve">:</m:t>
                            </m:r>
                            <m:r>
                              <m:t xml:space="preserve">E</m:t>
                            </m:r>
                            <m:r>
                              <m:t xml:space="preserve">(</m:t>
                            </m:r>
                            <m:r>
                              <m:t xml:space="preserve">X</m:t>
                            </m:r>
                            <m:r>
                              <m:t xml:space="preserve">)</m:t>
                            </m:r>
                            <m:r>
                              <m:t xml:space="preserve">=</m:t>
                            </m:r>
                            <m:nary>
                              <m:naryPr>
                                <m:chr m:val="∑"/>
                                <m:subHide m:val="1"/>
                                <m:supHide m:val="1"/>
                              </m:naryPr>
                              <m:sub/>
                              <m:sup/>
                              <m:e>
                                <m:r>
                                  <m:rPr>
                                    <m:lit/>
                                    <m:nor/>
                                  </m:rPr>
                                  <m:t xml:space="preserve">xp</m:t>
                                </m:r>
                              </m:e>
                            </m:nary>
                          </m:e>
                          <m:e/>
                        </m:d>
                      </m:e>
                    </m:eqArr>
                  </m:oMath>
                </a14:m>
              </a:p>
            </p:txBody>
          </p:sp>
        </mc:Choice>
        <mc:Fallback/>
      </mc:AlternateContent>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23">
                                            <p:txEl>
                                              <p:pRg st="1" end="1"/>
                                            </p:txEl>
                                          </p:spTgt>
                                        </p:tgtEl>
                                        <p:attrNameLst>
                                          <p:attrName>style.visibility</p:attrName>
                                        </p:attrNameLst>
                                      </p:cBhvr>
                                      <p:to>
                                        <p:strVal val="visible"/>
                                      </p:to>
                                    </p:set>
                                    <p:anim calcmode="lin" valueType="num">
                                      <p:cBhvr additive="base">
                                        <p:cTn id="50"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3">
                                            <p:txEl>
                                              <p:pRg st="2" end="2"/>
                                            </p:txEl>
                                          </p:spTgt>
                                        </p:tgtEl>
                                        <p:attrNameLst>
                                          <p:attrName>style.visibility</p:attrName>
                                        </p:attrNameLst>
                                      </p:cBhvr>
                                      <p:to>
                                        <p:strVal val="visible"/>
                                      </p:to>
                                    </p:set>
                                    <p:anim calcmode="lin" valueType="num">
                                      <p:cBhvr additive="base">
                                        <p:cTn id="56"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25"/>
                                        </p:tgtEl>
                                        <p:attrNameLst>
                                          <p:attrName>style.visibility</p:attrName>
                                        </p:attrNameLst>
                                      </p:cBhvr>
                                      <p:to>
                                        <p:strVal val="visible"/>
                                      </p:to>
                                    </p:set>
                                    <p:anim calcmode="lin" valueType="num">
                                      <p:cBhvr additive="base">
                                        <p:cTn id="62" dur="500" fill="hold"/>
                                        <p:tgtEl>
                                          <p:spTgt spid="125"/>
                                        </p:tgtEl>
                                        <p:attrNameLst>
                                          <p:attrName>ppt_x</p:attrName>
                                        </p:attrNameLst>
                                      </p:cBhvr>
                                      <p:tavLst>
                                        <p:tav tm="0">
                                          <p:val>
                                            <p:strVal val="#ppt_x"/>
                                          </p:val>
                                        </p:tav>
                                        <p:tav tm="100000">
                                          <p:val>
                                            <p:strVal val="#ppt_x"/>
                                          </p:val>
                                        </p:tav>
                                      </p:tavLst>
                                    </p:anim>
                                    <p:anim calcmode="lin" valueType="num">
                                      <p:cBhvr additive="base">
                                        <p:cTn id="6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23">
                                            <p:txEl>
                                              <p:pRg st="4" end="4"/>
                                            </p:txEl>
                                          </p:spTgt>
                                        </p:tgtEl>
                                        <p:attrNameLst>
                                          <p:attrName>style.visibility</p:attrName>
                                        </p:attrNameLst>
                                      </p:cBhvr>
                                      <p:to>
                                        <p:strVal val="visible"/>
                                      </p:to>
                                    </p:set>
                                    <p:anim calcmode="lin" valueType="num">
                                      <p:cBhvr additive="base">
                                        <p:cTn id="68"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3">
                                            <p:txEl>
                                              <p:pRg st="5" end="5"/>
                                            </p:txEl>
                                          </p:spTgt>
                                        </p:tgtEl>
                                        <p:attrNameLst>
                                          <p:attrName>style.visibility</p:attrName>
                                        </p:attrNameLst>
                                      </p:cBhvr>
                                      <p:to>
                                        <p:strVal val="visible"/>
                                      </p:to>
                                    </p:set>
                                    <p:anim calcmode="lin" valueType="num">
                                      <p:cBhvr additive="base">
                                        <p:cTn id="74"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23">
                                            <p:txEl>
                                              <p:pRg st="6" end="6"/>
                                            </p:txEl>
                                          </p:spTgt>
                                        </p:tgtEl>
                                        <p:attrNameLst>
                                          <p:attrName>style.visibility</p:attrName>
                                        </p:attrNameLst>
                                      </p:cBhvr>
                                      <p:to>
                                        <p:strVal val="visible"/>
                                      </p:to>
                                    </p:set>
                                    <p:anim calcmode="lin" valueType="num">
                                      <p:cBhvr additive="base">
                                        <p:cTn id="80"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23">
                                            <p:txEl>
                                              <p:pRg st="7" end="7"/>
                                            </p:txEl>
                                          </p:spTgt>
                                        </p:tgtEl>
                                        <p:attrNameLst>
                                          <p:attrName>style.visibility</p:attrName>
                                        </p:attrNameLst>
                                      </p:cBhvr>
                                      <p:to>
                                        <p:strVal val="visible"/>
                                      </p:to>
                                    </p:set>
                                    <p:anim calcmode="lin" valueType="num">
                                      <p:cBhvr additive="base">
                                        <p:cTn id="86"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xEl>
                                              <p:pRg st="8" end="8"/>
                                            </p:txEl>
                                          </p:spTgt>
                                        </p:tgtEl>
                                        <p:attrNameLst>
                                          <p:attrName>style.visibility</p:attrName>
                                        </p:attrNameLst>
                                      </p:cBhvr>
                                      <p:to>
                                        <p:strVal val="visible"/>
                                      </p:to>
                                    </p:set>
                                    <p:anim calcmode="lin" valueType="num">
                                      <p:cBhvr additive="base">
                                        <p:cTn id="92"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9" end="9"/>
                                            </p:txEl>
                                          </p:spTgt>
                                        </p:tgtEl>
                                        <p:attrNameLst>
                                          <p:attrName>style.visibility</p:attrName>
                                        </p:attrNameLst>
                                      </p:cBhvr>
                                      <p:to>
                                        <p:strVal val="visible"/>
                                      </p:to>
                                    </p:set>
                                    <p:anim calcmode="lin" valueType="num">
                                      <p:cBhvr additive="base">
                                        <p:cTn id="98"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600" name="" descr=""/>
          <p:cNvPicPr/>
          <p:nvPr/>
        </p:nvPicPr>
        <p:blipFill>
          <a:blip r:embed="rId1"/>
          <a:stretch/>
        </p:blipFill>
        <p:spPr>
          <a:xfrm>
            <a:off x="3924360" y="981000"/>
            <a:ext cx="3848040" cy="5478480"/>
          </a:xfrm>
          <a:prstGeom prst="rect">
            <a:avLst/>
          </a:prstGeom>
          <a:ln w="0">
            <a:noFill/>
          </a:ln>
        </p:spPr>
      </p:pic>
      <p:sp>
        <p:nvSpPr>
          <p:cNvPr id="601"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9" presetSubtype="10">
                                  <p:stCondLst>
                                    <p:cond delay="0"/>
                                  </p:stCondLst>
                                  <p:childTnLst>
                                    <p:set>
                                      <p:cBhvr>
                                        <p:cTn id="637" dur="1" fill="hold">
                                          <p:stCondLst>
                                            <p:cond delay="0"/>
                                          </p:stCondLst>
                                        </p:cTn>
                                        <p:tgtEl>
                                          <p:spTgt spid="600"/>
                                        </p:tgtEl>
                                        <p:attrNameLst>
                                          <p:attrName>style.visibility</p:attrName>
                                        </p:attrNameLst>
                                      </p:cBhvr>
                                      <p:to>
                                        <p:strVal val="visible"/>
                                      </p:to>
                                    </p:set>
                                    <p:anim calcmode="lin" valueType="num">
                                      <p:cBhvr additive="repl">
                                        <p:cTn id="638" dur="5000" fill="hold"/>
                                        <p:tgtEl>
                                          <p:spTgt spid="600"/>
                                        </p:tgtEl>
                                        <p:attrNameLst>
                                          <p:attrName>ppt_w</p:attrName>
                                        </p:attrNameLst>
                                      </p:cBhvr>
                                      <p:tavLst>
                                        <p:tav fmla="width*sin(2.5*pi*$)" tm="0">
                                          <p:val>
                                            <p:fltVal val="0"/>
                                          </p:val>
                                        </p:tav>
                                        <p:tav fmla="width*sin(2.5*pi*$)" tm="100000">
                                          <p:val>
                                            <p:fltVal val="1"/>
                                          </p:val>
                                        </p:tav>
                                      </p:tavLst>
                                    </p:anim>
                                    <p:anim calcmode="lin" valueType="num">
                                      <p:cBhvr additive="repl">
                                        <p:cTn id="639" dur="50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2.</a:t>
            </a:r>
            <a:r>
              <a:rPr b="1" lang="zh-CN" sz="4000" spc="-1" strike="noStrike">
                <a:solidFill>
                  <a:srgbClr val="00007d"/>
                </a:solidFill>
                <a:latin typeface="黑体"/>
                <a:ea typeface="黑体"/>
              </a:rPr>
              <a:t>方差</a:t>
            </a:r>
            <a:endParaRPr b="0" lang="en-US" sz="4000" spc="-1" strike="noStrike">
              <a:solidFill>
                <a:srgbClr val="000000"/>
              </a:solidFill>
              <a:latin typeface="Arial"/>
            </a:endParaRPr>
          </a:p>
        </p:txBody>
      </p:sp>
      <p:sp>
        <p:nvSpPr>
          <p:cNvPr id="129"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是度量随机变量变异性的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公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方差的性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是常数</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2627280" y="2306520"/>
                <a:ext cx="3816360" cy="5018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oMath>
                </a14:m>
              </a:p>
            </p:txBody>
          </p:sp>
        </mc:Choice>
        <mc:Fallback/>
      </mc:AlternateContent>
      <p:sp>
        <p:nvSpPr>
          <p:cNvPr id="133"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195640" y="4149720"/>
                <a:ext cx="1838160" cy="515880"/>
              </a:xfrm>
              <a:prstGeom prst="rect">
                <a:avLst/>
              </a:prstGeom>
            </p:spPr>
            <p:txBody>
              <a:bodyPr/>
              <a:p>
                <a14:m>
                  <m:oMath xmlns:m="http://schemas.openxmlformats.org/officeDocument/2006/math">
                    <m:r>
                      <m:rPr>
                        <m:lit/>
                        <m:nor/>
                      </m:rPr>
                      <m:t xml:space="preserve">Var</m:t>
                    </m:r>
                    <m:r>
                      <m:t xml:space="preserve">(</m:t>
                    </m:r>
                    <m:r>
                      <m:t xml:space="preserve">C</m:t>
                    </m:r>
                    <m:r>
                      <m:t xml:space="preserve">)</m:t>
                    </m:r>
                    <m:r>
                      <m:t xml:space="preserve">=</m:t>
                    </m:r>
                    <m:r>
                      <m:t xml:space="preserve">0</m:t>
                    </m:r>
                  </m:oMath>
                </a14:m>
              </a:p>
            </p:txBody>
          </p:sp>
        </mc:Choice>
        <mc:Fallback/>
      </mc:AlternateContent>
      <p:sp>
        <p:nvSpPr>
          <p:cNvPr id="1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2050920" y="4797360"/>
                <a:ext cx="3097440" cy="506520"/>
              </a:xfrm>
              <a:prstGeom prst="rect">
                <a:avLst/>
              </a:prstGeom>
            </p:spPr>
            <p:txBody>
              <a:bodyPr/>
              <a:p>
                <a14:m>
                  <m:oMath xmlns:m="http://schemas.openxmlformats.org/officeDocument/2006/math">
                    <m:r>
                      <m:rPr>
                        <m:lit/>
                        <m:nor/>
                      </m:rPr>
                      <m:t xml:space="preserve">Var</m:t>
                    </m:r>
                    <m:r>
                      <m:t xml:space="preserve">(</m:t>
                    </m:r>
                    <m:r>
                      <m:rPr>
                        <m:lit/>
                        <m:nor/>
                      </m:rPr>
                      <m:t xml:space="preserve">CX</m:t>
                    </m:r>
                    <m:r>
                      <m:t xml:space="preserve">)</m:t>
                    </m:r>
                    <m:r>
                      <m:t xml:space="preserve">=</m:t>
                    </m:r>
                    <m:sSup>
                      <m:e>
                        <m:r>
                          <m:t xml:space="preserve">C</m:t>
                        </m:r>
                      </m:e>
                      <m:sup>
                        <m:r>
                          <m:t xml:space="preserve">2</m:t>
                        </m:r>
                      </m:sup>
                    </m:sSup>
                    <m:r>
                      <m:rPr>
                        <m:lit/>
                        <m:nor/>
                      </m:rPr>
                      <m:t xml:space="preserve">Var</m:t>
                    </m:r>
                    <m:r>
                      <m:t xml:space="preserve">(</m:t>
                    </m:r>
                    <m:r>
                      <m:t xml:space="preserve">X</m:t>
                    </m:r>
                    <m:r>
                      <m:t xml:space="preserve">)</m:t>
                    </m:r>
                  </m:oMath>
                </a14:m>
              </a:p>
            </p:txBody>
          </p:sp>
        </mc:Choice>
        <mc:Fallback/>
      </mc:AlternateContent>
      <p:sp>
        <p:nvSpPr>
          <p:cNvPr id="13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979640" y="5516640"/>
                <a:ext cx="4541760" cy="4730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Y</m:t>
                    </m:r>
                    <m:r>
                      <m:t xml:space="preserve">)</m:t>
                    </m:r>
                    <m:r>
                      <m:t xml:space="preserve">=</m:t>
                    </m:r>
                    <m:r>
                      <m:rPr>
                        <m:lit/>
                        <m:nor/>
                      </m:rPr>
                      <m:t xml:space="preserve">Var</m:t>
                    </m:r>
                    <m:r>
                      <m:t xml:space="preserve">(</m:t>
                    </m:r>
                    <m:r>
                      <m:t xml:space="preserve">X</m:t>
                    </m:r>
                    <m:r>
                      <m:t xml:space="preserve">)</m:t>
                    </m:r>
                    <m:r>
                      <m:t xml:space="preserve">+</m:t>
                    </m:r>
                    <m:r>
                      <m:rPr>
                        <m:lit/>
                        <m:nor/>
                      </m:rPr>
                      <m:t xml:space="preserve">Var</m:t>
                    </m:r>
                    <m:r>
                      <m:t xml:space="preserve">(</m:t>
                    </m:r>
                    <m:r>
                      <m:t xml:space="preserve">Y</m:t>
                    </m:r>
                    <m:r>
                      <m:t xml:space="preserve">)</m:t>
                    </m:r>
                  </m:oMath>
                </a14:m>
              </a:p>
            </p:txBody>
          </p:sp>
        </mc:Choice>
        <mc:Fallback/>
      </mc:AlternateContent>
      <p:pic>
        <p:nvPicPr>
          <p:cNvPr id="140" name="" descr=""/>
          <p:cNvPicPr/>
          <p:nvPr/>
        </p:nvPicPr>
        <p:blipFill>
          <a:blip r:embed="rId1"/>
          <a:stretch/>
        </p:blipFill>
        <p:spPr>
          <a:xfrm>
            <a:off x="6534000" y="3068640"/>
            <a:ext cx="2610000" cy="3657600"/>
          </a:xfrm>
          <a:prstGeom prst="rect">
            <a:avLst/>
          </a:prstGeom>
          <a:ln w="0">
            <a:noFill/>
          </a:ln>
        </p:spPr>
      </p:pic>
      <p:pic>
        <p:nvPicPr>
          <p:cNvPr id="141" name="" descr=""/>
          <p:cNvPicPr/>
          <p:nvPr/>
        </p:nvPicPr>
        <p:blipFill>
          <a:blip r:embed="rId2"/>
          <a:stretch/>
        </p:blipFill>
        <p:spPr>
          <a:xfrm>
            <a:off x="2484360" y="3025800"/>
            <a:ext cx="3888000" cy="395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9">
                                            <p:txEl>
                                              <p:pRg st="0" end="0"/>
                                            </p:txEl>
                                          </p:spTgt>
                                        </p:tgtEl>
                                        <p:attrNameLst>
                                          <p:attrName>style.visibility</p:attrName>
                                        </p:attrNameLst>
                                      </p:cBhvr>
                                      <p:to>
                                        <p:strVal val="visible"/>
                                      </p:to>
                                    </p:set>
                                    <p:anim calcmode="lin" valueType="num">
                                      <p:cBhvr additive="base">
                                        <p:cTn id="10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29">
                                            <p:txEl>
                                              <p:pRg st="1" end="1"/>
                                            </p:txEl>
                                          </p:spTgt>
                                        </p:tgtEl>
                                        <p:attrNameLst>
                                          <p:attrName>style.visibility</p:attrName>
                                        </p:attrNameLst>
                                      </p:cBhvr>
                                      <p:to>
                                        <p:strVal val="visible"/>
                                      </p:to>
                                    </p:set>
                                    <p:anim calcmode="lin" valueType="num">
                                      <p:cBhvr additive="base">
                                        <p:cTn id="112"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32"/>
                                        </p:tgtEl>
                                        <p:attrNameLst>
                                          <p:attrName>style.visibility</p:attrName>
                                        </p:attrNameLst>
                                      </p:cBhvr>
                                      <p:to>
                                        <p:strVal val="visible"/>
                                      </p:to>
                                    </p:set>
                                    <p:anim calcmode="lin" valueType="num">
                                      <p:cBhvr additive="base">
                                        <p:cTn id="118" dur="500" fill="hold"/>
                                        <p:tgtEl>
                                          <p:spTgt spid="132"/>
                                        </p:tgtEl>
                                        <p:attrNameLst>
                                          <p:attrName>ppt_x</p:attrName>
                                        </p:attrNameLst>
                                      </p:cBhvr>
                                      <p:tavLst>
                                        <p:tav tm="0">
                                          <p:val>
                                            <p:strVal val="#ppt_x"/>
                                          </p:val>
                                        </p:tav>
                                        <p:tav tm="100000">
                                          <p:val>
                                            <p:strVal val="#ppt_x"/>
                                          </p:val>
                                        </p:tav>
                                      </p:tavLst>
                                    </p:anim>
                                    <p:anim calcmode="lin" valueType="num">
                                      <p:cBhvr additive="base">
                                        <p:cTn id="11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1"/>
                                        </p:tgtEl>
                                        <p:attrNameLst>
                                          <p:attrName>style.visibility</p:attrName>
                                        </p:attrNameLst>
                                      </p:cBhvr>
                                      <p:to>
                                        <p:strVal val="visible"/>
                                      </p:to>
                                    </p:set>
                                    <p:animEffect filter="blinds(horizontal)"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9">
                                            <p:txEl>
                                              <p:pRg st="5" end="5"/>
                                            </p:txEl>
                                          </p:spTgt>
                                        </p:tgtEl>
                                        <p:attrNameLst>
                                          <p:attrName>style.visibility</p:attrName>
                                        </p:attrNameLst>
                                      </p:cBhvr>
                                      <p:to>
                                        <p:strVal val="visible"/>
                                      </p:to>
                                    </p:set>
                                    <p:anim calcmode="lin" valueType="num">
                                      <p:cBhvr additive="base">
                                        <p:cTn id="12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9">
                                            <p:txEl>
                                              <p:pRg st="6" end="6"/>
                                            </p:txEl>
                                          </p:spTgt>
                                        </p:tgtEl>
                                        <p:attrNameLst>
                                          <p:attrName>style.visibility</p:attrName>
                                        </p:attrNameLst>
                                      </p:cBhvr>
                                      <p:to>
                                        <p:strVal val="visible"/>
                                      </p:to>
                                    </p:set>
                                    <p:anim calcmode="lin" valueType="num">
                                      <p:cBhvr additive="base">
                                        <p:cTn id="135"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29">
                                            <p:txEl>
                                              <p:pRg st="7" end="7"/>
                                            </p:txEl>
                                          </p:spTgt>
                                        </p:tgtEl>
                                        <p:attrNameLst>
                                          <p:attrName>style.visibility</p:attrName>
                                        </p:attrNameLst>
                                      </p:cBhvr>
                                      <p:to>
                                        <p:strVal val="visible"/>
                                      </p:to>
                                    </p:set>
                                    <p:anim calcmode="lin" valueType="num">
                                      <p:cBhvr additive="base">
                                        <p:cTn id="141"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7"/>
                                        </p:tgtEl>
                                        <p:attrNameLst>
                                          <p:attrName>style.visibility</p:attrName>
                                        </p:attrNameLst>
                                      </p:cBhvr>
                                      <p:to>
                                        <p:strVal val="visible"/>
                                      </p:to>
                                    </p:set>
                                    <p:anim calcmode="lin" valueType="num">
                                      <p:cBhvr additive="base">
                                        <p:cTn id="153" dur="500" fill="hold"/>
                                        <p:tgtEl>
                                          <p:spTgt spid="137"/>
                                        </p:tgtEl>
                                        <p:attrNameLst>
                                          <p:attrName>ppt_x</p:attrName>
                                        </p:attrNameLst>
                                      </p:cBhvr>
                                      <p:tavLst>
                                        <p:tav tm="0">
                                          <p:val>
                                            <p:strVal val="#ppt_x"/>
                                          </p:val>
                                        </p:tav>
                                        <p:tav tm="100000">
                                          <p:val>
                                            <p:strVal val="#ppt_x"/>
                                          </p:val>
                                        </p:tav>
                                      </p:tavLst>
                                    </p:anim>
                                    <p:anim calcmode="lin" valueType="num">
                                      <p:cBhvr additive="base">
                                        <p:cTn id="15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9"/>
                                        </p:tgtEl>
                                        <p:attrNameLst>
                                          <p:attrName>style.visibility</p:attrName>
                                        </p:attrNameLst>
                                      </p:cBhvr>
                                      <p:to>
                                        <p:strVal val="visible"/>
                                      </p:to>
                                    </p:set>
                                    <p:anim calcmode="lin" valueType="num">
                                      <p:cBhvr additive="base">
                                        <p:cTn id="159" dur="500" fill="hold"/>
                                        <p:tgtEl>
                                          <p:spTgt spid="139"/>
                                        </p:tgtEl>
                                        <p:attrNameLst>
                                          <p:attrName>ppt_x</p:attrName>
                                        </p:attrNameLst>
                                      </p:cBhvr>
                                      <p:tavLst>
                                        <p:tav tm="0">
                                          <p:val>
                                            <p:strVal val="#ppt_x"/>
                                          </p:val>
                                        </p:tav>
                                        <p:tav tm="100000">
                                          <p:val>
                                            <p:strVal val="#ppt_x"/>
                                          </p:val>
                                        </p:tav>
                                      </p:tavLst>
                                    </p:anim>
                                    <p:anim calcmode="lin" valueType="num">
                                      <p:cBhvr additive="base">
                                        <p:cTn id="16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3.</a:t>
            </a:r>
            <a:r>
              <a:rPr b="1" lang="zh-CN" sz="4000" spc="-1" strike="noStrike">
                <a:solidFill>
                  <a:srgbClr val="00007d"/>
                </a:solidFill>
                <a:latin typeface="黑体"/>
                <a:ea typeface="黑体"/>
              </a:rPr>
              <a:t>协方差</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468360" y="1844280"/>
            <a:ext cx="82296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描述</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之间相互关系的数字特征</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公式</a:t>
            </a:r>
            <a:endParaRPr b="0" lang="en-US" sz="2400" spc="-1" strike="noStrike">
              <a:solidFill>
                <a:srgbClr val="000000"/>
              </a:solidFill>
              <a:latin typeface="Arial"/>
            </a:endParaRPr>
          </a:p>
        </p:txBody>
      </p:sp>
      <p:sp>
        <p:nvSpPr>
          <p:cNvPr id="144"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2195640" y="2421000"/>
                <a:ext cx="4535280" cy="41112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r>
                      <m:t xml:space="preserve">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oMath>
                </a14:m>
              </a:p>
            </p:txBody>
          </p:sp>
        </mc:Choice>
        <mc:Fallback/>
      </mc:AlternateContent>
      <p:sp>
        <p:nvSpPr>
          <p:cNvPr id="146"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7" name=""/>
          <p:cNvGrpSpPr/>
          <p:nvPr/>
        </p:nvGrpSpPr>
        <p:grpSpPr>
          <a:xfrm>
            <a:off x="779400" y="2891520"/>
            <a:ext cx="3418920" cy="3516480"/>
            <a:chOff x="779400" y="2891520"/>
            <a:chExt cx="3418920" cy="3516480"/>
          </a:xfrm>
        </p:grpSpPr>
        <p:sp>
          <p:nvSpPr>
            <p:cNvPr id="148" name="Gear"/>
            <p:cNvSpPr/>
            <p:nvPr/>
          </p:nvSpPr>
          <p:spPr>
            <a:xfrm rot="3050400">
              <a:off x="2665440" y="3996720"/>
              <a:ext cx="1251360" cy="132012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3050400">
              <a:off x="1115280" y="3180600"/>
              <a:ext cx="1496160" cy="157824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3050400">
              <a:off x="1177920" y="4332960"/>
              <a:ext cx="1662840" cy="1753200"/>
            </a:xfrm>
            <a:prstGeom prst="pi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 descr=""/>
          <p:cNvPicPr/>
          <p:nvPr/>
        </p:nvPicPr>
        <p:blipFill>
          <a:blip r:embed="rId1"/>
          <a:stretch/>
        </p:blipFill>
        <p:spPr>
          <a:xfrm>
            <a:off x="8028000" y="5373720"/>
            <a:ext cx="216000" cy="216000"/>
          </a:xfrm>
          <a:prstGeom prst="rect">
            <a:avLst/>
          </a:prstGeom>
          <a:ln w="0">
            <a:noFill/>
          </a:ln>
        </p:spPr>
      </p:pic>
      <p:pic>
        <p:nvPicPr>
          <p:cNvPr id="152" name="" descr=""/>
          <p:cNvPicPr/>
          <p:nvPr/>
        </p:nvPicPr>
        <p:blipFill>
          <a:blip r:embed="rId2"/>
          <a:stretch/>
        </p:blipFill>
        <p:spPr>
          <a:xfrm>
            <a:off x="8459640" y="5373720"/>
            <a:ext cx="216000" cy="216000"/>
          </a:xfrm>
          <a:prstGeom prst="rect">
            <a:avLst/>
          </a:prstGeom>
          <a:ln w="0">
            <a:noFill/>
          </a:ln>
        </p:spPr>
      </p:pic>
      <p:pic>
        <p:nvPicPr>
          <p:cNvPr id="153" name="" descr=""/>
          <p:cNvPicPr/>
          <p:nvPr/>
        </p:nvPicPr>
        <p:blipFill>
          <a:blip r:embed="rId3"/>
          <a:stretch/>
        </p:blipFill>
        <p:spPr>
          <a:xfrm>
            <a:off x="4786200" y="5734080"/>
            <a:ext cx="216000" cy="216000"/>
          </a:xfrm>
          <a:prstGeom prst="rect">
            <a:avLst/>
          </a:prstGeom>
          <a:ln w="0">
            <a:noFill/>
          </a:ln>
        </p:spPr>
      </p:pic>
      <p:pic>
        <p:nvPicPr>
          <p:cNvPr id="154" name="" descr=""/>
          <p:cNvPicPr/>
          <p:nvPr/>
        </p:nvPicPr>
        <p:blipFill>
          <a:blip r:embed="rId4"/>
          <a:stretch/>
        </p:blipFill>
        <p:spPr>
          <a:xfrm>
            <a:off x="4425840" y="5734080"/>
            <a:ext cx="216000" cy="216000"/>
          </a:xfrm>
          <a:prstGeom prst="rect">
            <a:avLst/>
          </a:prstGeom>
          <a:ln w="0">
            <a:noFill/>
          </a:ln>
        </p:spPr>
      </p:pic>
      <p:pic>
        <p:nvPicPr>
          <p:cNvPr id="155" name="" descr=""/>
          <p:cNvPicPr/>
          <p:nvPr/>
        </p:nvPicPr>
        <p:blipFill>
          <a:blip r:embed="rId5"/>
          <a:stretch/>
        </p:blipFill>
        <p:spPr>
          <a:xfrm>
            <a:off x="3346560" y="5734080"/>
            <a:ext cx="215640" cy="216000"/>
          </a:xfrm>
          <a:prstGeom prst="rect">
            <a:avLst/>
          </a:prstGeom>
          <a:ln w="0">
            <a:noFill/>
          </a:ln>
        </p:spPr>
      </p:pic>
      <p:pic>
        <p:nvPicPr>
          <p:cNvPr id="156" name="" descr=""/>
          <p:cNvPicPr/>
          <p:nvPr/>
        </p:nvPicPr>
        <p:blipFill>
          <a:blip r:embed="rId6"/>
          <a:stretch/>
        </p:blipFill>
        <p:spPr>
          <a:xfrm>
            <a:off x="3706920" y="5734080"/>
            <a:ext cx="215640" cy="216000"/>
          </a:xfrm>
          <a:prstGeom prst="rect">
            <a:avLst/>
          </a:prstGeom>
          <a:ln w="0">
            <a:noFill/>
          </a:ln>
        </p:spPr>
      </p:pic>
      <p:pic>
        <p:nvPicPr>
          <p:cNvPr id="157" name="" descr=""/>
          <p:cNvPicPr/>
          <p:nvPr/>
        </p:nvPicPr>
        <p:blipFill>
          <a:blip r:embed="rId7"/>
          <a:stretch/>
        </p:blipFill>
        <p:spPr>
          <a:xfrm>
            <a:off x="4067280" y="5734080"/>
            <a:ext cx="215640" cy="216000"/>
          </a:xfrm>
          <a:prstGeom prst="rect">
            <a:avLst/>
          </a:prstGeom>
          <a:ln w="0">
            <a:noFill/>
          </a:ln>
        </p:spPr>
      </p:pic>
      <p:pic>
        <p:nvPicPr>
          <p:cNvPr id="158" name="" descr=""/>
          <p:cNvPicPr/>
          <p:nvPr/>
        </p:nvPicPr>
        <p:blipFill>
          <a:blip r:embed="rId8"/>
          <a:stretch/>
        </p:blipFill>
        <p:spPr>
          <a:xfrm>
            <a:off x="7596360" y="5373720"/>
            <a:ext cx="215640" cy="216000"/>
          </a:xfrm>
          <a:prstGeom prst="rect">
            <a:avLst/>
          </a:prstGeom>
          <a:ln w="0">
            <a:noFill/>
          </a:ln>
        </p:spPr>
      </p:pic>
      <p:pic>
        <p:nvPicPr>
          <p:cNvPr id="159" name="" descr=""/>
          <p:cNvPicPr/>
          <p:nvPr/>
        </p:nvPicPr>
        <p:blipFill>
          <a:blip r:embed="rId9"/>
          <a:stretch/>
        </p:blipFill>
        <p:spPr>
          <a:xfrm>
            <a:off x="6083280" y="5734080"/>
            <a:ext cx="216000" cy="216000"/>
          </a:xfrm>
          <a:prstGeom prst="rect">
            <a:avLst/>
          </a:prstGeom>
          <a:ln w="0">
            <a:noFill/>
          </a:ln>
        </p:spPr>
      </p:pic>
      <p:pic>
        <p:nvPicPr>
          <p:cNvPr id="160" name="" descr=""/>
          <p:cNvPicPr/>
          <p:nvPr/>
        </p:nvPicPr>
        <p:blipFill>
          <a:blip r:embed="rId10"/>
          <a:stretch/>
        </p:blipFill>
        <p:spPr>
          <a:xfrm>
            <a:off x="5651640" y="5734080"/>
            <a:ext cx="215640" cy="216000"/>
          </a:xfrm>
          <a:prstGeom prst="rect">
            <a:avLst/>
          </a:prstGeom>
          <a:ln w="0">
            <a:noFill/>
          </a:ln>
        </p:spPr>
      </p:pic>
      <p:pic>
        <p:nvPicPr>
          <p:cNvPr id="161" name="" descr=""/>
          <p:cNvPicPr/>
          <p:nvPr/>
        </p:nvPicPr>
        <p:blipFill>
          <a:blip r:embed="rId11"/>
          <a:stretch/>
        </p:blipFill>
        <p:spPr>
          <a:xfrm>
            <a:off x="5218200" y="5734080"/>
            <a:ext cx="215640" cy="216000"/>
          </a:xfrm>
          <a:prstGeom prst="rect">
            <a:avLst/>
          </a:prstGeom>
          <a:ln w="0">
            <a:noFill/>
          </a:ln>
        </p:spPr>
      </p:pic>
      <p:pic>
        <p:nvPicPr>
          <p:cNvPr id="162" name="" descr=""/>
          <p:cNvPicPr/>
          <p:nvPr/>
        </p:nvPicPr>
        <p:blipFill>
          <a:blip r:embed="rId12"/>
          <a:stretch/>
        </p:blipFill>
        <p:spPr>
          <a:xfrm>
            <a:off x="6875640" y="5734080"/>
            <a:ext cx="215640" cy="216000"/>
          </a:xfrm>
          <a:prstGeom prst="rect">
            <a:avLst/>
          </a:prstGeom>
          <a:ln w="0">
            <a:noFill/>
          </a:ln>
        </p:spPr>
      </p:pic>
      <p:pic>
        <p:nvPicPr>
          <p:cNvPr id="163" name="" descr=""/>
          <p:cNvPicPr/>
          <p:nvPr/>
        </p:nvPicPr>
        <p:blipFill>
          <a:blip r:embed="rId13"/>
          <a:stretch/>
        </p:blipFill>
        <p:spPr>
          <a:xfrm>
            <a:off x="6515280" y="5734080"/>
            <a:ext cx="215640" cy="216000"/>
          </a:xfrm>
          <a:prstGeom prst="rect">
            <a:avLst/>
          </a:prstGeom>
          <a:ln w="0">
            <a:noFill/>
          </a:ln>
        </p:spPr>
      </p:pic>
      <p:pic>
        <p:nvPicPr>
          <p:cNvPr id="164" name="" descr=""/>
          <p:cNvPicPr/>
          <p:nvPr/>
        </p:nvPicPr>
        <p:blipFill>
          <a:blip r:embed="rId14"/>
          <a:stretch/>
        </p:blipFill>
        <p:spPr>
          <a:xfrm>
            <a:off x="7236000" y="5373720"/>
            <a:ext cx="215640" cy="216000"/>
          </a:xfrm>
          <a:prstGeom prst="rect">
            <a:avLst/>
          </a:prstGeom>
          <a:ln w="0">
            <a:noFill/>
          </a:ln>
        </p:spPr>
      </p:pic>
      <p:pic>
        <p:nvPicPr>
          <p:cNvPr id="165" name="" descr=""/>
          <p:cNvPicPr/>
          <p:nvPr/>
        </p:nvPicPr>
        <p:blipFill>
          <a:blip r:embed="rId15"/>
          <a:stretch/>
        </p:blipFill>
        <p:spPr>
          <a:xfrm>
            <a:off x="7236000" y="5734080"/>
            <a:ext cx="215640" cy="216000"/>
          </a:xfrm>
          <a:prstGeom prst="rect">
            <a:avLst/>
          </a:prstGeom>
          <a:ln w="0">
            <a:noFill/>
          </a:ln>
        </p:spPr>
      </p:pic>
      <p:pic>
        <p:nvPicPr>
          <p:cNvPr id="166" name="" descr=""/>
          <p:cNvPicPr/>
          <p:nvPr/>
        </p:nvPicPr>
        <p:blipFill>
          <a:blip r:embed="rId16"/>
          <a:stretch/>
        </p:blipFill>
        <p:spPr>
          <a:xfrm>
            <a:off x="7954920" y="5734080"/>
            <a:ext cx="216000" cy="216000"/>
          </a:xfrm>
          <a:prstGeom prst="rect">
            <a:avLst/>
          </a:prstGeom>
          <a:ln w="0">
            <a:noFill/>
          </a:ln>
        </p:spPr>
      </p:pic>
      <p:pic>
        <p:nvPicPr>
          <p:cNvPr id="167" name="" descr=""/>
          <p:cNvPicPr/>
          <p:nvPr/>
        </p:nvPicPr>
        <p:blipFill>
          <a:blip r:embed="rId17"/>
          <a:stretch/>
        </p:blipFill>
        <p:spPr>
          <a:xfrm>
            <a:off x="7594560" y="5734080"/>
            <a:ext cx="216000" cy="216000"/>
          </a:xfrm>
          <a:prstGeom prst="rect">
            <a:avLst/>
          </a:prstGeom>
          <a:ln w="0">
            <a:noFill/>
          </a:ln>
        </p:spPr>
      </p:pic>
      <p:pic>
        <p:nvPicPr>
          <p:cNvPr id="168" name="" descr=""/>
          <p:cNvPicPr/>
          <p:nvPr/>
        </p:nvPicPr>
        <p:blipFill>
          <a:blip r:embed="rId18"/>
          <a:stretch/>
        </p:blipFill>
        <p:spPr>
          <a:xfrm>
            <a:off x="6804000" y="5373720"/>
            <a:ext cx="216000" cy="216000"/>
          </a:xfrm>
          <a:prstGeom prst="rect">
            <a:avLst/>
          </a:prstGeom>
          <a:ln w="0">
            <a:noFill/>
          </a:ln>
        </p:spPr>
      </p:pic>
      <p:pic>
        <p:nvPicPr>
          <p:cNvPr id="169" name="" descr=""/>
          <p:cNvPicPr/>
          <p:nvPr/>
        </p:nvPicPr>
        <p:blipFill>
          <a:blip r:embed="rId19"/>
          <a:stretch/>
        </p:blipFill>
        <p:spPr>
          <a:xfrm>
            <a:off x="8315280" y="5734080"/>
            <a:ext cx="216000" cy="216000"/>
          </a:xfrm>
          <a:prstGeom prst="rect">
            <a:avLst/>
          </a:prstGeom>
          <a:ln w="0">
            <a:noFill/>
          </a:ln>
        </p:spPr>
      </p:pic>
      <p:pic>
        <p:nvPicPr>
          <p:cNvPr id="170" name="" descr=""/>
          <p:cNvPicPr/>
          <p:nvPr/>
        </p:nvPicPr>
        <p:blipFill>
          <a:blip r:embed="rId20"/>
          <a:stretch/>
        </p:blipFill>
        <p:spPr>
          <a:xfrm>
            <a:off x="8675640" y="5734080"/>
            <a:ext cx="216000" cy="216000"/>
          </a:xfrm>
          <a:prstGeom prst="rect">
            <a:avLst/>
          </a:prstGeom>
          <a:ln w="0">
            <a:noFill/>
          </a:ln>
        </p:spPr>
      </p:pic>
      <p:pic>
        <p:nvPicPr>
          <p:cNvPr id="171" name="" descr=""/>
          <p:cNvPicPr/>
          <p:nvPr/>
        </p:nvPicPr>
        <p:blipFill>
          <a:blip r:embed="rId21"/>
          <a:stretch/>
        </p:blipFill>
        <p:spPr>
          <a:xfrm>
            <a:off x="6443640" y="5373720"/>
            <a:ext cx="216000" cy="216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 calcmode="lin" valueType="num">
                                      <p:cBhvr additive="base">
                                        <p:cTn id="16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43">
                                            <p:txEl>
                                              <p:pRg st="1" end="1"/>
                                            </p:txEl>
                                          </p:spTgt>
                                        </p:tgtEl>
                                        <p:attrNameLst>
                                          <p:attrName>style.visibility</p:attrName>
                                        </p:attrNameLst>
                                      </p:cBhvr>
                                      <p:to>
                                        <p:strVal val="visible"/>
                                      </p:to>
                                    </p:set>
                                    <p:anim calcmode="lin" valueType="num">
                                      <p:cBhvr additive="base">
                                        <p:cTn id="17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5"/>
                                        </p:tgtEl>
                                        <p:attrNameLst>
                                          <p:attrName>style.visibility</p:attrName>
                                        </p:attrNameLst>
                                      </p:cBhvr>
                                      <p:to>
                                        <p:strVal val="visible"/>
                                      </p:to>
                                    </p:set>
                                    <p:anim calcmode="lin" valueType="num">
                                      <p:cBhvr additive="base">
                                        <p:cTn id="179" dur="500" fill="hold"/>
                                        <p:tgtEl>
                                          <p:spTgt spid="145"/>
                                        </p:tgtEl>
                                        <p:attrNameLst>
                                          <p:attrName>ppt_x</p:attrName>
                                        </p:attrNameLst>
                                      </p:cBhvr>
                                      <p:tavLst>
                                        <p:tav tm="0">
                                          <p:val>
                                            <p:strVal val="#ppt_x"/>
                                          </p:val>
                                        </p:tav>
                                        <p:tav tm="100000">
                                          <p:val>
                                            <p:strVal val="#ppt_x"/>
                                          </p:val>
                                        </p:tav>
                                      </p:tavLst>
                                    </p:anim>
                                    <p:anim calcmode="lin" valueType="num">
                                      <p:cBhvr additive="base">
                                        <p:cTn id="18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980640"/>
            <a:ext cx="7632720" cy="31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黑体"/>
                <a:ea typeface="黑体"/>
              </a:rPr>
              <a:t>          </a:t>
            </a:r>
            <a:br>
              <a:rPr sz="3600"/>
            </a:br>
            <a:r>
              <a:rPr b="1" lang="zh-CN" sz="3600" spc="-1" strike="noStrike">
                <a:solidFill>
                  <a:srgbClr val="00007d"/>
                </a:solidFill>
                <a:latin typeface="黑体"/>
                <a:ea typeface="黑体"/>
              </a:rPr>
              <a:t>第二节  常用的随机变量及概率分布</a:t>
            </a:r>
            <a:br>
              <a:rPr sz="4000"/>
            </a:br>
            <a:br>
              <a:rPr sz="4000"/>
            </a:br>
            <a:r>
              <a:rPr b="0" lang="zh-CN" sz="2800" spc="-1" strike="noStrike">
                <a:solidFill>
                  <a:srgbClr val="000000"/>
                </a:solidFill>
                <a:latin typeface="Arial"/>
              </a:rPr>
              <a:t>一、</a:t>
            </a:r>
            <a:r>
              <a:rPr b="0" lang="zh-CN" sz="3200" spc="-1" strike="noStrike">
                <a:solidFill>
                  <a:srgbClr val="000000"/>
                </a:solidFill>
                <a:latin typeface="Arial"/>
                <a:ea typeface="华文新魏"/>
              </a:rPr>
              <a:t>正态曲线</a:t>
            </a:r>
            <a:endParaRPr b="0" lang="en-US" sz="3200" spc="-1" strike="noStrike">
              <a:solidFill>
                <a:srgbClr val="000000"/>
              </a:solidFill>
              <a:latin typeface="Arial"/>
            </a:endParaRPr>
          </a:p>
        </p:txBody>
      </p:sp>
      <p:sp>
        <p:nvSpPr>
          <p:cNvPr id="173" name="PlaceHolder 2"/>
          <p:cNvSpPr>
            <a:spLocks noGrp="1"/>
          </p:cNvSpPr>
          <p:nvPr>
            <p:ph/>
          </p:nvPr>
        </p:nvSpPr>
        <p:spPr>
          <a:xfrm>
            <a:off x="3637080" y="2498760"/>
            <a:ext cx="3093840" cy="4348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X</a:t>
            </a:r>
            <a:r>
              <a:rPr b="0" lang="zh-CN" sz="2800" spc="-1" strike="noStrike">
                <a:solidFill>
                  <a:srgbClr val="000000"/>
                </a:solidFill>
                <a:latin typeface="Arial"/>
              </a:rPr>
              <a:t>～</a:t>
            </a:r>
            <a:r>
              <a:rPr b="0" lang="en-US" sz="2800" spc="-1" strike="noStrike">
                <a:solidFill>
                  <a:srgbClr val="000000"/>
                </a:solidFill>
                <a:latin typeface="Arial"/>
              </a:rPr>
              <a:t>N (</a:t>
            </a:r>
            <a:r>
              <a:rPr b="0" i="1" lang="en-US" sz="2800" spc="-1" strike="noStrike">
                <a:solidFill>
                  <a:srgbClr val="000000"/>
                </a:solidFill>
                <a:latin typeface="Arial"/>
              </a:rPr>
              <a:t>μ</a:t>
            </a:r>
            <a:r>
              <a:rPr b="0" i="1" lang="zh-CN" sz="2800" spc="-1" strike="noStrike">
                <a:solidFill>
                  <a:srgbClr val="000000"/>
                </a:solidFill>
                <a:latin typeface="Arial"/>
              </a:rPr>
              <a:t>、</a:t>
            </a:r>
            <a:r>
              <a:rPr b="0" i="1" lang="en-US" sz="2800" spc="-1" strike="noStrike">
                <a:solidFill>
                  <a:srgbClr val="000000"/>
                </a:solidFill>
                <a:latin typeface="Arial"/>
              </a:rPr>
              <a:t>σ</a:t>
            </a:r>
            <a:r>
              <a:rPr b="0" i="1" lang="en-US" sz="2800" spc="-1" strike="noStrike" baseline="30000">
                <a:solidFill>
                  <a:srgbClr val="000000"/>
                </a:solidFill>
                <a:latin typeface="Arial"/>
              </a:rPr>
              <a:t> 2</a:t>
            </a:r>
            <a:r>
              <a:rPr b="0" i="1"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1258920" y="3284640"/>
                <a:ext cx="3887640" cy="11998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176" name=""/>
          <p:cNvSpPr/>
          <p:nvPr/>
        </p:nvSpPr>
        <p:spPr>
          <a:xfrm>
            <a:off x="539640" y="4508640"/>
            <a:ext cx="6912000" cy="201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ea typeface="华文新魏"/>
              </a:rPr>
              <a:t>正态分布的均值和标准差</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均值 </a:t>
            </a:r>
            <a:r>
              <a:rPr b="0" lang="zh-CN" sz="3200" spc="-1" strike="noStrike">
                <a:solidFill>
                  <a:srgbClr val="000000"/>
                </a:solidFill>
                <a:latin typeface="Arial"/>
              </a:rPr>
              <a:t>E(X) =</a:t>
            </a:r>
            <a:r>
              <a:rPr b="0" i="1" lang="zh-CN" sz="3200" spc="-1" strike="noStrike">
                <a:solidFill>
                  <a:srgbClr val="000000"/>
                </a:solidFill>
                <a:latin typeface="Arial"/>
              </a:rPr>
              <a:t>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i="1" lang="zh-CN" sz="3200" spc="-1" strike="noStrike">
                <a:solidFill>
                  <a:srgbClr val="000000"/>
                </a:solidFill>
                <a:latin typeface="Arial"/>
              </a:rPr>
              <a:t>方差  </a:t>
            </a:r>
            <a:r>
              <a:rPr b="0" i="1" lang="zh-CN" sz="3200" spc="-1" strike="noStrike">
                <a:solidFill>
                  <a:srgbClr val="000000"/>
                </a:solidFill>
                <a:latin typeface="Arial"/>
              </a:rPr>
              <a:t>D(X)=σ</a:t>
            </a:r>
            <a:r>
              <a:rPr b="0" i="1" lang="zh-CN" sz="3200" spc="-1" strike="noStrike" baseline="30000">
                <a:solidFill>
                  <a:srgbClr val="000000"/>
                </a:solidFill>
                <a:latin typeface="Arial"/>
              </a:rPr>
              <a:t> 2</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77" name=""/>
          <p:cNvSpPr/>
          <p:nvPr/>
        </p:nvSpPr>
        <p:spPr>
          <a:xfrm>
            <a:off x="5808240" y="3860280"/>
            <a:ext cx="1341720" cy="3661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 </a:t>
            </a:r>
            <a:r>
              <a:rPr b="0" lang="en-US" sz="2400" spc="-1" strike="noStrike">
                <a:solidFill>
                  <a:srgbClr val="000000"/>
                </a:solidFill>
                <a:latin typeface="Times New Roman"/>
                <a:ea typeface="Times New Roman"/>
              </a:rPr>
              <a:t>-∞&lt; </a:t>
            </a:r>
            <a:r>
              <a:rPr b="0" i="1" lang="en-US" sz="2400" spc="-1" strike="noStrike">
                <a:solidFill>
                  <a:srgbClr val="000000"/>
                </a:solidFill>
                <a:latin typeface="Times New Roman"/>
                <a:ea typeface="Times New Roman"/>
              </a:rPr>
              <a:t>x </a:t>
            </a:r>
            <a:r>
              <a:rPr b="0" lang="en-US" sz="2400" spc="-1" strike="noStrike">
                <a:solidFill>
                  <a:srgbClr val="000000"/>
                </a:solidFill>
                <a:latin typeface="Times New Roman"/>
                <a:ea typeface="Times New Roman"/>
              </a:rPr>
              <a:t>&lt;∞</a:t>
            </a:r>
            <a:r>
              <a:rPr b="1" lang="en-US" sz="2400" spc="-1" strike="noStrike">
                <a:solidFill>
                  <a:srgbClr val="666699"/>
                </a:solidFill>
                <a:latin typeface="Arial"/>
              </a:rPr>
              <a:t> </a:t>
            </a:r>
            <a:endParaRPr b="0" lang="en-US" sz="2400" spc="-1" strike="noStrike">
              <a:solidFill>
                <a:srgbClr val="000000"/>
              </a:solidFill>
              <a:latin typeface="Arial"/>
            </a:endParaRPr>
          </a:p>
        </p:txBody>
      </p:sp>
      <p:sp>
        <p:nvSpPr>
          <p:cNvPr id="178" name=""/>
          <p:cNvSpPr/>
          <p:nvPr/>
        </p:nvSpPr>
        <p:spPr>
          <a:xfrm>
            <a:off x="909000" y="2133720"/>
            <a:ext cx="207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1.</a:t>
            </a:r>
            <a:r>
              <a:rPr b="0" lang="zh-CN" sz="3200" spc="-1" strike="noStrike">
                <a:solidFill>
                  <a:srgbClr val="000000"/>
                </a:solidFill>
                <a:latin typeface="Arial"/>
                <a:ea typeface="华文新魏"/>
              </a:rPr>
              <a:t>正态曲线概念</a:t>
            </a:r>
            <a:endParaRPr b="0" lang="en-US" sz="3200" spc="-1" strike="noStrike">
              <a:solidFill>
                <a:srgbClr val="000000"/>
              </a:solidFill>
              <a:latin typeface="Arial"/>
            </a:endParaRPr>
          </a:p>
        </p:txBody>
      </p:sp>
      <p:sp>
        <p:nvSpPr>
          <p:cNvPr id="179" name=""/>
          <p:cNvSpPr/>
          <p:nvPr/>
        </p:nvSpPr>
        <p:spPr>
          <a:xfrm>
            <a:off x="966600" y="2924280"/>
            <a:ext cx="203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a:t>
            </a:r>
            <a:r>
              <a:rPr b="0" lang="zh-CN" sz="2800" spc="-1" strike="noStrike">
                <a:solidFill>
                  <a:srgbClr val="000000"/>
                </a:solidFill>
                <a:latin typeface="Arial"/>
                <a:ea typeface="华文新魏"/>
              </a:rPr>
              <a:t>其概率密度为：</a:t>
            </a:r>
            <a:endParaRPr b="0" lang="en-US" sz="2800" spc="-1" strike="noStrike">
              <a:solidFill>
                <a:srgbClr val="000000"/>
              </a:solidFill>
              <a:latin typeface="Arial"/>
            </a:endParaRPr>
          </a:p>
        </p:txBody>
      </p:sp>
      <p:pic>
        <p:nvPicPr>
          <p:cNvPr id="180" name="" descr=""/>
          <p:cNvPicPr/>
          <p:nvPr/>
        </p:nvPicPr>
        <p:blipFill>
          <a:blip r:embed="rId1"/>
          <a:stretch/>
        </p:blipFill>
        <p:spPr>
          <a:xfrm>
            <a:off x="7093080" y="5300640"/>
            <a:ext cx="1827000" cy="11113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8"/>
                                        </p:tgtEl>
                                        <p:attrNameLst>
                                          <p:attrName>style.visibility</p:attrName>
                                        </p:attrNameLst>
                                      </p:cBhvr>
                                      <p:to>
                                        <p:strVal val="visible"/>
                                      </p:to>
                                    </p:set>
                                    <p:anim calcmode="lin" valueType="num">
                                      <p:cBhvr additive="base">
                                        <p:cTn id="187" dur="500" fill="hold"/>
                                        <p:tgtEl>
                                          <p:spTgt spid="178"/>
                                        </p:tgtEl>
                                        <p:attrNameLst>
                                          <p:attrName>ppt_x</p:attrName>
                                        </p:attrNameLst>
                                      </p:cBhvr>
                                      <p:tavLst>
                                        <p:tav tm="0">
                                          <p:val>
                                            <p:strVal val="#ppt_x"/>
                                          </p:val>
                                        </p:tav>
                                        <p:tav tm="100000">
                                          <p:val>
                                            <p:strVal val="#ppt_x"/>
                                          </p:val>
                                        </p:tav>
                                      </p:tavLst>
                                    </p:anim>
                                    <p:anim calcmode="lin" valueType="num">
                                      <p:cBhvr additive="base">
                                        <p:cTn id="18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0" end="0"/>
                                            </p:txEl>
                                          </p:spTgt>
                                        </p:tgtEl>
                                        <p:attrNameLst>
                                          <p:attrName>style.visibility</p:attrName>
                                        </p:attrNameLst>
                                      </p:cBhvr>
                                      <p:to>
                                        <p:strVal val="visible"/>
                                      </p:to>
                                    </p:set>
                                    <p:anim calcmode="lin" valueType="num">
                                      <p:cBhvr additive="base">
                                        <p:cTn id="19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9"/>
                                        </p:tgtEl>
                                        <p:attrNameLst>
                                          <p:attrName>style.visibility</p:attrName>
                                        </p:attrNameLst>
                                      </p:cBhvr>
                                      <p:to>
                                        <p:strVal val="visible"/>
                                      </p:to>
                                    </p:set>
                                    <p:anim calcmode="lin" valueType="num">
                                      <p:cBhvr additive="base">
                                        <p:cTn id="199" dur="500" fill="hold"/>
                                        <p:tgtEl>
                                          <p:spTgt spid="179"/>
                                        </p:tgtEl>
                                        <p:attrNameLst>
                                          <p:attrName>ppt_x</p:attrName>
                                        </p:attrNameLst>
                                      </p:cBhvr>
                                      <p:tavLst>
                                        <p:tav tm="0">
                                          <p:val>
                                            <p:strVal val="#ppt_x"/>
                                          </p:val>
                                        </p:tav>
                                        <p:tav tm="100000">
                                          <p:val>
                                            <p:strVal val="#ppt_x"/>
                                          </p:val>
                                        </p:tav>
                                      </p:tavLst>
                                    </p:anim>
                                    <p:anim calcmode="lin" valueType="num">
                                      <p:cBhvr additive="base">
                                        <p:cTn id="20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5"/>
                                        </p:tgtEl>
                                        <p:attrNameLst>
                                          <p:attrName>style.visibility</p:attrName>
                                        </p:attrNameLst>
                                      </p:cBhvr>
                                      <p:to>
                                        <p:strVal val="visible"/>
                                      </p:to>
                                    </p:set>
                                    <p:anim calcmode="lin" valueType="num">
                                      <p:cBhvr additive="base">
                                        <p:cTn id="205" dur="500" fill="hold"/>
                                        <p:tgtEl>
                                          <p:spTgt spid="175"/>
                                        </p:tgtEl>
                                        <p:attrNameLst>
                                          <p:attrName>ppt_x</p:attrName>
                                        </p:attrNameLst>
                                      </p:cBhvr>
                                      <p:tavLst>
                                        <p:tav tm="0">
                                          <p:val>
                                            <p:strVal val="#ppt_x"/>
                                          </p:val>
                                        </p:tav>
                                        <p:tav tm="100000">
                                          <p:val>
                                            <p:strVal val="#ppt_x"/>
                                          </p:val>
                                        </p:tav>
                                      </p:tavLst>
                                    </p:anim>
                                    <p:anim calcmode="lin" valueType="num">
                                      <p:cBhvr additive="base">
                                        <p:cTn id="20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7"/>
                                        </p:tgtEl>
                                        <p:attrNameLst>
                                          <p:attrName>style.visibility</p:attrName>
                                        </p:attrNameLst>
                                      </p:cBhvr>
                                      <p:to>
                                        <p:strVal val="visible"/>
                                      </p:to>
                                    </p:set>
                                    <p:anim calcmode="lin" valueType="num">
                                      <p:cBhvr additive="base">
                                        <p:cTn id="211" dur="500" fill="hold"/>
                                        <p:tgtEl>
                                          <p:spTgt spid="177"/>
                                        </p:tgtEl>
                                        <p:attrNameLst>
                                          <p:attrName>ppt_x</p:attrName>
                                        </p:attrNameLst>
                                      </p:cBhvr>
                                      <p:tavLst>
                                        <p:tav tm="0">
                                          <p:val>
                                            <p:strVal val="#ppt_x"/>
                                          </p:val>
                                        </p:tav>
                                        <p:tav tm="100000">
                                          <p:val>
                                            <p:strVal val="#ppt_x"/>
                                          </p:val>
                                        </p:tav>
                                      </p:tavLst>
                                    </p:anim>
                                    <p:anim calcmode="lin" valueType="num">
                                      <p:cBhvr additive="base">
                                        <p:cTn id="21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6">
                                            <p:txEl>
                                              <p:pRg st="0" end="0"/>
                                            </p:txEl>
                                          </p:spTgt>
                                        </p:tgtEl>
                                        <p:attrNameLst>
                                          <p:attrName>style.visibility</p:attrName>
                                        </p:attrNameLst>
                                      </p:cBhvr>
                                      <p:to>
                                        <p:strVal val="visible"/>
                                      </p:to>
                                    </p:set>
                                    <p:anim calcmode="lin" valueType="num">
                                      <p:cBhvr additive="base">
                                        <p:cTn id="217"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6">
                                            <p:txEl>
                                              <p:pRg st="1" end="1"/>
                                            </p:txEl>
                                          </p:spTgt>
                                        </p:tgtEl>
                                        <p:attrNameLst>
                                          <p:attrName>style.visibility</p:attrName>
                                        </p:attrNameLst>
                                      </p:cBhvr>
                                      <p:to>
                                        <p:strVal val="visible"/>
                                      </p:to>
                                    </p:set>
                                    <p:anim calcmode="lin" valueType="num">
                                      <p:cBhvr additive="base">
                                        <p:cTn id="22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6">
                                            <p:txEl>
                                              <p:pRg st="2" end="2"/>
                                            </p:txEl>
                                          </p:spTgt>
                                        </p:tgtEl>
                                        <p:attrNameLst>
                                          <p:attrName>style.visibility</p:attrName>
                                        </p:attrNameLst>
                                      </p:cBhvr>
                                      <p:to>
                                        <p:strVal val="visible"/>
                                      </p:to>
                                    </p:set>
                                    <p:anim calcmode="lin" valueType="num">
                                      <p:cBhvr additive="base">
                                        <p:cTn id="229"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182" name=""/>
          <p:cNvGrpSpPr/>
          <p:nvPr/>
        </p:nvGrpSpPr>
        <p:grpSpPr>
          <a:xfrm>
            <a:off x="971640" y="3645000"/>
            <a:ext cx="3456000" cy="2270880"/>
            <a:chOff x="971640" y="3645000"/>
            <a:chExt cx="3456000" cy="2270880"/>
          </a:xfrm>
        </p:grpSpPr>
        <p:sp>
          <p:nvSpPr>
            <p:cNvPr id="183" name=""/>
            <p:cNvSpPr/>
            <p:nvPr/>
          </p:nvSpPr>
          <p:spPr>
            <a:xfrm>
              <a:off x="971640" y="5521320"/>
              <a:ext cx="3267000" cy="394560"/>
            </a:xfrm>
            <a:prstGeom prst="rect">
              <a:avLst/>
            </a:prstGeom>
            <a:solidFill>
              <a:srgbClr val="9999ff"/>
            </a:solidFill>
            <a:ln w="9360">
              <a:solidFill>
                <a:srgbClr val="9999ff"/>
              </a:solidFill>
              <a:miter/>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相同而</a:t>
              </a:r>
              <a:r>
                <a:rPr b="1" i="1" lang="zh-CN" sz="2000" spc="-1" strike="noStrike">
                  <a:solidFill>
                    <a:srgbClr val="000000"/>
                  </a:solidFill>
                  <a:latin typeface="Times New Roman"/>
                </a:rPr>
                <a:t>μ</a:t>
              </a:r>
              <a:r>
                <a:rPr b="1" lang="zh-CN" sz="2000" spc="-1" strike="noStrike">
                  <a:solidFill>
                    <a:srgbClr val="000000"/>
                  </a:solidFill>
                  <a:latin typeface="Times New Roman"/>
                </a:rPr>
                <a:t>不同的正态曲线</a:t>
              </a:r>
              <a:endParaRPr b="0" lang="en-US" sz="2000" spc="-1" strike="noStrike">
                <a:solidFill>
                  <a:srgbClr val="000000"/>
                </a:solidFill>
                <a:latin typeface="Arial"/>
              </a:endParaRPr>
            </a:p>
          </p:txBody>
        </p:sp>
        <p:sp>
          <p:nvSpPr>
            <p:cNvPr id="184" name=""/>
            <p:cNvSpPr/>
            <p:nvPr/>
          </p:nvSpPr>
          <p:spPr>
            <a:xfrm>
              <a:off x="1173240" y="3645000"/>
              <a:ext cx="2967120" cy="1490400"/>
            </a:xfrm>
            <a:custGeom>
              <a:avLst/>
              <a:gdLst/>
              <a:ahLst/>
              <a:rect l="l" t="t" r="r" b="b"/>
              <a:pathLst>
                <a:path w="2001" h="593">
                  <a:moveTo>
                    <a:pt x="0" y="0"/>
                  </a:moveTo>
                  <a:lnTo>
                    <a:pt x="0" y="592"/>
                  </a:lnTo>
                  <a:lnTo>
                    <a:pt x="2000" y="592"/>
                  </a:lnTo>
                </a:path>
              </a:pathLst>
            </a:custGeom>
            <a:noFill/>
            <a:ln cap="rnd"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908000" y="5037120"/>
              <a:ext cx="2519640" cy="504360"/>
            </a:xfrm>
            <a:prstGeom prst="rect">
              <a:avLst/>
            </a:prstGeom>
            <a:noFill/>
            <a:ln w="0">
              <a:noFill/>
            </a:ln>
          </p:spPr>
          <p:style>
            <a:lnRef idx="0"/>
            <a:fillRef idx="0"/>
            <a:effectRef idx="0"/>
            <a:fontRef idx="minor"/>
          </p:style>
          <p:txBody>
            <a:bodyPr lIns="78480" rIns="78480" tIns="38520" bIns="385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666699"/>
                  </a:solidFill>
                  <a:latin typeface="Arial"/>
                </a:rPr>
                <a:t>   </a:t>
              </a:r>
              <a:r>
                <a:rPr b="1" i="1" lang="zh-CN" sz="2400" spc="-1" strike="noStrike">
                  <a:solidFill>
                    <a:srgbClr val="666699"/>
                  </a:solidFill>
                  <a:latin typeface="Symbol"/>
                  <a:ea typeface="Symbol"/>
                </a:rPr>
                <a:t></a:t>
              </a:r>
              <a:r>
                <a:rPr b="1" lang="zh-CN" sz="2400" spc="-1" strike="noStrike" baseline="-25000">
                  <a:solidFill>
                    <a:srgbClr val="666699"/>
                  </a:solidFill>
                  <a:latin typeface="Symbol"/>
                  <a:ea typeface="Symbol"/>
                </a:rPr>
                <a:t></a:t>
              </a:r>
              <a:r>
                <a:rPr b="1" i="1" lang="zh-CN" sz="2400" spc="-1" strike="noStrike">
                  <a:solidFill>
                    <a:srgbClr val="666699"/>
                  </a:solidFill>
                  <a:latin typeface="Symbol"/>
                  <a:ea typeface="Symbol"/>
                </a:rPr>
                <a:t></a:t>
              </a:r>
              <a:r>
                <a:rPr b="1" i="1" lang="zh-CN" sz="2400" spc="-1" strike="noStrike" baseline="-25000">
                  <a:solidFill>
                    <a:srgbClr val="666699"/>
                  </a:solidFill>
                  <a:latin typeface="Arial"/>
                </a:rPr>
                <a:t>2</a:t>
              </a:r>
              <a:r>
                <a:rPr b="1" lang="zh-CN" sz="2400" spc="-1" strike="noStrike" baseline="-25000">
                  <a:solidFill>
                    <a:srgbClr val="666699"/>
                  </a:solidFill>
                  <a:latin typeface="Symbol"/>
                  <a:ea typeface="Symbol"/>
                </a:rPr>
                <a:t></a:t>
              </a:r>
              <a:r>
                <a:rPr b="1" lang="zh-CN" sz="2400" spc="-1" strike="noStrike">
                  <a:solidFill>
                    <a:srgbClr val="666699"/>
                  </a:solidFill>
                  <a:latin typeface="Symbol"/>
                  <a:ea typeface="Symbol"/>
                </a:rPr>
                <a:t></a:t>
              </a:r>
              <a:r>
                <a:rPr b="1" i="1" lang="zh-CN" sz="2400" spc="-1" strike="noStrike">
                  <a:solidFill>
                    <a:srgbClr val="666699"/>
                  </a:solidFill>
                  <a:latin typeface="Symbol"/>
                  <a:ea typeface="Symbol"/>
                </a:rPr>
                <a:t></a:t>
              </a:r>
              <a:r>
                <a:rPr b="1" i="1" lang="zh-CN" sz="2400" spc="-1" strike="noStrike">
                  <a:solidFill>
                    <a:srgbClr val="666699"/>
                  </a:solidFill>
                  <a:latin typeface="Times New Roman"/>
                </a:rPr>
                <a:t>x</a:t>
              </a:r>
              <a:endParaRPr b="0" lang="en-US" sz="2400" spc="-1" strike="noStrike">
                <a:solidFill>
                  <a:srgbClr val="000000"/>
                </a:solidFill>
                <a:latin typeface="Arial"/>
              </a:endParaRPr>
            </a:p>
          </p:txBody>
        </p:sp>
        <p:grpSp>
          <p:nvGrpSpPr>
            <p:cNvPr id="186" name=""/>
            <p:cNvGrpSpPr/>
            <p:nvPr/>
          </p:nvGrpSpPr>
          <p:grpSpPr>
            <a:xfrm>
              <a:off x="1332000" y="4152600"/>
              <a:ext cx="2244240" cy="814320"/>
              <a:chOff x="1332000" y="4152600"/>
              <a:chExt cx="2244240" cy="814320"/>
            </a:xfrm>
          </p:grpSpPr>
          <p:sp>
            <p:nvSpPr>
              <p:cNvPr id="187" name=""/>
              <p:cNvSpPr/>
              <p:nvPr/>
            </p:nvSpPr>
            <p:spPr>
              <a:xfrm>
                <a:off x="2453040" y="4152600"/>
                <a:ext cx="1123200" cy="81432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32000" y="4152600"/>
                <a:ext cx="1123200" cy="81432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flipH="1">
              <a:off x="2423880" y="4186080"/>
              <a:ext cx="4680" cy="937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1811520" y="4186080"/>
              <a:ext cx="2244240" cy="813960"/>
              <a:chOff x="1811520" y="4186080"/>
              <a:chExt cx="2244240" cy="813960"/>
            </a:xfrm>
          </p:grpSpPr>
          <p:sp>
            <p:nvSpPr>
              <p:cNvPr id="191" name=""/>
              <p:cNvSpPr/>
              <p:nvPr/>
            </p:nvSpPr>
            <p:spPr>
              <a:xfrm>
                <a:off x="2932560" y="4186080"/>
                <a:ext cx="1123200" cy="81396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811520" y="4186080"/>
                <a:ext cx="1123200" cy="81396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2940120" y="4197240"/>
              <a:ext cx="47520" cy="964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258920" y="3645000"/>
              <a:ext cx="450720" cy="40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x)</a:t>
              </a:r>
              <a:endParaRPr b="0" lang="en-US" sz="2000" spc="-1" strike="noStrike">
                <a:solidFill>
                  <a:srgbClr val="000000"/>
                </a:solidFill>
                <a:latin typeface="Arial"/>
              </a:endParaRPr>
            </a:p>
          </p:txBody>
        </p:sp>
      </p:grpSp>
      <p:grpSp>
        <p:nvGrpSpPr>
          <p:cNvPr id="195" name=""/>
          <p:cNvGrpSpPr/>
          <p:nvPr/>
        </p:nvGrpSpPr>
        <p:grpSpPr>
          <a:xfrm>
            <a:off x="5292720" y="3645000"/>
            <a:ext cx="3327480" cy="2286720"/>
            <a:chOff x="5292720" y="3645000"/>
            <a:chExt cx="3327480" cy="2286720"/>
          </a:xfrm>
        </p:grpSpPr>
        <p:sp>
          <p:nvSpPr>
            <p:cNvPr id="196" name=""/>
            <p:cNvSpPr/>
            <p:nvPr/>
          </p:nvSpPr>
          <p:spPr>
            <a:xfrm>
              <a:off x="5319720" y="5537160"/>
              <a:ext cx="3300480" cy="394560"/>
            </a:xfrm>
            <a:prstGeom prst="rect">
              <a:avLst/>
            </a:prstGeom>
            <a:solidFill>
              <a:srgbClr val="9999ff"/>
            </a:solidFill>
            <a:ln w="9360">
              <a:solidFill>
                <a:srgbClr val="9999ff"/>
              </a:solidFill>
              <a:miter/>
            </a:ln>
          </p:spPr>
          <p:style>
            <a:lnRef idx="0"/>
            <a:fillRef idx="0"/>
            <a:effectRef idx="0"/>
            <a:fontRef idx="minor"/>
          </p:style>
          <p:txBody>
            <a:bodyPr lIns="89280" rIns="8928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μ</a:t>
              </a:r>
              <a:r>
                <a:rPr b="1" lang="zh-CN" sz="2000" spc="-1" strike="noStrike">
                  <a:solidFill>
                    <a:srgbClr val="000000"/>
                  </a:solidFill>
                  <a:latin typeface="Times New Roman"/>
                </a:rPr>
                <a:t>相同而</a:t>
              </a:r>
              <a:r>
                <a:rPr b="1" i="1" lang="zh-CN" sz="2000" spc="-1" strike="noStrike">
                  <a:solidFill>
                    <a:srgbClr val="000000"/>
                  </a:solidFill>
                  <a:latin typeface="Times New Roman"/>
                </a:rPr>
                <a:t>σ</a:t>
              </a:r>
              <a:r>
                <a:rPr b="1" lang="zh-CN" sz="2000" spc="-1" strike="noStrike">
                  <a:solidFill>
                    <a:srgbClr val="000000"/>
                  </a:solidFill>
                  <a:latin typeface="Times New Roman"/>
                </a:rPr>
                <a:t>不同的正态曲线</a:t>
              </a:r>
              <a:endParaRPr b="0" lang="en-US" sz="2000" spc="-1" strike="noStrike">
                <a:solidFill>
                  <a:srgbClr val="000000"/>
                </a:solidFill>
                <a:latin typeface="Arial"/>
              </a:endParaRPr>
            </a:p>
          </p:txBody>
        </p:sp>
        <p:sp>
          <p:nvSpPr>
            <p:cNvPr id="197" name=""/>
            <p:cNvSpPr/>
            <p:nvPr/>
          </p:nvSpPr>
          <p:spPr>
            <a:xfrm>
              <a:off x="5292720" y="3660480"/>
              <a:ext cx="2967120" cy="1488960"/>
            </a:xfrm>
            <a:custGeom>
              <a:avLst/>
              <a:gdLst/>
              <a:ahLst/>
              <a:rect l="l" t="t" r="r" b="b"/>
              <a:pathLst>
                <a:path w="2001" h="593">
                  <a:moveTo>
                    <a:pt x="0" y="0"/>
                  </a:moveTo>
                  <a:lnTo>
                    <a:pt x="0" y="592"/>
                  </a:lnTo>
                  <a:lnTo>
                    <a:pt x="2000" y="592"/>
                  </a:lnTo>
                </a:path>
              </a:pathLst>
            </a:custGeom>
            <a:noFill/>
            <a:ln cap="rnd"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5391000" y="4168440"/>
              <a:ext cx="2754000" cy="812520"/>
              <a:chOff x="5391000" y="4168440"/>
              <a:chExt cx="2754000" cy="812520"/>
            </a:xfrm>
          </p:grpSpPr>
          <p:sp>
            <p:nvSpPr>
              <p:cNvPr id="199" name=""/>
              <p:cNvSpPr/>
              <p:nvPr/>
            </p:nvSpPr>
            <p:spPr>
              <a:xfrm>
                <a:off x="6766920" y="4168440"/>
                <a:ext cx="1378080" cy="81252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391000" y="4168440"/>
                <a:ext cx="1378080" cy="81252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99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flipH="1">
              <a:off x="6759360" y="3881160"/>
              <a:ext cx="6480" cy="12790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5707080" y="3827160"/>
              <a:ext cx="2144160" cy="1218600"/>
              <a:chOff x="5707080" y="3827160"/>
              <a:chExt cx="2144160" cy="1218600"/>
            </a:xfrm>
          </p:grpSpPr>
          <p:sp>
            <p:nvSpPr>
              <p:cNvPr id="203" name=""/>
              <p:cNvSpPr/>
              <p:nvPr/>
            </p:nvSpPr>
            <p:spPr>
              <a:xfrm>
                <a:off x="6778440" y="3827160"/>
                <a:ext cx="1072800" cy="1218600"/>
              </a:xfrm>
              <a:custGeom>
                <a:avLst/>
                <a:gdLst/>
                <a:ahLst/>
                <a:rect l="l" t="t" r="r" b="b"/>
                <a:pathLst>
                  <a:path w="704" h="566">
                    <a:moveTo>
                      <a:pt x="703" y="565"/>
                    </a:moveTo>
                    <a:lnTo>
                      <a:pt x="629" y="558"/>
                    </a:lnTo>
                    <a:lnTo>
                      <a:pt x="592" y="552"/>
                    </a:lnTo>
                    <a:lnTo>
                      <a:pt x="555" y="542"/>
                    </a:lnTo>
                    <a:lnTo>
                      <a:pt x="518" y="529"/>
                    </a:lnTo>
                    <a:lnTo>
                      <a:pt x="481" y="512"/>
                    </a:lnTo>
                    <a:lnTo>
                      <a:pt x="444" y="489"/>
                    </a:lnTo>
                    <a:lnTo>
                      <a:pt x="370" y="423"/>
                    </a:lnTo>
                    <a:lnTo>
                      <a:pt x="296" y="331"/>
                    </a:lnTo>
                    <a:lnTo>
                      <a:pt x="222" y="221"/>
                    </a:lnTo>
                    <a:lnTo>
                      <a:pt x="186" y="164"/>
                    </a:lnTo>
                    <a:lnTo>
                      <a:pt x="148" y="112"/>
                    </a:lnTo>
                    <a:lnTo>
                      <a:pt x="112" y="67"/>
                    </a:lnTo>
                    <a:lnTo>
                      <a:pt x="74" y="31"/>
                    </a:lnTo>
                    <a:lnTo>
                      <a:pt x="37" y="9"/>
                    </a:lnTo>
                    <a:lnTo>
                      <a:pt x="0"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707080" y="3827160"/>
                <a:ext cx="1072800" cy="1218600"/>
              </a:xfrm>
              <a:custGeom>
                <a:avLst/>
                <a:gdLst/>
                <a:ahLst/>
                <a:rect l="l" t="t" r="r" b="b"/>
                <a:pathLst>
                  <a:path w="704" h="566">
                    <a:moveTo>
                      <a:pt x="0" y="565"/>
                    </a:moveTo>
                    <a:lnTo>
                      <a:pt x="74" y="558"/>
                    </a:lnTo>
                    <a:lnTo>
                      <a:pt x="111" y="552"/>
                    </a:lnTo>
                    <a:lnTo>
                      <a:pt x="148" y="542"/>
                    </a:lnTo>
                    <a:lnTo>
                      <a:pt x="184" y="529"/>
                    </a:lnTo>
                    <a:lnTo>
                      <a:pt x="222" y="512"/>
                    </a:lnTo>
                    <a:lnTo>
                      <a:pt x="258" y="489"/>
                    </a:lnTo>
                    <a:lnTo>
                      <a:pt x="334" y="423"/>
                    </a:lnTo>
                    <a:lnTo>
                      <a:pt x="407" y="331"/>
                    </a:lnTo>
                    <a:lnTo>
                      <a:pt x="481" y="221"/>
                    </a:lnTo>
                    <a:lnTo>
                      <a:pt x="518" y="164"/>
                    </a:lnTo>
                    <a:lnTo>
                      <a:pt x="555" y="112"/>
                    </a:lnTo>
                    <a:lnTo>
                      <a:pt x="592" y="67"/>
                    </a:lnTo>
                    <a:lnTo>
                      <a:pt x="629" y="31"/>
                    </a:lnTo>
                    <a:lnTo>
                      <a:pt x="666" y="9"/>
                    </a:lnTo>
                    <a:lnTo>
                      <a:pt x="703" y="0"/>
                    </a:ln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402160" y="3660480"/>
              <a:ext cx="407880" cy="40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x)</a:t>
              </a:r>
              <a:endParaRPr b="0" lang="en-US" sz="2000" spc="-1" strike="noStrike">
                <a:solidFill>
                  <a:srgbClr val="000000"/>
                </a:solidFill>
                <a:latin typeface="Arial"/>
              </a:endParaRPr>
            </a:p>
          </p:txBody>
        </p:sp>
        <p:sp>
          <p:nvSpPr>
            <p:cNvPr id="206" name=""/>
            <p:cNvSpPr/>
            <p:nvPr/>
          </p:nvSpPr>
          <p:spPr>
            <a:xfrm>
              <a:off x="7335720" y="3645000"/>
              <a:ext cx="930240" cy="375840"/>
            </a:xfrm>
            <a:prstGeom prst="wedgeRectCallout">
              <a:avLst>
                <a:gd name="adj1" fmla="val -91120"/>
                <a:gd name="adj2" fmla="val 43490"/>
              </a:avLst>
            </a:prstGeom>
            <a:solidFill>
              <a:srgbClr val="9999ff"/>
            </a:solidFill>
            <a:ln w="6480">
              <a:solidFill>
                <a:srgbClr val="ff3300"/>
              </a:solidFill>
              <a:miter/>
            </a:ln>
          </p:spPr>
          <p:style>
            <a:lnRef idx="0"/>
            <a:fillRef idx="0"/>
            <a:effectRef idx="0"/>
            <a:fontRef idx="minor"/>
          </p:style>
          <p:txBody>
            <a:bodyPr lIns="35280" rIns="35280" tIns="35280" bIns="35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较小</a:t>
              </a:r>
              <a:endParaRPr b="0" lang="en-US" sz="2000" spc="-1" strike="noStrike">
                <a:solidFill>
                  <a:srgbClr val="000000"/>
                </a:solidFill>
                <a:latin typeface="Arial"/>
              </a:endParaRPr>
            </a:p>
          </p:txBody>
        </p:sp>
        <p:sp>
          <p:nvSpPr>
            <p:cNvPr id="207" name=""/>
            <p:cNvSpPr/>
            <p:nvPr/>
          </p:nvSpPr>
          <p:spPr>
            <a:xfrm>
              <a:off x="7696080" y="4241520"/>
              <a:ext cx="863640" cy="375840"/>
            </a:xfrm>
            <a:prstGeom prst="wedgeRectCallout">
              <a:avLst>
                <a:gd name="adj1" fmla="val -68000"/>
                <a:gd name="adj2" fmla="val 89328"/>
              </a:avLst>
            </a:prstGeom>
            <a:solidFill>
              <a:srgbClr val="9999ff"/>
            </a:solidFill>
            <a:ln w="6480">
              <a:solidFill>
                <a:srgbClr val="9999ff"/>
              </a:solidFill>
              <a:miter/>
            </a:ln>
          </p:spPr>
          <p:style>
            <a:lnRef idx="0"/>
            <a:fillRef idx="0"/>
            <a:effectRef idx="0"/>
            <a:fontRef idx="minor"/>
          </p:style>
          <p:txBody>
            <a:bodyPr lIns="35280" rIns="35280" tIns="35280" bIns="35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σ</a:t>
              </a:r>
              <a:r>
                <a:rPr b="1" lang="zh-CN" sz="2000" spc="-1" strike="noStrike">
                  <a:solidFill>
                    <a:srgbClr val="000000"/>
                  </a:solidFill>
                  <a:latin typeface="Times New Roman"/>
                </a:rPr>
                <a:t>较大</a:t>
              </a:r>
              <a:endParaRPr b="0" lang="en-US" sz="2000" spc="-1" strike="noStrike">
                <a:solidFill>
                  <a:srgbClr val="000000"/>
                </a:solidFill>
                <a:latin typeface="Arial"/>
              </a:endParaRPr>
            </a:p>
          </p:txBody>
        </p:sp>
        <p:sp>
          <p:nvSpPr>
            <p:cNvPr id="208" name=""/>
            <p:cNvSpPr/>
            <p:nvPr/>
          </p:nvSpPr>
          <p:spPr>
            <a:xfrm>
              <a:off x="6543720" y="5033880"/>
              <a:ext cx="1871640" cy="369360"/>
            </a:xfrm>
            <a:prstGeom prst="rect">
              <a:avLst/>
            </a:prstGeom>
            <a:noFill/>
            <a:ln w="0">
              <a:noFill/>
            </a:ln>
          </p:spPr>
          <p:style>
            <a:lnRef idx="0"/>
            <a:fillRef idx="0"/>
            <a:effectRef idx="0"/>
            <a:fontRef idx="minor"/>
          </p:style>
          <p:txBody>
            <a:bodyPr lIns="78480" rIns="78480" tIns="38520" bIns="385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6699"/>
                  </a:solidFill>
                  <a:latin typeface="Symbol"/>
                  <a:ea typeface="Symbol"/>
                </a:rPr>
                <a:t></a:t>
              </a:r>
              <a:r>
                <a:rPr b="1" lang="zh-CN" sz="2400" spc="-1" strike="noStrike" baseline="-25000">
                  <a:solidFill>
                    <a:srgbClr val="666699"/>
                  </a:solidFill>
                  <a:latin typeface="Symbol"/>
                  <a:ea typeface="Symbol"/>
                </a:rPr>
                <a:t></a:t>
              </a:r>
              <a:r>
                <a:rPr b="1" lang="zh-CN" sz="2400" spc="-1" strike="noStrike">
                  <a:solidFill>
                    <a:srgbClr val="666699"/>
                  </a:solidFill>
                  <a:latin typeface="Symbol"/>
                  <a:ea typeface="Symbol"/>
                </a:rPr>
                <a:t></a:t>
              </a:r>
              <a:r>
                <a:rPr b="1" i="1" lang="zh-CN" sz="2400" spc="-1" strike="noStrike">
                  <a:solidFill>
                    <a:srgbClr val="666699"/>
                  </a:solidFill>
                  <a:latin typeface="Times New Roman"/>
                </a:rPr>
                <a:t>x</a:t>
              </a:r>
              <a:endParaRPr b="0" lang="en-US" sz="2400" spc="-1" strike="noStrike">
                <a:solidFill>
                  <a:srgbClr val="000000"/>
                </a:solidFill>
                <a:latin typeface="Arial"/>
              </a:endParaRPr>
            </a:p>
          </p:txBody>
        </p:sp>
      </p:grpSp>
      <p:sp>
        <p:nvSpPr>
          <p:cNvPr id="209" name=""/>
          <p:cNvSpPr/>
          <p:nvPr/>
        </p:nvSpPr>
        <p:spPr>
          <a:xfrm>
            <a:off x="179280" y="692280"/>
            <a:ext cx="882036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黑体"/>
                <a:ea typeface="黑体"/>
              </a:rPr>
              <a:t>2.</a:t>
            </a:r>
            <a:r>
              <a:rPr b="1" lang="zh-CN" sz="3200" spc="-1" strike="noStrike">
                <a:solidFill>
                  <a:srgbClr val="00007d"/>
                </a:solidFill>
                <a:latin typeface="黑体"/>
                <a:ea typeface="黑体"/>
              </a:rPr>
              <a:t>正态曲线的主要特性</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关于</a:t>
            </a:r>
            <a:r>
              <a:rPr b="0" i="1" lang="zh-CN" sz="2800" spc="-1" strike="noStrike">
                <a:solidFill>
                  <a:srgbClr val="000000"/>
                </a:solidFill>
                <a:latin typeface="华文新魏"/>
                <a:ea typeface="华文新魏"/>
              </a:rPr>
              <a:t>x </a:t>
            </a:r>
            <a:r>
              <a:rPr b="0" lang="zh-CN" sz="2800" spc="-1" strike="noStrike">
                <a:solidFill>
                  <a:srgbClr val="000000"/>
                </a:solidFill>
                <a:latin typeface="华文新魏"/>
                <a:ea typeface="华文新魏"/>
              </a:rPr>
              <a:t>= </a:t>
            </a:r>
            <a:r>
              <a:rPr b="0" i="1" lang="zh-CN" sz="2800" spc="-1" strike="noStrike">
                <a:solidFill>
                  <a:srgbClr val="000000"/>
                </a:solidFill>
                <a:latin typeface="华文新魏"/>
                <a:ea typeface="华文新魏"/>
              </a:rPr>
              <a:t>μ</a:t>
            </a:r>
            <a:r>
              <a:rPr b="0" lang="zh-CN" sz="2800" spc="-1" strike="noStrike">
                <a:solidFill>
                  <a:srgbClr val="000000"/>
                </a:solidFill>
                <a:latin typeface="华文新魏"/>
                <a:ea typeface="华文新魏"/>
              </a:rPr>
              <a:t>对称的钟形曲线</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参数</a:t>
            </a:r>
            <a:r>
              <a:rPr b="0" i="1" lang="zh-CN" sz="2800" spc="-1" strike="noStrike">
                <a:solidFill>
                  <a:srgbClr val="000000"/>
                </a:solidFill>
                <a:latin typeface="华文新魏"/>
                <a:ea typeface="华文新魏"/>
              </a:rPr>
              <a:t>μ</a:t>
            </a:r>
            <a:r>
              <a:rPr b="0" lang="zh-CN" sz="2800" spc="-1" strike="noStrike">
                <a:solidFill>
                  <a:srgbClr val="000000"/>
                </a:solidFill>
                <a:latin typeface="华文新魏"/>
                <a:ea typeface="华文新魏"/>
              </a:rPr>
              <a:t>决定正态曲线的中心位置</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参数</a:t>
            </a:r>
            <a:r>
              <a:rPr b="0" i="1" lang="zh-CN" sz="2800" spc="-1" strike="noStrike">
                <a:solidFill>
                  <a:srgbClr val="000000"/>
                </a:solidFill>
                <a:latin typeface="华文新魏"/>
                <a:ea typeface="华文新魏"/>
              </a:rPr>
              <a:t>σ </a:t>
            </a:r>
            <a:r>
              <a:rPr b="0" lang="zh-CN" sz="2800" spc="-1" strike="noStrike">
                <a:solidFill>
                  <a:srgbClr val="000000"/>
                </a:solidFill>
                <a:latin typeface="华文新魏"/>
                <a:ea typeface="华文新魏"/>
              </a:rPr>
              <a:t>决定正态曲线的陡峭或扁平程度</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a:t>
            </a:r>
            <a:r>
              <a:rPr b="0" i="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轴为渐近线，即当</a:t>
            </a:r>
            <a:r>
              <a:rPr b="0" i="1"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 ± ∞ </a:t>
            </a:r>
            <a:r>
              <a:rPr b="0" lang="zh-CN" sz="2800" spc="-1" strike="noStrike">
                <a:solidFill>
                  <a:srgbClr val="000000"/>
                </a:solidFill>
                <a:latin typeface="华文新魏"/>
                <a:ea typeface="华文新魏"/>
              </a:rPr>
              <a:t>时，</a:t>
            </a:r>
            <a:r>
              <a:rPr b="0" i="1" lang="zh-CN" sz="2800" spc="-1" strike="noStrike">
                <a:solidFill>
                  <a:srgbClr val="000000"/>
                </a:solidFill>
                <a:latin typeface="华文新魏"/>
                <a:ea typeface="华文新魏"/>
              </a:rPr>
              <a:t>f(x) </a:t>
            </a:r>
            <a:r>
              <a:rPr b="0" lang="zh-CN" sz="2800" spc="-1" strike="noStrike">
                <a:solidFill>
                  <a:srgbClr val="000000"/>
                </a:solidFill>
                <a:latin typeface="华文新魏"/>
                <a:ea typeface="华文新魏"/>
              </a:rPr>
              <a: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09">
                                            <p:txEl>
                                              <p:pRg st="1" end="1"/>
                                            </p:txEl>
                                          </p:spTgt>
                                        </p:tgtEl>
                                        <p:attrNameLst>
                                          <p:attrName>style.visibility</p:attrName>
                                        </p:attrNameLst>
                                      </p:cBhvr>
                                      <p:to>
                                        <p:strVal val="visible"/>
                                      </p:to>
                                    </p:set>
                                    <p:anim calcmode="lin" valueType="num">
                                      <p:cBhvr additive="base">
                                        <p:cTn id="237"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09">
                                            <p:txEl>
                                              <p:pRg st="2" end="2"/>
                                            </p:txEl>
                                          </p:spTgt>
                                        </p:tgtEl>
                                        <p:attrNameLst>
                                          <p:attrName>style.visibility</p:attrName>
                                        </p:attrNameLst>
                                      </p:cBhvr>
                                      <p:to>
                                        <p:strVal val="visible"/>
                                      </p:to>
                                    </p:set>
                                    <p:anim calcmode="lin" valueType="num">
                                      <p:cBhvr additive="base">
                                        <p:cTn id="243"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82"/>
                                        </p:tgtEl>
                                        <p:attrNameLst>
                                          <p:attrName>style.visibility</p:attrName>
                                        </p:attrNameLst>
                                      </p:cBhvr>
                                      <p:to>
                                        <p:strVal val="visible"/>
                                      </p:to>
                                    </p:set>
                                    <p:anim calcmode="lin" valueType="num">
                                      <p:cBhvr additive="base">
                                        <p:cTn id="249" dur="500" fill="hold"/>
                                        <p:tgtEl>
                                          <p:spTgt spid="182"/>
                                        </p:tgtEl>
                                        <p:attrNameLst>
                                          <p:attrName>ppt_x</p:attrName>
                                        </p:attrNameLst>
                                      </p:cBhvr>
                                      <p:tavLst>
                                        <p:tav tm="0">
                                          <p:val>
                                            <p:strVal val="#ppt_x"/>
                                          </p:val>
                                        </p:tav>
                                        <p:tav tm="100000">
                                          <p:val>
                                            <p:strVal val="#ppt_x"/>
                                          </p:val>
                                        </p:tav>
                                      </p:tavLst>
                                    </p:anim>
                                    <p:anim calcmode="lin" valueType="num">
                                      <p:cBhvr additive="base">
                                        <p:cTn id="25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09">
                                            <p:txEl>
                                              <p:pRg st="3" end="3"/>
                                            </p:txEl>
                                          </p:spTgt>
                                        </p:tgtEl>
                                        <p:attrNameLst>
                                          <p:attrName>style.visibility</p:attrName>
                                        </p:attrNameLst>
                                      </p:cBhvr>
                                      <p:to>
                                        <p:strVal val="visible"/>
                                      </p:to>
                                    </p:set>
                                    <p:anim calcmode="lin" valueType="num">
                                      <p:cBhvr additive="base">
                                        <p:cTn id="25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95"/>
                                        </p:tgtEl>
                                        <p:attrNameLst>
                                          <p:attrName>style.visibility</p:attrName>
                                        </p:attrNameLst>
                                      </p:cBhvr>
                                      <p:to>
                                        <p:strVal val="visible"/>
                                      </p:to>
                                    </p:set>
                                    <p:anim calcmode="lin" valueType="num">
                                      <p:cBhvr additive="base">
                                        <p:cTn id="261" dur="500" fill="hold"/>
                                        <p:tgtEl>
                                          <p:spTgt spid="195"/>
                                        </p:tgtEl>
                                        <p:attrNameLst>
                                          <p:attrName>ppt_x</p:attrName>
                                        </p:attrNameLst>
                                      </p:cBhvr>
                                      <p:tavLst>
                                        <p:tav tm="0">
                                          <p:val>
                                            <p:strVal val="#ppt_x"/>
                                          </p:val>
                                        </p:tav>
                                        <p:tav tm="100000">
                                          <p:val>
                                            <p:strVal val="#ppt_x"/>
                                          </p:val>
                                        </p:tav>
                                      </p:tavLst>
                                    </p:anim>
                                    <p:anim calcmode="lin" valueType="num">
                                      <p:cBhvr additive="base">
                                        <p:cTn id="26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09">
                                            <p:txEl>
                                              <p:pRg st="4" end="4"/>
                                            </p:txEl>
                                          </p:spTgt>
                                        </p:tgtEl>
                                        <p:attrNameLst>
                                          <p:attrName>style.visibility</p:attrName>
                                        </p:attrNameLst>
                                      </p:cBhvr>
                                      <p:to>
                                        <p:strVal val="visible"/>
                                      </p:to>
                                    </p:set>
                                    <p:anim calcmode="lin" valueType="num">
                                      <p:cBhvr additive="base">
                                        <p:cTn id="267"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黑体"/>
                <a:ea typeface="黑体"/>
              </a:rPr>
              <a:t>3.</a:t>
            </a:r>
            <a:r>
              <a:rPr b="1" lang="zh-CN" sz="4400" spc="-1" strike="noStrike">
                <a:solidFill>
                  <a:srgbClr val="00007d"/>
                </a:solidFill>
                <a:latin typeface="黑体"/>
                <a:ea typeface="黑体"/>
              </a:rPr>
              <a:t>标准正态分布</a:t>
            </a:r>
            <a:endParaRPr b="0" lang="en-US" sz="4400" spc="-1" strike="noStrike">
              <a:solidFill>
                <a:srgbClr val="000000"/>
              </a:solidFill>
              <a:latin typeface="Arial"/>
            </a:endParaRPr>
          </a:p>
        </p:txBody>
      </p:sp>
      <p:sp>
        <p:nvSpPr>
          <p:cNvPr id="211" name="PlaceHolder 2"/>
          <p:cNvSpPr>
            <a:spLocks noGrp="1"/>
          </p:cNvSpPr>
          <p:nvPr>
            <p:ph/>
          </p:nvPr>
        </p:nvSpPr>
        <p:spPr>
          <a:xfrm>
            <a:off x="757080" y="2498400"/>
            <a:ext cx="7772400" cy="1266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μ</a:t>
            </a:r>
            <a:r>
              <a:rPr b="0" lang="zh-CN" sz="3200" spc="-1" strike="noStrike">
                <a:solidFill>
                  <a:srgbClr val="000000"/>
                </a:solidFill>
                <a:latin typeface="Arial"/>
              </a:rPr>
              <a:t>＝</a:t>
            </a:r>
            <a:r>
              <a:rPr b="0" lang="zh-CN" sz="3200" spc="-1" strike="noStrike">
                <a:solidFill>
                  <a:srgbClr val="000000"/>
                </a:solidFill>
                <a:latin typeface="Arial"/>
              </a:rPr>
              <a:t>0</a:t>
            </a:r>
            <a:r>
              <a:rPr b="0" lang="zh-CN" sz="3200" spc="-1" strike="noStrike">
                <a:solidFill>
                  <a:srgbClr val="000000"/>
                </a:solidFill>
                <a:latin typeface="Arial"/>
              </a:rPr>
              <a:t>、</a:t>
            </a:r>
            <a:r>
              <a:rPr b="0" i="1" lang="zh-CN" sz="3200" spc="-1" strike="noStrike">
                <a:solidFill>
                  <a:srgbClr val="000000"/>
                </a:solidFill>
                <a:latin typeface="Arial"/>
              </a:rPr>
              <a:t>σ</a:t>
            </a:r>
            <a:r>
              <a:rPr b="0" i="1"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的正态分布，记为</a:t>
            </a:r>
            <a:r>
              <a:rPr b="0" i="1" lang="zh-CN" sz="3200" spc="-1" strike="noStrike">
                <a:solidFill>
                  <a:srgbClr val="000000"/>
                </a:solidFill>
                <a:latin typeface="Arial"/>
              </a:rPr>
              <a:t>N</a:t>
            </a:r>
            <a:r>
              <a:rPr b="0" lang="zh-CN" sz="3200" spc="-1" strike="noStrike">
                <a:solidFill>
                  <a:srgbClr val="000000"/>
                </a:solidFill>
                <a:latin typeface="Arial"/>
              </a:rPr>
              <a:t> (0, 1)</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X</a:t>
            </a:r>
            <a:r>
              <a:rPr b="0" i="1" lang="zh-CN" sz="3200" spc="-1" strike="noStrike">
                <a:solidFill>
                  <a:srgbClr val="000000"/>
                </a:solidFill>
                <a:latin typeface="Arial"/>
              </a:rPr>
              <a:t>～</a:t>
            </a:r>
            <a:r>
              <a:rPr b="0" i="1" lang="zh-CN" sz="3200" spc="-1" strike="noStrike">
                <a:solidFill>
                  <a:srgbClr val="000000"/>
                </a:solidFill>
                <a:latin typeface="Arial"/>
              </a:rPr>
              <a:t>N (μ</a:t>
            </a:r>
            <a:r>
              <a:rPr b="0" i="1" lang="zh-CN" sz="3200" spc="-1" strike="noStrike">
                <a:solidFill>
                  <a:srgbClr val="000000"/>
                </a:solidFill>
                <a:latin typeface="Arial"/>
              </a:rPr>
              <a:t>、</a:t>
            </a:r>
            <a:r>
              <a:rPr b="0" i="1" lang="zh-CN" sz="3200" spc="-1" strike="noStrike">
                <a:solidFill>
                  <a:srgbClr val="000000"/>
                </a:solidFill>
                <a:latin typeface="Arial"/>
              </a:rPr>
              <a:t>σ</a:t>
            </a:r>
            <a:r>
              <a:rPr b="0" i="1" lang="zh-CN" sz="3200" spc="-1" strike="noStrike" baseline="30000">
                <a:solidFill>
                  <a:srgbClr val="000000"/>
                </a:solidFill>
                <a:latin typeface="Arial"/>
              </a:rPr>
              <a:t> 2 </a:t>
            </a:r>
            <a:r>
              <a:rPr b="0" i="1" lang="zh-CN" sz="3200" spc="-1" strike="noStrike">
                <a:solidFill>
                  <a:srgbClr val="000000"/>
                </a:solidFill>
                <a:latin typeface="Arial"/>
              </a:rPr>
              <a:t>),  </a:t>
            </a:r>
            <a:endParaRPr b="0" lang="en-US" sz="3200" spc="-1" strike="noStrike">
              <a:solidFill>
                <a:srgbClr val="000000"/>
              </a:solidFill>
              <a:latin typeface="Arial"/>
            </a:endParaRPr>
          </a:p>
        </p:txBody>
      </p:sp>
      <p:sp>
        <p:nvSpPr>
          <p:cNvPr id="212" name=""/>
          <p:cNvSpPr/>
          <p:nvPr/>
        </p:nvSpPr>
        <p:spPr>
          <a:xfrm>
            <a:off x="3203640" y="4076640"/>
            <a:ext cx="936720" cy="289080"/>
          </a:xfrm>
          <a:prstGeom prst="rightArrow">
            <a:avLst>
              <a:gd name="adj1" fmla="val 50000"/>
              <a:gd name="adj2" fmla="val 81009"/>
            </a:avLst>
          </a:prstGeom>
          <a:solidFill>
            <a:srgbClr val="66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4643280" y="3789360"/>
                <a:ext cx="1752840" cy="812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14" name=""/>
          <p:cNvSpPr/>
          <p:nvPr/>
        </p:nvSpPr>
        <p:spPr>
          <a:xfrm>
            <a:off x="0" y="332892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15" name=""/>
          <p:cNvSpPr/>
          <p:nvPr/>
        </p:nvSpPr>
        <p:spPr>
          <a:xfrm>
            <a:off x="1116000" y="3933720"/>
            <a:ext cx="15843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Arial"/>
              </a:rPr>
              <a:t>标准化</a:t>
            </a:r>
            <a:endParaRPr b="0" lang="en-US" sz="2800" spc="-1" strike="noStrike">
              <a:solidFill>
                <a:srgbClr val="000000"/>
              </a:solidFill>
              <a:latin typeface="Arial"/>
            </a:endParaRPr>
          </a:p>
        </p:txBody>
      </p:sp>
      <p:sp>
        <p:nvSpPr>
          <p:cNvPr id="216" name=""/>
          <p:cNvSpPr/>
          <p:nvPr/>
        </p:nvSpPr>
        <p:spPr>
          <a:xfrm>
            <a:off x="640800" y="513252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华文新魏"/>
              </a:rPr>
              <a:t>则</a:t>
            </a:r>
            <a:r>
              <a:rPr b="0" lang="zh-CN" sz="3200" spc="-1" strike="noStrike">
                <a:solidFill>
                  <a:srgbClr val="000000"/>
                </a:solidFill>
                <a:latin typeface="Arial"/>
                <a:ea typeface="华文新魏"/>
              </a:rPr>
              <a:t> ：    </a:t>
            </a:r>
            <a:r>
              <a:rPr b="0" i="1" lang="zh-CN" sz="3200" spc="-1" strike="noStrike">
                <a:solidFill>
                  <a:srgbClr val="000000"/>
                </a:solidFill>
                <a:latin typeface="Arial"/>
                <a:ea typeface="华文新魏"/>
              </a:rPr>
              <a:t>Z</a:t>
            </a:r>
            <a:r>
              <a:rPr b="0" lang="zh-CN" sz="3200" spc="-1" strike="noStrike">
                <a:solidFill>
                  <a:srgbClr val="000000"/>
                </a:solidFill>
                <a:latin typeface="Arial"/>
                <a:ea typeface="华文新魏"/>
              </a:rPr>
              <a:t>～</a:t>
            </a:r>
            <a:r>
              <a:rPr b="0" i="1" lang="zh-CN" sz="3200" spc="-1" strike="noStrike">
                <a:solidFill>
                  <a:srgbClr val="000000"/>
                </a:solidFill>
                <a:latin typeface="Arial"/>
                <a:ea typeface="华文新魏"/>
              </a:rPr>
              <a:t>N</a:t>
            </a:r>
            <a:r>
              <a:rPr b="0" lang="zh-CN" sz="3200" spc="-1" strike="noStrike">
                <a:solidFill>
                  <a:srgbClr val="000000"/>
                </a:solidFill>
                <a:latin typeface="Arial"/>
                <a:ea typeface="华文新魏"/>
              </a:rPr>
              <a:t> (0</a:t>
            </a:r>
            <a:r>
              <a:rPr b="0" lang="zh-CN" sz="3200" spc="-1" strike="noStrike">
                <a:solidFill>
                  <a:srgbClr val="000000"/>
                </a:solidFill>
                <a:latin typeface="Arial"/>
                <a:ea typeface="华文新魏"/>
              </a:rPr>
              <a:t>，</a:t>
            </a:r>
            <a:r>
              <a:rPr b="0" lang="zh-CN" sz="3200" spc="-1" strike="noStrike">
                <a:solidFill>
                  <a:srgbClr val="000000"/>
                </a:solidFill>
                <a:latin typeface="Arial"/>
                <a:ea typeface="华文新魏"/>
              </a:rPr>
              <a:t>1</a:t>
            </a:r>
            <a:r>
              <a:rPr b="0" i="1" lang="zh-CN" sz="3200" spc="-1" strike="noStrike">
                <a:solidFill>
                  <a:srgbClr val="000000"/>
                </a:solidFill>
                <a:latin typeface="Arial"/>
                <a:ea typeface="华文新魏"/>
              </a:rPr>
              <a:t> </a:t>
            </a:r>
            <a:r>
              <a:rPr b="0" lang="zh-CN" sz="3200" spc="-1" strike="noStrike">
                <a:solidFill>
                  <a:srgbClr val="000000"/>
                </a:solidFill>
                <a:latin typeface="Arial"/>
                <a:ea typeface="华文新魏"/>
              </a:rPr>
              <a:t>)</a:t>
            </a:r>
            <a:endParaRPr b="0" lang="en-US" sz="3200" spc="-1" strike="noStrike">
              <a:solidFill>
                <a:srgbClr val="000000"/>
              </a:solidFill>
              <a:latin typeface="Arial"/>
            </a:endParaRPr>
          </a:p>
        </p:txBody>
      </p:sp>
      <p:pic>
        <p:nvPicPr>
          <p:cNvPr id="217" name="" descr=""/>
          <p:cNvPicPr/>
          <p:nvPr/>
        </p:nvPicPr>
        <p:blipFill>
          <a:blip r:embed="rId1"/>
          <a:stretch/>
        </p:blipFill>
        <p:spPr>
          <a:xfrm>
            <a:off x="7093080" y="4869000"/>
            <a:ext cx="1850760" cy="176184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275" dur="500"/>
                                        <p:tgtEl>
                                          <p:spTgt spid="211">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280" dur="500"/>
                                        <p:tgtEl>
                                          <p:spTgt spid="211">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3"/>
                                        </p:tgtEl>
                                        <p:attrNameLst>
                                          <p:attrName>style.visibility</p:attrName>
                                        </p:attrNameLst>
                                      </p:cBhvr>
                                      <p:to>
                                        <p:strVal val="visible"/>
                                      </p:to>
                                    </p:set>
                                    <p:animEffect filter="blinds(horizontal)" transition="in">
                                      <p:cBhvr additive="repl">
                                        <p:cTn id="285" dur="500"/>
                                        <p:tgtEl>
                                          <p:spTgt spid="21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gtEl>
                                        <p:attrNameLst>
                                          <p:attrName>style.visibility</p:attrName>
                                        </p:attrNameLst>
                                      </p:cBhvr>
                                      <p:to>
                                        <p:strVal val="visible"/>
                                      </p:to>
                                    </p:set>
                                    <p:animEffect filter="blinds(horizontal)" transition="in">
                                      <p:cBhvr additive="repl">
                                        <p:cTn id="290" dur="500"/>
                                        <p:tgtEl>
                                          <p:spTgt spid="21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2"/>
                                        </p:tgtEl>
                                        <p:attrNameLst>
                                          <p:attrName>style.visibility</p:attrName>
                                        </p:attrNameLst>
                                      </p:cBhvr>
                                      <p:to>
                                        <p:strVal val="visible"/>
                                      </p:to>
                                    </p:set>
                                    <p:animEffect filter="blinds(horizontal)" transition="in">
                                      <p:cBhvr additive="repl">
                                        <p:cTn id="295" dur="500"/>
                                        <p:tgtEl>
                                          <p:spTgt spid="21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6"/>
                                        </p:tgtEl>
                                        <p:attrNameLst>
                                          <p:attrName>style.visibility</p:attrName>
                                        </p:attrNameLst>
                                      </p:cBhvr>
                                      <p:to>
                                        <p:strVal val="visible"/>
                                      </p:to>
                                    </p:set>
                                    <p:animEffect filter="blinds(horizontal)"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7:50:45Z</dcterms:created>
  <dc:creator>Pang ShouYan</dc:creator>
  <dc:description/>
  <dc:language>en-US</dc:language>
  <cp:lastModifiedBy>Pang ShouYan</cp:lastModifiedBy>
  <dcterms:modified xsi:type="dcterms:W3CDTF">2014-07-25T02:29:02Z</dcterms:modified>
  <cp:revision>78</cp:revision>
  <dc:subject/>
  <dc:title>幻灯片 1</dc:title>
</cp:coreProperties>
</file>